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Ray%20Conniff%20-%20La%20Mer.wav" ContentType="audio/x-wav"/>
  <Override PartName="/ppt/media/image9.gif" ContentType="image/gif"/>
  <Override PartName="/ppt/media/image3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14A-3182-4AA2-9821-727A07B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610-DC6D-4738-B89B-1576B57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8BB-C1CC-449E-9A1F-C92E9C22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472-B580-411D-A533-C87E4EF9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157-BA89-48D3-8A27-1B48DB5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CB9-8C47-4DAF-ACD1-EA099146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4AC-F1C6-4ACA-A9C8-AE8FB06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8FC-D678-49C2-BB20-CC4DDB7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29E-F429-4E41-8DCE-4D413E4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FF6-E653-42A9-A91B-ED7B5E5C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115-AF6A-495B-8946-2FA5C86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173-33B1-4351-B9D3-5BB3356D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C01-70B3-484F-827A-969CDCCE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audio" Target="../media/Ray%20Conniff%20-%20La%20Mer.wav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3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9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9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1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6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image" Target="../media/image7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620640"/>
            <a:ext cx="6842160" cy="50403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1904760" cy="287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185904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185904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s Bailes d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000160" y="3386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91280" y="22161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71640" y="5589720"/>
            <a:ext cx="1214640" cy="1079280"/>
          </a:xfrm>
          <a:prstGeom prst="parallelogram">
            <a:avLst>
              <a:gd name="adj" fmla="val 281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92000" y="5589720"/>
            <a:ext cx="1152360" cy="1079280"/>
          </a:xfrm>
          <a:prstGeom prst="parallelogram">
            <a:avLst>
              <a:gd name="adj" fmla="val 266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/>
          </p:cNvPr>
          <p:cNvSpPr/>
          <p:nvPr/>
        </p:nvSpPr>
        <p:spPr>
          <a:xfrm>
            <a:off x="6804000" y="5084640"/>
            <a:ext cx="793800" cy="397080"/>
          </a:xfrm>
          <a:custGeom>
            <a:avLst/>
            <a:gdLst>
              <a:gd name="textAreaLeft" fmla="*/ 25560 w 793800"/>
              <a:gd name="textAreaRight" fmla="*/ 768240 w 79380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41761" y="1400"/>
                </a:lnTo>
                <a:lnTo>
                  <a:pt x="1400" y="1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41761" y="20200"/>
                </a:lnTo>
                <a:lnTo>
                  <a:pt x="41761" y="1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1" y="20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1" h="21600">
                <a:moveTo>
                  <a:pt x="14574" y="8406"/>
                </a:moveTo>
                <a:lnTo>
                  <a:pt x="19004" y="8406"/>
                </a:lnTo>
                <a:lnTo>
                  <a:pt x="23426" y="3794"/>
                </a:lnTo>
                <a:lnTo>
                  <a:pt x="23426" y="17806"/>
                </a:lnTo>
                <a:lnTo>
                  <a:pt x="19004" y="13194"/>
                </a:lnTo>
                <a:lnTo>
                  <a:pt x="14574" y="13194"/>
                </a:lnTo>
                <a:close/>
              </a:path>
              <a:path fill="darken" w="43161" h="21600">
                <a:moveTo>
                  <a:pt x="25079" y="10800"/>
                </a:moveTo>
                <a:lnTo>
                  <a:pt x="28587" y="10800"/>
                </a:lnTo>
              </a:path>
              <a:path fill="darken" w="43161" h="21600">
                <a:moveTo>
                  <a:pt x="25079" y="8406"/>
                </a:moveTo>
                <a:lnTo>
                  <a:pt x="28587" y="5639"/>
                </a:lnTo>
              </a:path>
              <a:path fill="darken" w="43161" h="21600">
                <a:moveTo>
                  <a:pt x="25079" y="13194"/>
                </a:moveTo>
                <a:lnTo>
                  <a:pt x="28587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153360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1558800" cy="237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160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156360" y="2852640"/>
            <a:ext cx="1531800" cy="2376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987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7672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5"/>
          </p:cNvPr>
          <p:cNvSpPr/>
          <p:nvPr/>
        </p:nvSpPr>
        <p:spPr>
          <a:xfrm>
            <a:off x="7524720" y="5445000"/>
            <a:ext cx="754200" cy="433440"/>
          </a:xfrm>
          <a:custGeom>
            <a:avLst/>
            <a:gdLst>
              <a:gd name="textAreaLeft" fmla="*/ 28080 w 754200"/>
              <a:gd name="textAreaRight" fmla="*/ 726120 w 754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7571" h="21600">
                <a:moveTo>
                  <a:pt x="0" y="0"/>
                </a:moveTo>
                <a:lnTo>
                  <a:pt x="37571" y="0"/>
                </a:lnTo>
                <a:lnTo>
                  <a:pt x="37571" y="21600"/>
                </a:lnTo>
                <a:lnTo>
                  <a:pt x="0" y="21600"/>
                </a:lnTo>
                <a:close/>
              </a:path>
              <a:path fill="lightenLess" w="37571" h="21600">
                <a:moveTo>
                  <a:pt x="0" y="0"/>
                </a:moveTo>
                <a:lnTo>
                  <a:pt x="37571" y="0"/>
                </a:lnTo>
                <a:lnTo>
                  <a:pt x="36171" y="1400"/>
                </a:lnTo>
                <a:lnTo>
                  <a:pt x="1400" y="1400"/>
                </a:lnTo>
                <a:close/>
              </a:path>
              <a:path fill="darken" w="37571" h="21600">
                <a:moveTo>
                  <a:pt x="37571" y="0"/>
                </a:moveTo>
                <a:lnTo>
                  <a:pt x="37571" y="21600"/>
                </a:lnTo>
                <a:lnTo>
                  <a:pt x="36171" y="20200"/>
                </a:lnTo>
                <a:lnTo>
                  <a:pt x="36171" y="1400"/>
                </a:lnTo>
                <a:close/>
              </a:path>
              <a:path fill="darkenLess" w="37571" h="21600">
                <a:moveTo>
                  <a:pt x="37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71" y="20200"/>
                </a:lnTo>
                <a:close/>
              </a:path>
              <a:path fill="lighten" w="37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71" h="21600">
                <a:moveTo>
                  <a:pt x="11779" y="8406"/>
                </a:moveTo>
                <a:lnTo>
                  <a:pt x="16209" y="8406"/>
                </a:lnTo>
                <a:lnTo>
                  <a:pt x="20631" y="3794"/>
                </a:lnTo>
                <a:lnTo>
                  <a:pt x="20631" y="17806"/>
                </a:lnTo>
                <a:lnTo>
                  <a:pt x="16209" y="13194"/>
                </a:lnTo>
                <a:lnTo>
                  <a:pt x="11779" y="13194"/>
                </a:lnTo>
                <a:close/>
              </a:path>
              <a:path fill="darken" w="37571" h="21600">
                <a:moveTo>
                  <a:pt x="22285" y="10800"/>
                </a:moveTo>
                <a:lnTo>
                  <a:pt x="25792" y="10800"/>
                </a:lnTo>
              </a:path>
              <a:path fill="darken" w="37571" h="21600">
                <a:moveTo>
                  <a:pt x="22285" y="8406"/>
                </a:moveTo>
                <a:lnTo>
                  <a:pt x="25792" y="5639"/>
                </a:lnTo>
              </a:path>
              <a:path fill="darken" w="37571" h="21600">
                <a:moveTo>
                  <a:pt x="22285" y="13194"/>
                </a:moveTo>
                <a:lnTo>
                  <a:pt x="25792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755640" y="189000"/>
            <a:ext cx="717480" cy="107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717480" cy="107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m todas as adversidades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m as lágrimas derramada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inda assim, a alegria de viver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é o maior presente embrulhado 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m papéis de brilhos de moment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172280" y="1557360"/>
            <a:ext cx="197172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0" y="1773360"/>
            <a:ext cx="19717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87280" y="333360"/>
            <a:ext cx="6697800" cy="554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1255680" cy="194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13000" y="3213000"/>
            <a:ext cx="1346400" cy="194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08640" y="3213000"/>
            <a:ext cx="131580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805360" y="3213000"/>
            <a:ext cx="1324080" cy="19447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5"/>
          </p:cNvPr>
          <p:cNvSpPr/>
          <p:nvPr/>
        </p:nvSpPr>
        <p:spPr>
          <a:xfrm>
            <a:off x="6948360" y="5300640"/>
            <a:ext cx="825480" cy="504720"/>
          </a:xfrm>
          <a:custGeom>
            <a:avLst/>
            <a:gdLst>
              <a:gd name="textAreaLeft" fmla="*/ 32400 w 825480"/>
              <a:gd name="textAreaRight" fmla="*/ 793080 w 825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5317" h="21600">
                <a:moveTo>
                  <a:pt x="0" y="0"/>
                </a:moveTo>
                <a:lnTo>
                  <a:pt x="35317" y="0"/>
                </a:lnTo>
                <a:lnTo>
                  <a:pt x="35317" y="21600"/>
                </a:lnTo>
                <a:lnTo>
                  <a:pt x="0" y="21600"/>
                </a:lnTo>
                <a:close/>
              </a:path>
              <a:path fill="lightenLess" w="35317" h="21600">
                <a:moveTo>
                  <a:pt x="0" y="0"/>
                </a:moveTo>
                <a:lnTo>
                  <a:pt x="35317" y="0"/>
                </a:lnTo>
                <a:lnTo>
                  <a:pt x="33917" y="1400"/>
                </a:lnTo>
                <a:lnTo>
                  <a:pt x="1400" y="1400"/>
                </a:lnTo>
                <a:close/>
              </a:path>
              <a:path fill="darken" w="35317" h="21600">
                <a:moveTo>
                  <a:pt x="35317" y="0"/>
                </a:moveTo>
                <a:lnTo>
                  <a:pt x="35317" y="21600"/>
                </a:lnTo>
                <a:lnTo>
                  <a:pt x="33917" y="20200"/>
                </a:lnTo>
                <a:lnTo>
                  <a:pt x="33917" y="1400"/>
                </a:lnTo>
                <a:close/>
              </a:path>
              <a:path fill="darkenLess" w="35317" h="21600">
                <a:moveTo>
                  <a:pt x="35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17" y="20200"/>
                </a:lnTo>
                <a:close/>
              </a:path>
              <a:path fill="lighten" w="35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17" h="21600">
                <a:moveTo>
                  <a:pt x="10652" y="8406"/>
                </a:moveTo>
                <a:lnTo>
                  <a:pt x="15082" y="8406"/>
                </a:lnTo>
                <a:lnTo>
                  <a:pt x="19504" y="3794"/>
                </a:lnTo>
                <a:lnTo>
                  <a:pt x="19504" y="17806"/>
                </a:lnTo>
                <a:lnTo>
                  <a:pt x="15082" y="13194"/>
                </a:lnTo>
                <a:lnTo>
                  <a:pt x="10652" y="13194"/>
                </a:lnTo>
                <a:close/>
              </a:path>
              <a:path fill="darken" w="35317" h="21600">
                <a:moveTo>
                  <a:pt x="21158" y="10800"/>
                </a:moveTo>
                <a:lnTo>
                  <a:pt x="24665" y="10800"/>
                </a:lnTo>
              </a:path>
              <a:path fill="darken" w="35317" h="21600">
                <a:moveTo>
                  <a:pt x="21158" y="8406"/>
                </a:moveTo>
                <a:lnTo>
                  <a:pt x="24665" y="5639"/>
                </a:lnTo>
              </a:path>
              <a:path fill="darken" w="35317" h="21600">
                <a:moveTo>
                  <a:pt x="21158" y="13194"/>
                </a:moveTo>
                <a:lnTo>
                  <a:pt x="24665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4140360" y="5300640"/>
            <a:ext cx="1212840" cy="466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916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492360" y="5273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5219640" y="573408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08720" y="5300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Relembrar é viver um pouco ma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Viva a sua vida pois ela é curta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Valorize e ame a você mesmo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ois ninguém mais que você, te conhece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E não se esqueça..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Ninguém lembrará o que fez de bem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Mas, ... Todos lembrarão dos seus err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908000" cy="321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7236000" y="0"/>
            <a:ext cx="190800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33336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07672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1533600" cy="2376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1558800" cy="2376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1606680" cy="2376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156360" y="2852640"/>
            <a:ext cx="1531800" cy="2376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547640" y="907920"/>
            <a:ext cx="61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AR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>
            <a:hlinkClick r:id="rId5"/>
          </p:cNvPr>
          <p:cNvSpPr/>
          <p:nvPr/>
        </p:nvSpPr>
        <p:spPr>
          <a:xfrm>
            <a:off x="6948360" y="5300640"/>
            <a:ext cx="825480" cy="504720"/>
          </a:xfrm>
          <a:custGeom>
            <a:avLst/>
            <a:gdLst>
              <a:gd name="textAreaLeft" fmla="*/ 32400 w 825480"/>
              <a:gd name="textAreaRight" fmla="*/ 793080 w 825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5317" h="21600">
                <a:moveTo>
                  <a:pt x="0" y="0"/>
                </a:moveTo>
                <a:lnTo>
                  <a:pt x="35317" y="0"/>
                </a:lnTo>
                <a:lnTo>
                  <a:pt x="35317" y="21600"/>
                </a:lnTo>
                <a:lnTo>
                  <a:pt x="0" y="21600"/>
                </a:lnTo>
                <a:close/>
              </a:path>
              <a:path fill="lightenLess" w="35317" h="21600">
                <a:moveTo>
                  <a:pt x="0" y="0"/>
                </a:moveTo>
                <a:lnTo>
                  <a:pt x="35317" y="0"/>
                </a:lnTo>
                <a:lnTo>
                  <a:pt x="33917" y="1400"/>
                </a:lnTo>
                <a:lnTo>
                  <a:pt x="1400" y="1400"/>
                </a:lnTo>
                <a:close/>
              </a:path>
              <a:path fill="darken" w="35317" h="21600">
                <a:moveTo>
                  <a:pt x="35317" y="0"/>
                </a:moveTo>
                <a:lnTo>
                  <a:pt x="35317" y="21600"/>
                </a:lnTo>
                <a:lnTo>
                  <a:pt x="33917" y="20200"/>
                </a:lnTo>
                <a:lnTo>
                  <a:pt x="33917" y="1400"/>
                </a:lnTo>
                <a:close/>
              </a:path>
              <a:path fill="darkenLess" w="35317" h="21600">
                <a:moveTo>
                  <a:pt x="35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17" y="20200"/>
                </a:lnTo>
                <a:close/>
              </a:path>
              <a:path fill="lighten" w="35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17" h="21600">
                <a:moveTo>
                  <a:pt x="10652" y="8406"/>
                </a:moveTo>
                <a:lnTo>
                  <a:pt x="15082" y="8406"/>
                </a:lnTo>
                <a:lnTo>
                  <a:pt x="19504" y="3794"/>
                </a:lnTo>
                <a:lnTo>
                  <a:pt x="19504" y="17806"/>
                </a:lnTo>
                <a:lnTo>
                  <a:pt x="15082" y="13194"/>
                </a:lnTo>
                <a:lnTo>
                  <a:pt x="10652" y="13194"/>
                </a:lnTo>
                <a:close/>
              </a:path>
              <a:path fill="darken" w="35317" h="21600">
                <a:moveTo>
                  <a:pt x="21158" y="10800"/>
                </a:moveTo>
                <a:lnTo>
                  <a:pt x="24665" y="10800"/>
                </a:lnTo>
              </a:path>
              <a:path fill="darken" w="35317" h="21600">
                <a:moveTo>
                  <a:pt x="21158" y="8406"/>
                </a:moveTo>
                <a:lnTo>
                  <a:pt x="24665" y="5639"/>
                </a:lnTo>
              </a:path>
              <a:path fill="darken" w="35317" h="21600">
                <a:moveTo>
                  <a:pt x="21158" y="13194"/>
                </a:moveTo>
                <a:lnTo>
                  <a:pt x="24665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41497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kaiamandala07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3716280"/>
            <a:ext cx="71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TENHA UM BOM 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549360"/>
            <a:ext cx="7272360" cy="5472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143964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146376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1509840" cy="2232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980640"/>
            <a:ext cx="6697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anos passam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s lembranças são eterna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 saudade permanent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 nossos olhos em busca d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enas de tempos viv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881360" y="1600200"/>
            <a:ext cx="119052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77760" cy="162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56000" y="580536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434920" y="5805360"/>
            <a:ext cx="1152360" cy="914400"/>
          </a:xfrm>
          <a:prstGeom prst="parallelogram">
            <a:avLst>
              <a:gd name="adj" fmla="val 315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/>
          </p:cNvPr>
          <p:cNvSpPr/>
          <p:nvPr/>
        </p:nvSpPr>
        <p:spPr>
          <a:xfrm>
            <a:off x="7236000" y="5229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8406"/>
                </a:moveTo>
                <a:lnTo>
                  <a:pt x="15451" y="8406"/>
                </a:lnTo>
                <a:lnTo>
                  <a:pt x="19872" y="3794"/>
                </a:lnTo>
                <a:lnTo>
                  <a:pt x="19872" y="17806"/>
                </a:lnTo>
                <a:lnTo>
                  <a:pt x="15451" y="13194"/>
                </a:lnTo>
                <a:lnTo>
                  <a:pt x="11021" y="13194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25033" y="10800"/>
                </a:lnTo>
              </a:path>
              <a:path fill="darken" w="36054" h="21600">
                <a:moveTo>
                  <a:pt x="21526" y="8406"/>
                </a:moveTo>
                <a:lnTo>
                  <a:pt x="25033" y="5639"/>
                </a:lnTo>
              </a:path>
              <a:path fill="darken" w="36054" h="21600">
                <a:moveTo>
                  <a:pt x="21526" y="13194"/>
                </a:moveTo>
                <a:lnTo>
                  <a:pt x="25033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524720" y="3645000"/>
            <a:ext cx="71604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971640" y="3716280"/>
            <a:ext cx="66996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8166240" y="0"/>
            <a:ext cx="977760" cy="162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10800000">
            <a:off x="7124760" y="7173360"/>
            <a:ext cx="4038480" cy="1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5157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AILES D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AY CONN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57200" y="6126120"/>
            <a:ext cx="4038480" cy="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89000"/>
            <a:ext cx="8351640" cy="568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1671840" cy="25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180036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372360" y="2565360"/>
            <a:ext cx="174312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84360" y="580536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24360" y="573408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5"/>
          </p:cNvPr>
          <p:cNvSpPr/>
          <p:nvPr/>
        </p:nvSpPr>
        <p:spPr>
          <a:xfrm>
            <a:off x="7812000" y="5300640"/>
            <a:ext cx="898560" cy="504720"/>
          </a:xfrm>
          <a:custGeom>
            <a:avLst/>
            <a:gdLst>
              <a:gd name="textAreaLeft" fmla="*/ 32400 w 898560"/>
              <a:gd name="textAreaRight" fmla="*/ 866160 w 898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8443" h="21600">
                <a:moveTo>
                  <a:pt x="0" y="0"/>
                </a:moveTo>
                <a:lnTo>
                  <a:pt x="38443" y="0"/>
                </a:lnTo>
                <a:lnTo>
                  <a:pt x="38443" y="21600"/>
                </a:lnTo>
                <a:lnTo>
                  <a:pt x="0" y="21600"/>
                </a:lnTo>
                <a:close/>
              </a:path>
              <a:path fill="lightenLess" w="38443" h="21600">
                <a:moveTo>
                  <a:pt x="0" y="0"/>
                </a:moveTo>
                <a:lnTo>
                  <a:pt x="38443" y="0"/>
                </a:lnTo>
                <a:lnTo>
                  <a:pt x="37043" y="1400"/>
                </a:lnTo>
                <a:lnTo>
                  <a:pt x="1400" y="1400"/>
                </a:lnTo>
                <a:close/>
              </a:path>
              <a:path fill="darken" w="38443" h="21600">
                <a:moveTo>
                  <a:pt x="38443" y="0"/>
                </a:moveTo>
                <a:lnTo>
                  <a:pt x="38443" y="21600"/>
                </a:lnTo>
                <a:lnTo>
                  <a:pt x="37043" y="20200"/>
                </a:lnTo>
                <a:lnTo>
                  <a:pt x="37043" y="1400"/>
                </a:lnTo>
                <a:close/>
              </a:path>
              <a:path fill="darkenLess" w="38443" h="21600">
                <a:moveTo>
                  <a:pt x="38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43" y="20200"/>
                </a:lnTo>
                <a:close/>
              </a:path>
              <a:path fill="lighten" w="38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43" h="21600">
                <a:moveTo>
                  <a:pt x="12215" y="8406"/>
                </a:moveTo>
                <a:lnTo>
                  <a:pt x="16645" y="8406"/>
                </a:lnTo>
                <a:lnTo>
                  <a:pt x="21067" y="3794"/>
                </a:lnTo>
                <a:lnTo>
                  <a:pt x="21067" y="17806"/>
                </a:lnTo>
                <a:lnTo>
                  <a:pt x="16645" y="13194"/>
                </a:lnTo>
                <a:lnTo>
                  <a:pt x="12215" y="13194"/>
                </a:lnTo>
                <a:close/>
              </a:path>
              <a:path fill="darken" w="38443" h="21600">
                <a:moveTo>
                  <a:pt x="22720" y="10800"/>
                </a:moveTo>
                <a:lnTo>
                  <a:pt x="26228" y="10800"/>
                </a:lnTo>
              </a:path>
              <a:path fill="darken" w="38443" h="21600">
                <a:moveTo>
                  <a:pt x="22720" y="8406"/>
                </a:moveTo>
                <a:lnTo>
                  <a:pt x="26228" y="5639"/>
                </a:lnTo>
              </a:path>
              <a:path fill="darken" w="38443" h="21600">
                <a:moveTo>
                  <a:pt x="22720" y="13194"/>
                </a:moveTo>
                <a:lnTo>
                  <a:pt x="26228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anos passam... Vivemos lições de vida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prendemos a vasculhar nas nossa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recordações do coração e a acariciar lindo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omentos que se foram para não mais voltar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581360"/>
            <a:ext cx="2484360" cy="227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20600" cy="17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276720" y="522936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5580000" y="522936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8080200" y="0"/>
            <a:ext cx="106380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333360"/>
            <a:ext cx="7561440" cy="5977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195264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198288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508720" y="2565360"/>
            <a:ext cx="2044440" cy="302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anos passam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escemos na alma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as sempre seremo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rágeis no amor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81160" y="3267000"/>
            <a:ext cx="790560" cy="119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272280" y="2097000"/>
            <a:ext cx="790560" cy="11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71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364000" y="5943600"/>
            <a:ext cx="1151280" cy="914400"/>
          </a:xfrm>
          <a:prstGeom prst="parallelogram">
            <a:avLst>
              <a:gd name="adj" fmla="val 314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6"/>
          </p:cNvPr>
          <p:cNvSpPr/>
          <p:nvPr/>
        </p:nvSpPr>
        <p:spPr>
          <a:xfrm>
            <a:off x="7308720" y="5589720"/>
            <a:ext cx="970200" cy="503280"/>
          </a:xfrm>
          <a:custGeom>
            <a:avLst/>
            <a:gdLst>
              <a:gd name="textAreaLeft" fmla="*/ 32400 w 970200"/>
              <a:gd name="textAreaRight" fmla="*/ 937800 w 9702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25" h="21600">
                <a:moveTo>
                  <a:pt x="0" y="0"/>
                </a:moveTo>
                <a:lnTo>
                  <a:pt x="41625" y="0"/>
                </a:lnTo>
                <a:lnTo>
                  <a:pt x="41625" y="21600"/>
                </a:lnTo>
                <a:lnTo>
                  <a:pt x="0" y="21600"/>
                </a:lnTo>
                <a:close/>
              </a:path>
              <a:path fill="lightenLess" w="41625" h="21600">
                <a:moveTo>
                  <a:pt x="0" y="0"/>
                </a:moveTo>
                <a:lnTo>
                  <a:pt x="41625" y="0"/>
                </a:lnTo>
                <a:lnTo>
                  <a:pt x="40225" y="1400"/>
                </a:lnTo>
                <a:lnTo>
                  <a:pt x="1400" y="1400"/>
                </a:lnTo>
                <a:close/>
              </a:path>
              <a:path fill="darken" w="41625" h="21600">
                <a:moveTo>
                  <a:pt x="41625" y="0"/>
                </a:moveTo>
                <a:lnTo>
                  <a:pt x="41625" y="21600"/>
                </a:lnTo>
                <a:lnTo>
                  <a:pt x="40225" y="20200"/>
                </a:lnTo>
                <a:lnTo>
                  <a:pt x="40225" y="1400"/>
                </a:lnTo>
                <a:close/>
              </a:path>
              <a:path fill="darkenLess" w="41625" h="21600">
                <a:moveTo>
                  <a:pt x="4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25" y="20200"/>
                </a:lnTo>
                <a:close/>
              </a:path>
              <a:path fill="lighten" w="4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25" h="21600">
                <a:moveTo>
                  <a:pt x="13806" y="8406"/>
                </a:moveTo>
                <a:lnTo>
                  <a:pt x="18236" y="8406"/>
                </a:lnTo>
                <a:lnTo>
                  <a:pt x="22658" y="3794"/>
                </a:lnTo>
                <a:lnTo>
                  <a:pt x="22658" y="17806"/>
                </a:lnTo>
                <a:lnTo>
                  <a:pt x="18236" y="13194"/>
                </a:lnTo>
                <a:lnTo>
                  <a:pt x="13806" y="13194"/>
                </a:lnTo>
                <a:close/>
              </a:path>
              <a:path fill="darken" w="41625" h="21600">
                <a:moveTo>
                  <a:pt x="24311" y="10800"/>
                </a:moveTo>
                <a:lnTo>
                  <a:pt x="27819" y="10800"/>
                </a:lnTo>
              </a:path>
              <a:path fill="darken" w="41625" h="21600">
                <a:moveTo>
                  <a:pt x="24311" y="8406"/>
                </a:moveTo>
                <a:lnTo>
                  <a:pt x="27819" y="5639"/>
                </a:lnTo>
              </a:path>
              <a:path fill="darken" w="41625" h="21600">
                <a:moveTo>
                  <a:pt x="24311" y="13194"/>
                </a:moveTo>
                <a:lnTo>
                  <a:pt x="27819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0" y="1916280"/>
            <a:ext cx="2000160" cy="26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333360"/>
            <a:ext cx="8064720" cy="58323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1627200" cy="252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1654200" cy="25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1704960" cy="252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227640" y="2924280"/>
            <a:ext cx="1625760" cy="252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71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1964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"/>
          </p:cNvPr>
          <p:cNvSpPr/>
          <p:nvPr/>
        </p:nvSpPr>
        <p:spPr>
          <a:xfrm>
            <a:off x="7380360" y="544500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8406"/>
                </a:moveTo>
                <a:lnTo>
                  <a:pt x="15626" y="8406"/>
                </a:lnTo>
                <a:lnTo>
                  <a:pt x="20047" y="3794"/>
                </a:lnTo>
                <a:lnTo>
                  <a:pt x="20047" y="17806"/>
                </a:lnTo>
                <a:lnTo>
                  <a:pt x="15626" y="13194"/>
                </a:lnTo>
                <a:lnTo>
                  <a:pt x="11196" y="13194"/>
                </a:lnTo>
                <a:close/>
              </a:path>
              <a:path fill="darken" w="36404" h="21600">
                <a:moveTo>
                  <a:pt x="21701" y="10800"/>
                </a:moveTo>
                <a:lnTo>
                  <a:pt x="25209" y="10800"/>
                </a:lnTo>
              </a:path>
              <a:path fill="darken" w="36404" h="21600">
                <a:moveTo>
                  <a:pt x="21701" y="8406"/>
                </a:moveTo>
                <a:lnTo>
                  <a:pt x="25209" y="5639"/>
                </a:lnTo>
              </a:path>
              <a:path fill="darken" w="36404" h="21600">
                <a:moveTo>
                  <a:pt x="21701" y="13194"/>
                </a:moveTo>
                <a:lnTo>
                  <a:pt x="25209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anos passam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uitos virão ou quem sabe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ossa estada nesta vida seja curta 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ada sabemos do amanhã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em quando vamo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4581360"/>
            <a:ext cx="270036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00320" cy="299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292720" y="55166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276720" y="55166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842240" y="0"/>
            <a:ext cx="1301760" cy="299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4648320" y="6597360"/>
            <a:ext cx="4038480" cy="2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33360"/>
            <a:ext cx="7848360" cy="58323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15336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59876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160488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56360" y="3068640"/>
            <a:ext cx="1573200" cy="237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47640" y="5943600"/>
            <a:ext cx="1152360" cy="914400"/>
          </a:xfrm>
          <a:prstGeom prst="parallelogram">
            <a:avLst>
              <a:gd name="adj" fmla="val 315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5"/>
          </p:cNvPr>
          <p:cNvSpPr/>
          <p:nvPr/>
        </p:nvSpPr>
        <p:spPr>
          <a:xfrm>
            <a:off x="7308720" y="5516640"/>
            <a:ext cx="970200" cy="539640"/>
          </a:xfrm>
          <a:custGeom>
            <a:avLst/>
            <a:gdLst>
              <a:gd name="textAreaLeft" fmla="*/ 34920 w 970200"/>
              <a:gd name="textAreaRight" fmla="*/ 935280 w 9702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8822" h="21600">
                <a:moveTo>
                  <a:pt x="0" y="0"/>
                </a:moveTo>
                <a:lnTo>
                  <a:pt x="38822" y="0"/>
                </a:lnTo>
                <a:lnTo>
                  <a:pt x="38822" y="21600"/>
                </a:lnTo>
                <a:lnTo>
                  <a:pt x="0" y="21600"/>
                </a:lnTo>
                <a:close/>
              </a:path>
              <a:path fill="lightenLess" w="38822" h="21600">
                <a:moveTo>
                  <a:pt x="0" y="0"/>
                </a:moveTo>
                <a:lnTo>
                  <a:pt x="38822" y="0"/>
                </a:lnTo>
                <a:lnTo>
                  <a:pt x="37422" y="1400"/>
                </a:lnTo>
                <a:lnTo>
                  <a:pt x="1400" y="1400"/>
                </a:lnTo>
                <a:close/>
              </a:path>
              <a:path fill="darken" w="38822" h="21600">
                <a:moveTo>
                  <a:pt x="38822" y="0"/>
                </a:moveTo>
                <a:lnTo>
                  <a:pt x="38822" y="21600"/>
                </a:lnTo>
                <a:lnTo>
                  <a:pt x="37422" y="20200"/>
                </a:lnTo>
                <a:lnTo>
                  <a:pt x="37422" y="1400"/>
                </a:lnTo>
                <a:close/>
              </a:path>
              <a:path fill="darkenLess" w="38822" h="21600">
                <a:moveTo>
                  <a:pt x="38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2" y="20200"/>
                </a:lnTo>
                <a:close/>
              </a:path>
              <a:path fill="lighten" w="38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2" h="21600">
                <a:moveTo>
                  <a:pt x="12405" y="8406"/>
                </a:moveTo>
                <a:lnTo>
                  <a:pt x="16835" y="8406"/>
                </a:lnTo>
                <a:lnTo>
                  <a:pt x="21256" y="3794"/>
                </a:lnTo>
                <a:lnTo>
                  <a:pt x="21256" y="17806"/>
                </a:lnTo>
                <a:lnTo>
                  <a:pt x="16835" y="13194"/>
                </a:lnTo>
                <a:lnTo>
                  <a:pt x="12405" y="13194"/>
                </a:lnTo>
                <a:close/>
              </a:path>
              <a:path fill="darken" w="38822" h="21600">
                <a:moveTo>
                  <a:pt x="22910" y="10800"/>
                </a:moveTo>
                <a:lnTo>
                  <a:pt x="26418" y="10800"/>
                </a:lnTo>
              </a:path>
              <a:path fill="darken" w="38822" h="21600">
                <a:moveTo>
                  <a:pt x="22910" y="8406"/>
                </a:moveTo>
                <a:lnTo>
                  <a:pt x="26418" y="5639"/>
                </a:lnTo>
              </a:path>
              <a:path fill="darken" w="38822" h="21600">
                <a:moveTo>
                  <a:pt x="22910" y="13194"/>
                </a:moveTo>
                <a:lnTo>
                  <a:pt x="26418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anos continuam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 desfilar na passarela do aprendizado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 nós protagonistas da vida, enfrentamo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s momentos que nos fazem infelize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 nos deliciamos com os feliz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0" y="4581360"/>
            <a:ext cx="2987640" cy="227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62280" cy="2852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5435640" y="548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3419640" y="55166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7215120" y="907920"/>
            <a:ext cx="1928880" cy="29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648320" y="6742080"/>
            <a:ext cx="4038480" cy="1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404640"/>
            <a:ext cx="7775280" cy="54007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158904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1614240" cy="246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1665000" cy="246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1579680" cy="244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00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64000" y="5734080"/>
            <a:ext cx="1224000" cy="914400"/>
          </a:xfrm>
          <a:prstGeom prst="parallelogram">
            <a:avLst>
              <a:gd name="adj" fmla="val 334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5"/>
          </p:cNvPr>
          <p:cNvSpPr/>
          <p:nvPr/>
        </p:nvSpPr>
        <p:spPr>
          <a:xfrm>
            <a:off x="7451640" y="5229360"/>
            <a:ext cx="898560" cy="504720"/>
          </a:xfrm>
          <a:custGeom>
            <a:avLst/>
            <a:gdLst>
              <a:gd name="textAreaLeft" fmla="*/ 32400 w 898560"/>
              <a:gd name="textAreaRight" fmla="*/ 866160 w 898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8443" h="21600">
                <a:moveTo>
                  <a:pt x="0" y="0"/>
                </a:moveTo>
                <a:lnTo>
                  <a:pt x="38443" y="0"/>
                </a:lnTo>
                <a:lnTo>
                  <a:pt x="38443" y="21600"/>
                </a:lnTo>
                <a:lnTo>
                  <a:pt x="0" y="21600"/>
                </a:lnTo>
                <a:close/>
              </a:path>
              <a:path fill="lightenLess" w="38443" h="21600">
                <a:moveTo>
                  <a:pt x="0" y="0"/>
                </a:moveTo>
                <a:lnTo>
                  <a:pt x="38443" y="0"/>
                </a:lnTo>
                <a:lnTo>
                  <a:pt x="37043" y="1400"/>
                </a:lnTo>
                <a:lnTo>
                  <a:pt x="1400" y="1400"/>
                </a:lnTo>
                <a:close/>
              </a:path>
              <a:path fill="darken" w="38443" h="21600">
                <a:moveTo>
                  <a:pt x="38443" y="0"/>
                </a:moveTo>
                <a:lnTo>
                  <a:pt x="38443" y="21600"/>
                </a:lnTo>
                <a:lnTo>
                  <a:pt x="37043" y="20200"/>
                </a:lnTo>
                <a:lnTo>
                  <a:pt x="37043" y="1400"/>
                </a:lnTo>
                <a:close/>
              </a:path>
              <a:path fill="darkenLess" w="38443" h="21600">
                <a:moveTo>
                  <a:pt x="38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43" y="20200"/>
                </a:lnTo>
                <a:close/>
              </a:path>
              <a:path fill="lighten" w="38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43" h="21600">
                <a:moveTo>
                  <a:pt x="12215" y="8406"/>
                </a:moveTo>
                <a:lnTo>
                  <a:pt x="16645" y="8406"/>
                </a:lnTo>
                <a:lnTo>
                  <a:pt x="21067" y="3794"/>
                </a:lnTo>
                <a:lnTo>
                  <a:pt x="21067" y="17806"/>
                </a:lnTo>
                <a:lnTo>
                  <a:pt x="16645" y="13194"/>
                </a:lnTo>
                <a:lnTo>
                  <a:pt x="12215" y="13194"/>
                </a:lnTo>
                <a:close/>
              </a:path>
              <a:path fill="darken" w="38443" h="21600">
                <a:moveTo>
                  <a:pt x="22720" y="10800"/>
                </a:moveTo>
                <a:lnTo>
                  <a:pt x="26228" y="10800"/>
                </a:lnTo>
              </a:path>
              <a:path fill="darken" w="38443" h="21600">
                <a:moveTo>
                  <a:pt x="22720" y="8406"/>
                </a:moveTo>
                <a:lnTo>
                  <a:pt x="26228" y="5639"/>
                </a:lnTo>
              </a:path>
              <a:path fill="darken" w="38443" h="21600">
                <a:moveTo>
                  <a:pt x="22720" y="13194"/>
                </a:moveTo>
                <a:lnTo>
                  <a:pt x="26228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Resumimos que a vida é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um grande baile em qu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lmas se encontram, se esbarram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e unem e se separa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84360" y="4581360"/>
            <a:ext cx="2087280" cy="227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7172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348000" y="515772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172280" y="0"/>
            <a:ext cx="1971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87280" y="404640"/>
            <a:ext cx="6697800" cy="50403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2205000"/>
            <a:ext cx="180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64000" y="2205000"/>
            <a:ext cx="1865520" cy="259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59280" y="544500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716360" y="54450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187280" y="404640"/>
            <a:ext cx="62244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61200" y="404640"/>
            <a:ext cx="622440" cy="93672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6"/>
          </p:cNvPr>
          <p:cNvSpPr/>
          <p:nvPr/>
        </p:nvSpPr>
        <p:spPr>
          <a:xfrm>
            <a:off x="6948360" y="4941720"/>
            <a:ext cx="827280" cy="432000"/>
          </a:xfrm>
          <a:custGeom>
            <a:avLst/>
            <a:gdLst>
              <a:gd name="textAreaLeft" fmla="*/ 27720 w 827280"/>
              <a:gd name="textAreaRight" fmla="*/ 799560 w 8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1348" h="21600">
                <a:moveTo>
                  <a:pt x="0" y="0"/>
                </a:moveTo>
                <a:lnTo>
                  <a:pt x="41348" y="0"/>
                </a:lnTo>
                <a:lnTo>
                  <a:pt x="41348" y="21600"/>
                </a:lnTo>
                <a:lnTo>
                  <a:pt x="0" y="21600"/>
                </a:lnTo>
                <a:close/>
              </a:path>
              <a:path fill="lightenLess" w="41348" h="21600">
                <a:moveTo>
                  <a:pt x="0" y="0"/>
                </a:moveTo>
                <a:lnTo>
                  <a:pt x="41348" y="0"/>
                </a:lnTo>
                <a:lnTo>
                  <a:pt x="39948" y="1400"/>
                </a:lnTo>
                <a:lnTo>
                  <a:pt x="1400" y="1400"/>
                </a:lnTo>
                <a:close/>
              </a:path>
              <a:path fill="darken" w="41348" h="21600">
                <a:moveTo>
                  <a:pt x="41348" y="0"/>
                </a:moveTo>
                <a:lnTo>
                  <a:pt x="41348" y="21600"/>
                </a:lnTo>
                <a:lnTo>
                  <a:pt x="39948" y="20200"/>
                </a:lnTo>
                <a:lnTo>
                  <a:pt x="39948" y="1400"/>
                </a:lnTo>
                <a:close/>
              </a:path>
              <a:path fill="darkenLess" w="41348" h="21600">
                <a:moveTo>
                  <a:pt x="41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48" y="20200"/>
                </a:lnTo>
                <a:close/>
              </a:path>
              <a:path fill="lighten" w="41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48" h="21600">
                <a:moveTo>
                  <a:pt x="13667" y="8406"/>
                </a:moveTo>
                <a:lnTo>
                  <a:pt x="18097" y="8406"/>
                </a:lnTo>
                <a:lnTo>
                  <a:pt x="22519" y="3794"/>
                </a:lnTo>
                <a:lnTo>
                  <a:pt x="22519" y="17806"/>
                </a:lnTo>
                <a:lnTo>
                  <a:pt x="18097" y="13194"/>
                </a:lnTo>
                <a:lnTo>
                  <a:pt x="13667" y="13194"/>
                </a:lnTo>
                <a:close/>
              </a:path>
              <a:path fill="darken" w="41348" h="21600">
                <a:moveTo>
                  <a:pt x="24173" y="10800"/>
                </a:moveTo>
                <a:lnTo>
                  <a:pt x="27680" y="10800"/>
                </a:lnTo>
              </a:path>
              <a:path fill="darken" w="41348" h="21600">
                <a:moveTo>
                  <a:pt x="24173" y="8406"/>
                </a:moveTo>
                <a:lnTo>
                  <a:pt x="27680" y="5639"/>
                </a:lnTo>
              </a:path>
              <a:path fill="darken" w="41348" h="21600">
                <a:moveTo>
                  <a:pt x="24173" y="13194"/>
                </a:moveTo>
                <a:lnTo>
                  <a:pt x="27680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ada qual bailando nos conflito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as esperanças e nas suavidade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 momentos de amor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4292640"/>
            <a:ext cx="2014560" cy="256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48320" y="6021000"/>
            <a:ext cx="4038480" cy="1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80360" cy="5329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1757520" cy="272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1784160" cy="2722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1841760" cy="2722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300720" y="2421000"/>
            <a:ext cx="1755720" cy="2722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87280" y="5734080"/>
            <a:ext cx="1152360" cy="914400"/>
          </a:xfrm>
          <a:prstGeom prst="parallelogram">
            <a:avLst>
              <a:gd name="adj" fmla="val 315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851280" y="5229360"/>
            <a:ext cx="1254240" cy="48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148360" y="515772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276720" y="5157720"/>
            <a:ext cx="547560" cy="5479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8"/>
          </p:cNvPr>
          <p:cNvSpPr/>
          <p:nvPr/>
        </p:nvSpPr>
        <p:spPr>
          <a:xfrm>
            <a:off x="7667640" y="5300640"/>
            <a:ext cx="825480" cy="432000"/>
          </a:xfrm>
          <a:custGeom>
            <a:avLst/>
            <a:gdLst>
              <a:gd name="textAreaLeft" fmla="*/ 27720 w 825480"/>
              <a:gd name="textAreaRight" fmla="*/ 797760 w 825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1258" h="21600">
                <a:moveTo>
                  <a:pt x="0" y="0"/>
                </a:moveTo>
                <a:lnTo>
                  <a:pt x="41258" y="0"/>
                </a:lnTo>
                <a:lnTo>
                  <a:pt x="41258" y="21600"/>
                </a:lnTo>
                <a:lnTo>
                  <a:pt x="0" y="21600"/>
                </a:lnTo>
                <a:close/>
              </a:path>
              <a:path fill="lightenLess" w="41258" h="21600">
                <a:moveTo>
                  <a:pt x="0" y="0"/>
                </a:moveTo>
                <a:lnTo>
                  <a:pt x="41258" y="0"/>
                </a:lnTo>
                <a:lnTo>
                  <a:pt x="39858" y="1400"/>
                </a:lnTo>
                <a:lnTo>
                  <a:pt x="1400" y="1400"/>
                </a:lnTo>
                <a:close/>
              </a:path>
              <a:path fill="darken" w="41258" h="21600">
                <a:moveTo>
                  <a:pt x="41258" y="0"/>
                </a:moveTo>
                <a:lnTo>
                  <a:pt x="41258" y="21600"/>
                </a:lnTo>
                <a:lnTo>
                  <a:pt x="39858" y="20200"/>
                </a:lnTo>
                <a:lnTo>
                  <a:pt x="39858" y="1400"/>
                </a:lnTo>
                <a:close/>
              </a:path>
              <a:path fill="darkenLess" w="41258" h="21600">
                <a:moveTo>
                  <a:pt x="412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58" y="20200"/>
                </a:lnTo>
                <a:close/>
              </a:path>
              <a:path fill="lighten" w="412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58" h="21600">
                <a:moveTo>
                  <a:pt x="13622" y="8406"/>
                </a:moveTo>
                <a:lnTo>
                  <a:pt x="18053" y="8406"/>
                </a:lnTo>
                <a:lnTo>
                  <a:pt x="22474" y="3794"/>
                </a:lnTo>
                <a:lnTo>
                  <a:pt x="22474" y="17806"/>
                </a:lnTo>
                <a:lnTo>
                  <a:pt x="18053" y="13194"/>
                </a:lnTo>
                <a:lnTo>
                  <a:pt x="13622" y="13194"/>
                </a:lnTo>
                <a:close/>
              </a:path>
              <a:path fill="darken" w="41258" h="21600">
                <a:moveTo>
                  <a:pt x="24128" y="10800"/>
                </a:moveTo>
                <a:lnTo>
                  <a:pt x="27635" y="10800"/>
                </a:lnTo>
              </a:path>
              <a:path fill="darken" w="41258" h="21600">
                <a:moveTo>
                  <a:pt x="24128" y="8406"/>
                </a:moveTo>
                <a:lnTo>
                  <a:pt x="27635" y="5639"/>
                </a:lnTo>
              </a:path>
              <a:path fill="darken" w="41258" h="21600">
                <a:moveTo>
                  <a:pt x="24128" y="13194"/>
                </a:moveTo>
                <a:lnTo>
                  <a:pt x="27635" y="159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Arial"/>
              </a:rPr>
              <a:t>ON /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 todos os anos que se foram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ncluo que viver..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É ser cada qual, em sua essência adqui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0" y="263700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5105520" y="6858000"/>
            <a:ext cx="4038480" cy="1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2:32:01Z</dcterms:created>
  <dc:creator>RodrigoRamos(RO)</dc:creator>
  <dc:description/>
  <dc:language>en-US</dc:language>
  <cp:lastModifiedBy>PAULO GOUVÊA</cp:lastModifiedBy>
  <dcterms:modified xsi:type="dcterms:W3CDTF">2010-10-20T18:00:42Z</dcterms:modified>
  <cp:revision>51</cp:revision>
  <dc:subject>mensagem com som</dc:subject>
  <dc:title>o baile da vida</dc:title>
</cp:coreProperties>
</file>