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YouNeededMe_AnneMurray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A39-9DF2-416F-B3C6-E23D946F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D1F-E98D-4351-A879-985F1C16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4CA-4195-4038-BC7F-804804F9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9C2-ADE5-4866-9DA0-ADEC42A2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F25-E69C-4BD4-9254-51058F03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E00-0EE2-48CD-A4C2-3C969015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7A9-A548-4654-9F55-7632E64D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002-E320-4F15-B70F-CB840901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F55-0518-454A-8456-6B608B03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00D8-42F5-4002-96D9-6A491689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CD1-6389-4C4A-B40A-EF645E2A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0AD-32B4-44A1-9BA8-3E6C8FC9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79A5-874E-47B1-B601-FAE971C8F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YouNeededMe_AnneMurra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105520"/>
            <a:ext cx="868680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1268280"/>
            <a:ext cx="581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Lucida Handwriting"/>
              </a:rPr>
              <a:t>De sempre o melhor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5120" y="4292640"/>
            <a:ext cx="35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Lucida Handwriting"/>
              </a:rPr>
              <a:t>E o melhor virá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306864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Lucida Handwriting"/>
              </a:rPr>
              <a:t>SÓ PRA VOCÊ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5950080"/>
            <a:ext cx="244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6093000"/>
            <a:ext cx="216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08720" y="637056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Ligue o s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zoom dir="out"/>
    <p:sndAc>
      <p:stSnd>
        <p:snd r:embed="rId2" name="YouNeededMe_AnneMurra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500"/>
                            </p:stCondLst>
                            <p:childTnLst>
                              <p:par>
                                <p:cTn id="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48600" y="1219320"/>
            <a:ext cx="721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Dê ao mundo o melhor de você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mas isso pode nunca ser 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bastant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7080" y="4495680"/>
            <a:ext cx="472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Dê o melhor de voc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assim mesm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64960" y="2276640"/>
            <a:ext cx="507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Lucida Handwriting"/>
              </a:rPr>
              <a:t>E veja você qu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Lucida Handwriting"/>
              </a:rPr>
              <a:t>no final das conta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Lucida Handwriting"/>
              </a:rPr>
              <a:t>é entre você 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5229360"/>
            <a:ext cx="73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Lucida Handwriting"/>
              </a:rPr>
              <a:t>Nunca foi entre você e ele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7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7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600"/>
                            </p:stCondLst>
                            <p:childTnLst>
                              <p:par>
                                <p:cTn id="15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019840" cy="6172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5508720" y="765000"/>
            <a:ext cx="36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Lucida Handwriting"/>
              </a:rPr>
              <a:t>Tenha uma boa Seman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4581360"/>
            <a:ext cx="295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Texto: Madre Teresa de Calcut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ontagem: IMG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7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35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105520"/>
            <a:ext cx="868680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1268280"/>
            <a:ext cx="581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Lucida Handwriting"/>
              </a:rPr>
              <a:t>Dê sempre o melhor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49840" y="3500280"/>
            <a:ext cx="35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Lucida Handwriting"/>
              </a:rPr>
              <a:t>E o melhor virá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2" presetSubtype="2">
                                  <p:stCondLst>
                                    <p:cond delay="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76360" y="404640"/>
            <a:ext cx="639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Às vezes as pessoas sã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egocêntricas, ilógicas 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insensat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2640" y="4800600"/>
            <a:ext cx="55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Perdoe-as assim mesm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1066680"/>
            <a:ext cx="706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Se você é gentil, as pesso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podem acusá-l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egoísta e interesseir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61200" y="4800600"/>
            <a:ext cx="56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Seja gentil assim mesm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1240" y="1295280"/>
            <a:ext cx="662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Se você é um vencedor, ter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alguns falsos amigos 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alguns inimigos verdadeiro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9080" y="4648320"/>
            <a:ext cx="46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Vença assim mesm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55320" y="1295280"/>
            <a:ext cx="679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Se você é honesto e franc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as pessoas podem enganá-l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4343400"/>
            <a:ext cx="57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Seja honesto e fr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assim mesm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7000" y="1066680"/>
            <a:ext cx="629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O que você levou anos pa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construir, alguém p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destruir de uma hor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para outr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26440" y="487836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Construa assim mesm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07000" y="1523880"/>
            <a:ext cx="724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Se você tem paz e é feliz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as pessoas podem sentir invej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28320" y="4365720"/>
            <a:ext cx="483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Tenha paz e seja feliz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assim mesm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" y="1371600"/>
            <a:ext cx="78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66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Lucida Handwriting"/>
              </a:rPr>
              <a:t>O bem que você faz hoj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Lucida Handwriting"/>
              </a:rPr>
              <a:t>pode ser esquecido amanhã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78400" y="4724280"/>
            <a:ext cx="58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Lucida Handwriting"/>
              </a:rPr>
              <a:t>Faça o bem assim mesm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2T03:01:33Z</dcterms:created>
  <dc:creator/>
  <dc:description/>
  <dc:language>en-US</dc:language>
  <cp:lastModifiedBy/>
  <dcterms:modified xsi:type="dcterms:W3CDTF">2007-04-08T18:06:05Z</dcterms:modified>
  <cp:revision>13</cp:revision>
  <dc:subject/>
  <dc:title>para você</dc:title>
</cp:coreProperties>
</file>