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ondon1.wav" ContentType="audio/x-wav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8EF-6923-4B37-A3D6-E314556D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E5B-5665-49EC-BD23-0692D5F7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566-B652-424C-A8F6-951FDCA6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54E-93F4-4740-BBC8-40875DED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EBC-FF12-45D4-853C-DB2695A6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E15-ED1D-45D6-B448-64F464B1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9A3-B218-4F17-B3CF-5A2D6C01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5E8-CE6C-4D20-8527-32283FC3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C95-DD6B-497D-9BB5-E39F247B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E4F-1F27-41C1-A547-18699C3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1ED-7CBA-4A26-99BC-F19A8368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4AD-99CA-4278-BC42-F4E29E8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Times New Roman"/>
              </a:rPr>
              <a:t>Ria Sl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DC24-F46F-452A-970E-5595942DA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ondon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hyperlink" Target="mailto:riaellw@globo.com" TargetMode="External"/><Relationship Id="rId3" Type="http://schemas.openxmlformats.org/officeDocument/2006/relationships/hyperlink" Target="http://flori_jane.sites.uol.com.br/index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914400"/>
            <a:ext cx="9144000" cy="9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8cc"/>
                </a:solidFill>
                <a:latin typeface="Times New Roman"/>
              </a:rPr>
              <a:t>Contam que, em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ma marcenaria, houve                       uma estranha assemblé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839080" cy="133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8cc"/>
                </a:solidFill>
                <a:latin typeface="Times New Roman"/>
              </a:rPr>
              <a:t>Foi uma reunião onde                                                    as ferramentas juntaram-se                              para acertar suas diferenç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/>
    <p:sndAc>
      <p:stSnd>
        <p:snd r:embed="rId2" name="london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cb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66670" b="-273"/>
          <a:stretch/>
        </p:blipFill>
        <p:spPr>
          <a:xfrm>
            <a:off x="228600" y="380880"/>
            <a:ext cx="2819520" cy="624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00400" y="838080"/>
            <a:ext cx="59436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Então a assembléia entendeu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628640"/>
            <a:ext cx="5943600" cy="9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o martelo era forte,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421000"/>
            <a:ext cx="5943600" cy="9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o parafuso unia e dava força,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3141720"/>
            <a:ext cx="5943600" cy="133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a lixa era especial para limpar e afinar asperezas,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4365720"/>
            <a:ext cx="59436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e o metro era preciso e ex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85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350"/>
                            </p:stCondLst>
                            <p:childTnLst>
                              <p:par>
                                <p:cTn id="18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85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350"/>
                            </p:stCondLst>
                            <p:childTnLst>
                              <p:par>
                                <p:cTn id="20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85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5000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33433" r="2589" b="0"/>
          <a:stretch/>
        </p:blipFill>
        <p:spPr>
          <a:xfrm>
            <a:off x="304920" y="1676520"/>
            <a:ext cx="845820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181480"/>
            <a:ext cx="9144000" cy="9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e uma grande alegria tomou conta de todos                      pela oportunidade de trabalharem ju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33520"/>
            <a:ext cx="9144000" cy="9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ntiram-se como uma equipe,                                           capaz de produzir com qualida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419720" cy="2813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95680" y="609480"/>
            <a:ext cx="434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O mesmo ocorre com os seres huma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213000"/>
            <a:ext cx="8763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Quando uma pessoa busca defeitos em outra,                a situação torna-se tensa e neg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Ao contrário, quando se busca com sinceridade                   os pontos fortes dos outros, florescem as                    melhores conquistas huma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450"/>
                            </p:stCondLst>
                            <p:childTnLst>
                              <p:par>
                                <p:cTn id="2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419720" cy="2813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476280"/>
            <a:ext cx="883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É fácil encontrar defeitos...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357720"/>
            <a:ext cx="5184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Mas encontrar qualida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497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Isto é para os sábios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682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Qualquer um pode fazê-lo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5084640"/>
            <a:ext cx="3276720" cy="2101680"/>
          </a:xfrm>
          <a:prstGeom prst="rect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1361b"/>
                </a:solidFill>
                <a:latin typeface="Arial"/>
              </a:rPr>
              <a:t>Autor do Slide: Ria Ellwanger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iaellw@globo.com</a:t>
            </a:r>
            <a:r>
              <a:rPr b="0" lang="pt-BR" sz="1200" spc="-1" strike="noStrike">
                <a:solidFill>
                  <a:srgbClr val="51361b"/>
                </a:solidFill>
                <a:latin typeface="Arial"/>
              </a:rPr>
              <a:t>                                                                                                     Autor do Texto: Emilio Santamaria S.                          Música: London Orchestra                                                                                                                                 Imagens: Webshots e arquivos                                                                                         Este slide é exclusivo d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flori_jane.sites.uol.com.br/index.htm</a:t>
            </a:r>
            <a:r>
              <a:rPr b="0" lang="pt-BR" sz="1200" spc="-1" strike="noStrike">
                <a:solidFill>
                  <a:srgbClr val="ffffcc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725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725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228600"/>
            <a:ext cx="8839080" cy="182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Times New Roman"/>
              </a:rPr>
              <a:t>Um martelo estava exercendo a presidência,          mas os participantes exigiram                                que ele renunciass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3645000"/>
            <a:ext cx="3353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Times New Roman"/>
              </a:rPr>
              <a:t>A cau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410080"/>
            <a:ext cx="8839080" cy="9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Times New Roman"/>
              </a:rPr>
              <a:t>Fazia demasiado barulho e além do mais,    passava todo tempo golpe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8758" t="0" r="0" b="19286"/>
          <a:stretch/>
        </p:blipFill>
        <p:spPr>
          <a:xfrm>
            <a:off x="0" y="0"/>
            <a:ext cx="8381880" cy="645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9751" t="28985" r="6104" b="22708"/>
          <a:stretch/>
        </p:blipFill>
        <p:spPr>
          <a:xfrm>
            <a:off x="0" y="5334120"/>
            <a:ext cx="5292720" cy="104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295280"/>
            <a:ext cx="7391520" cy="21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e00"/>
                </a:solidFill>
                <a:latin typeface="Times New Roman"/>
              </a:rPr>
              <a:t>O martelo aceitou sua culpa,                                   mas pediu que também fosse expulso                   o parafuso, alegando que ele dava               muitas voltas para conseguir al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657600"/>
            <a:ext cx="8839080" cy="133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e00"/>
                </a:solidFill>
                <a:latin typeface="Times New Roman"/>
              </a:rPr>
              <a:t>Diante do ataque o parafuso                  concordou, mas por sua vez pediu                          a expulsão da lix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60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3090600" cy="4038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410080"/>
            <a:ext cx="9144000" cy="9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8cc"/>
                </a:solidFill>
                <a:latin typeface="Times New Roman"/>
              </a:rPr>
              <a:t>Disse que ela era muito áspera no tratamento            com os demais, entrando sempre em at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9144000" cy="17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8cc"/>
                </a:solidFill>
                <a:latin typeface="Times New Roman"/>
              </a:rPr>
              <a:t>A lixa acatou, com a condição de que                               se expulsasse o metro, que sempre media                        os outros segundo a sua medida,                                 como se fosse o único perfei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133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8cc"/>
                </a:solidFill>
                <a:latin typeface="Times New Roman"/>
              </a:rPr>
              <a:t>Nesse momento entrou o marceneiro,                                                         juntou todos e iniciou o seu trabal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86200"/>
            <a:ext cx="6400800" cy="9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8cc"/>
                </a:solidFill>
                <a:latin typeface="Times New Roman"/>
              </a:rPr>
              <a:t>Utilizou o martelo, a lixa,                                        o metro, o parafus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5548" r="0" b="3344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637000"/>
            <a:ext cx="8381880" cy="9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8cc"/>
                </a:solidFill>
                <a:latin typeface="Times New Roman"/>
              </a:rPr>
              <a:t>E a rústica madeira se                                     converteu em belos móve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013360"/>
            <a:ext cx="9144000" cy="9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8cc"/>
                </a:solidFill>
                <a:latin typeface="Times New Roman"/>
              </a:rPr>
              <a:t>Quando o marceneiro foi embora,                                   as ferramentas voltaram à discussã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3023" t="4031" r="3023" b="3023"/>
          <a:stretch/>
        </p:blipFill>
        <p:spPr>
          <a:xfrm>
            <a:off x="3276720" y="914400"/>
            <a:ext cx="5867280" cy="435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Mas o serrote adiantou-se e disse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421000"/>
            <a:ext cx="6643800" cy="21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- Senhores, ficou                    demonstrado que temos              defeitos, mas o marceneiro         trabalha com nossas qualidades, ressaltando nossos pontos valiosos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400"/>
                            </p:stCondLst>
                            <p:childTnLst>
                              <p:par>
                                <p:cTn id="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3023" t="4031" r="3023" b="3023"/>
          <a:stretch/>
        </p:blipFill>
        <p:spPr>
          <a:xfrm>
            <a:off x="3276720" y="914400"/>
            <a:ext cx="5867280" cy="4352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3933720"/>
            <a:ext cx="8604360" cy="119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Portanto, em vez de pensar em nossas       fraquezas, devemos nos concentrar                                 em nossos pontos for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63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4:24:05Z</dcterms:created>
  <dc:creator>Ria Ellwanger   riaellw@globo.com</dc:creator>
  <dc:description>Revisado em maio de 2004</dc:description>
  <dc:language>en-US</dc:language>
  <cp:lastModifiedBy>Ria</cp:lastModifiedBy>
  <dcterms:modified xsi:type="dcterms:W3CDTF">2004-05-12T17:38:55Z</dcterms:modified>
  <cp:revision>10</cp:revision>
  <dc:subject>Categoria: Reflexão</dc:subject>
  <dc:title>Ferramentas</dc:title>
</cp:coreProperties>
</file>