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FLAUTA-LINDO-Gheorghe_Zamfir-Endless_love.wav" ContentType="audio/x-wav"/>
  <Override PartName="/ppt/media/image4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541-9894-4CCA-95E7-B16557A1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A6F-84B8-4587-B195-95B6005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787-E151-4968-B302-071F6DE2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C5F-5617-4150-AB9B-7FAFE420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78F-BA09-40DD-8496-814D97EF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AB3-1187-4659-8B77-74FA4360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FE4-78E3-4B77-B381-F69671FB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088-EF07-4F57-9972-134CA7BB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39D-2E6B-4B17-8F29-FE5469FF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227-1844-42C9-BADC-BCDA5762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47F-6822-4252-A888-9487A9F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865-971E-46AB-93B1-D27B55F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3D6-B575-4E4C-962B-A35E0D24F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audio" Target="../media/FLAUTA-LINDO-Gheorghe_Zamfir-Endless_love.wav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105440" cy="525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38480" t="0" r="13673" b="27165"/>
          <a:stretch/>
        </p:blipFill>
        <p:spPr>
          <a:xfrm>
            <a:off x="2050920" y="476280"/>
            <a:ext cx="5400720" cy="6191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0" r="35228" b="6729"/>
          <a:stretch/>
        </p:blipFill>
        <p:spPr>
          <a:xfrm>
            <a:off x="2050920" y="620640"/>
            <a:ext cx="5042160" cy="604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403280" y="260280"/>
            <a:ext cx="6121440" cy="6597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rcRect l="25184" t="1792" r="24010" b="3186"/>
          <a:stretch/>
        </p:blipFill>
        <p:spPr>
          <a:xfrm>
            <a:off x="1619280" y="0"/>
            <a:ext cx="56167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rcRect l="0" t="0" r="16724" b="0"/>
          <a:stretch/>
        </p:blipFill>
        <p:spPr>
          <a:xfrm>
            <a:off x="1692360" y="189000"/>
            <a:ext cx="5400720" cy="648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19300" t="9565" r="7477" b="11113"/>
          <a:stretch/>
        </p:blipFill>
        <p:spPr>
          <a:xfrm>
            <a:off x="147636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21364800">
            <a:off x="2401920" y="842760"/>
            <a:ext cx="159228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134"/>
                <a:gd name="adj2" fmla="val 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cc3399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4c4c00"/>
                  </a:outerShdw>
                </a:effectLst>
                <a:latin typeface="Arial Unicode MS"/>
              </a:rPr>
              <a:t>A Prece 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50000">
                    <a:srgbClr val="cc3399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4c4c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cc3399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4c4c00"/>
                  </a:outerShdw>
                </a:effectLst>
                <a:latin typeface="Arial Unicode MS"/>
              </a:rPr>
              <a:t>      </a:t>
            </a: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cc3399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4c4c00"/>
                  </a:outerShdw>
                </a:effectLst>
                <a:latin typeface="Arial Unicode MS"/>
              </a:rPr>
              <a:t>de Meimei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50000">
                    <a:srgbClr val="cc3399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4c4c00"/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 spd="slow" advTm="24000">
    <p:randomBar dir="vert"/>
    <p:sndAc>
      <p:stSnd>
        <p:snd r:embed="rId8" name="FLAUTA-LINDO-Gheorghe_Zamfir-Endless_lo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4724280"/>
            <a:ext cx="5759280" cy="17398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Concede-me forças pa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irradiar a Paz e o Amor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nos ensinaste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4508640"/>
            <a:ext cx="5688000" cy="30186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E, sobretudo, Senhor, perdo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as minhas fragilidades e sustenta-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a fé para que eu possa estar s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em Ti, servindo aos outros. 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Assim se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48920" y="33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33680" y="380880"/>
            <a:ext cx="4076640" cy="6096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rcRect l="2368" t="0" r="17292" b="0"/>
          <a:stretch/>
        </p:blipFill>
        <p:spPr>
          <a:xfrm>
            <a:off x="1258920" y="0"/>
            <a:ext cx="72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533680" y="0"/>
            <a:ext cx="448632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4096" t="2740" r="4096" b="2740"/>
          <a:stretch/>
        </p:blipFill>
        <p:spPr>
          <a:xfrm>
            <a:off x="2411280" y="0"/>
            <a:ext cx="4753080" cy="659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258920" y="0"/>
            <a:ext cx="71294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8360" y="5013360"/>
            <a:ext cx="181908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cc3399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5b00"/>
                  </a:outerShdw>
                </a:effectLst>
                <a:latin typeface="Book Antiqua"/>
              </a:rPr>
              <a:t>Feliz Semana !!!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50000">
                    <a:srgbClr val="cc3399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005b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" nodeType="after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11914" t="2258" r="21641" b="3440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3348" t="3344" r="3348" b="3285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rcRect l="13673" t="0" r="8358" b="0"/>
          <a:stretch/>
        </p:blipFill>
        <p:spPr>
          <a:xfrm>
            <a:off x="1403280" y="0"/>
            <a:ext cx="655344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258920" y="0"/>
            <a:ext cx="669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rcRect l="29337" t="0" r="0" b="0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95640" y="1125360"/>
            <a:ext cx="1523880" cy="4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Book Antiqua"/>
              </a:rPr>
              <a:t>Muita Paz !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8563" t="7796" r="5932" b="7796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56000" y="5373720"/>
            <a:ext cx="2000160" cy="31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c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Lilalilaz@uol.com.b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cc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3132000" y="5589720"/>
            <a:ext cx="719280" cy="144360"/>
          </a:xfrm>
          <a:custGeom>
            <a:avLst/>
            <a:gdLst>
              <a:gd name="textAreaLeft" fmla="*/ 9360 w 719280"/>
              <a:gd name="textAreaRight" fmla="*/ 709920 w 719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107409" h="21600">
                <a:moveTo>
                  <a:pt x="0" y="0"/>
                </a:moveTo>
                <a:lnTo>
                  <a:pt x="107409" y="0"/>
                </a:lnTo>
                <a:lnTo>
                  <a:pt x="107409" y="21600"/>
                </a:lnTo>
                <a:lnTo>
                  <a:pt x="0" y="21600"/>
                </a:lnTo>
                <a:close/>
              </a:path>
              <a:path fill="lightenLess" w="107409" h="21600">
                <a:moveTo>
                  <a:pt x="0" y="0"/>
                </a:moveTo>
                <a:lnTo>
                  <a:pt x="107409" y="0"/>
                </a:lnTo>
                <a:lnTo>
                  <a:pt x="106009" y="1400"/>
                </a:lnTo>
                <a:lnTo>
                  <a:pt x="1400" y="1400"/>
                </a:lnTo>
                <a:close/>
              </a:path>
              <a:path fill="darken" w="107409" h="21600">
                <a:moveTo>
                  <a:pt x="107409" y="0"/>
                </a:moveTo>
                <a:lnTo>
                  <a:pt x="107409" y="21600"/>
                </a:lnTo>
                <a:lnTo>
                  <a:pt x="106009" y="20200"/>
                </a:lnTo>
                <a:lnTo>
                  <a:pt x="106009" y="1400"/>
                </a:lnTo>
                <a:close/>
              </a:path>
              <a:path fill="darkenLess" w="107409" h="21600">
                <a:moveTo>
                  <a:pt x="107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009" y="20200"/>
                </a:lnTo>
                <a:close/>
              </a:path>
              <a:path fill="lighten" w="107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6666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4000">
                <a:solidFill>
                  <a:srgbClr val="ff6699"/>
                </a:solidFill>
                <a:latin typeface="Arial Unicode MS"/>
              </a:rPr>
              <a:t>S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745080" cy="4967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21364800">
            <a:off x="3203280" y="5950080"/>
            <a:ext cx="2509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7796"/>
                <a:gd name="adj2" fmla="val 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66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5b3c00"/>
                  </a:outerShdw>
                </a:effectLst>
                <a:latin typeface="Arial Unicode MS"/>
              </a:rPr>
              <a:t>Senhor</a:t>
            </a:r>
            <a:endParaRPr b="0" lang="en-US" sz="3200" spc="1" strike="noStrike">
              <a:ln w="9360">
                <a:solidFill>
                  <a:srgbClr val="9966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5b3c00"/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 spd="slow" advTm="8000">
    <p:push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4221000"/>
            <a:ext cx="3889440" cy="15562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Faze-me perceber</a:t>
            </a:r>
            <a:br>
              <a:rPr sz="3200"/>
            </a:b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que o trabalho do bem</a:t>
            </a:r>
            <a:br>
              <a:rPr sz="3200"/>
            </a:b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me aguarda em toda parte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5661000"/>
            <a:ext cx="4248360" cy="10688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Não me consintas perder tempo,</a:t>
            </a:r>
            <a:br>
              <a:rPr sz="3200"/>
            </a:b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através de indagações inúteis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520200" y="388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4076640"/>
            <a:ext cx="5616720" cy="30186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Lembra-me, p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misericórdia, que estou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caminho da evolução, com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meus semelhantes, não p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consertá-los e sim para at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à minha própria melhoria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020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4581360"/>
            <a:ext cx="5543640" cy="15562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Induze-me a respeit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os direitos alheios, a fim d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os meus sejam preservados. 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6456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508640"/>
            <a:ext cx="5759280" cy="20437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Dá-me consciência</a:t>
            </a:r>
            <a:br>
              <a:rPr sz="3200"/>
            </a:b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do lugar que me compete,</a:t>
            </a:r>
            <a:br>
              <a:rPr sz="3200"/>
            </a:b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para que não esteja a exigir da vida</a:t>
            </a:r>
            <a:br>
              <a:rPr sz="3200"/>
            </a:b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aquilo que não me pertence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4076640"/>
            <a:ext cx="5832360" cy="33858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Não me permitas sonhar 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realizações incompatíveis com 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meus recursos, entretanto p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acréscimo de bondade, fortalece-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para a execução das pequen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600" spc="-1" strike="noStrike" baseline="4000">
                <a:solidFill>
                  <a:srgbClr val="996600"/>
                </a:solidFill>
                <a:latin typeface="Arial Unicode MS"/>
              </a:rPr>
              <a:t>tarefas ao meu alcance. 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4292640"/>
            <a:ext cx="5759280" cy="30186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Apaga-me os melin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pessoais, de modo que n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me transforme em estor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diante dos irmãos, 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quais devo convivê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e cooperação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4076640"/>
            <a:ext cx="5616720" cy="35060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Auxilia-me a reconhecer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 </a:t>
            </a: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cansaço e dificuldade não pod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converter-me em pessoa intratável, mas mostra-me, por piedade, quanto posso fazer nas boas obras, usando paciência e coragem, acima de quaisquer prova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4000">
                <a:solidFill>
                  <a:srgbClr val="996600"/>
                </a:solidFill>
                <a:latin typeface="Arial Unicode MS"/>
              </a:rPr>
              <a:t>que me atinjam a existê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0" y="0"/>
            <a:ext cx="9144000" cy="6858000"/>
          </a:xfrm>
          <a:custGeom>
            <a:avLst/>
            <a:gdLst>
              <a:gd name="textAreaLeft" fmla="*/ 560160 w 9144000"/>
              <a:gd name="textAreaRight" fmla="*/ 8583840 w 9144000"/>
              <a:gd name="textAreaTop" fmla="*/ 560160 h 6858000"/>
              <a:gd name="textAreaBottom" fmla="*/ 62978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1765" y="1765"/>
                </a:moveTo>
                <a:lnTo>
                  <a:pt x="1765" y="19835"/>
                </a:lnTo>
                <a:lnTo>
                  <a:pt x="27035" y="19835"/>
                </a:lnTo>
                <a:lnTo>
                  <a:pt x="27035" y="1765"/>
                </a:lnTo>
                <a:close/>
              </a:path>
            </a:pathLst>
          </a:custGeom>
          <a:solidFill>
            <a:srgbClr val="5f5f5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6200000">
            <a:off x="539640" y="549360"/>
            <a:ext cx="806472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547640" cy="6858000"/>
          </a:xfrm>
          <a:custGeom>
            <a:avLst/>
            <a:gdLst/>
            <a:ahLst/>
            <a:rect l="l" t="t" r="r" b="b"/>
            <a:pathLst>
              <a:path w="21600" h="95698">
                <a:moveTo>
                  <a:pt x="0" y="0"/>
                </a:moveTo>
                <a:lnTo>
                  <a:pt x="0" y="95698"/>
                </a:lnTo>
                <a:lnTo>
                  <a:pt x="21600" y="95698"/>
                </a:lnTo>
                <a:lnTo>
                  <a:pt x="21600" y="0"/>
                </a:lnTo>
                <a:close/>
                <a:moveTo>
                  <a:pt x="10800" y="10800"/>
                </a:moveTo>
                <a:lnTo>
                  <a:pt x="10800" y="84898"/>
                </a:lnTo>
                <a:lnTo>
                  <a:pt x="10800" y="84898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22:03:10Z</dcterms:created>
  <dc:creator>.</dc:creator>
  <dc:description/>
  <dc:language>en-US</dc:language>
  <cp:lastModifiedBy>.</cp:lastModifiedBy>
  <dcterms:modified xsi:type="dcterms:W3CDTF">2009-07-05T22:07:06Z</dcterms:modified>
  <cp:revision>1</cp:revision>
  <dc:subject/>
  <dc:title> </dc:title>
</cp:coreProperties>
</file>