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LAST-CLAYDERMAN%20-%20COEURS%20D'OR.wav" ContentType="audio/x-wav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7A3-64AF-479E-93C2-33D3FBBB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B1A-4EA0-4520-86D8-E67664C9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344-5E5F-4DAE-8004-549E5DA7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141-D3D1-42C3-AE53-D6639ED6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FB0-B122-4867-A8AC-3792AC7D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82A-4CDF-4FA3-B185-58D53CE7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FAC-28FB-48DA-B4B7-ACA02231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347-6F02-461A-98E3-7DE09420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320-7AF8-4024-B08B-4F9A0845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D91-A156-4902-B2AA-EBC4FB95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0FC-664C-49EB-87A8-0071BAAB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E94-44D5-400D-8B36-9B95CD4A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800" spc="-1" strike="noStrike">
                <a:solidFill>
                  <a:srgbClr val="ff99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9900"/>
                </a:solidFill>
                <a:latin typeface="Century Gothic"/>
              </a:rPr>
              <a:t>PRODUCCIONES RAKIMCHILE – CA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9900"/>
                </a:solidFill>
                <a:latin typeface="Trebuchet MS"/>
              </a:rPr>
              <a:t>rakimchile@hotmail.com                                                     Sirope de Savia de Arce la Miel de la Vi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CD4A-2C3C-4E65-B7B7-A28778C59268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T-CLAYDERMAN%20-%20COEURS%20D&apos;O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2920" y="148428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3300"/>
                </a:solidFill>
                <a:latin typeface="Gungsuh"/>
                <a:ea typeface="Gungsuh"/>
              </a:rPr>
              <a:t>Princípio do </a:t>
            </a:r>
            <a:r>
              <a:rPr b="1" lang="es-CL" sz="4400" spc="-1" strike="noStrike">
                <a:solidFill>
                  <a:srgbClr val="ff3300"/>
                </a:solidFill>
                <a:latin typeface="Gungsuh"/>
                <a:ea typeface="Gungsuh"/>
              </a:rPr>
              <a:t>Vazi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JOSEPH NEWTON</a:t>
            </a:r>
            <a:r>
              <a:rPr b="0" lang="tr-TR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8560" y="4941720"/>
            <a:ext cx="410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entury Gothic"/>
              </a:rPr>
              <a:t>Fotos do</a:t>
            </a:r>
            <a:r>
              <a:rPr b="0" lang="pt-BR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artista canadense</a:t>
            </a:r>
            <a:r>
              <a:rPr b="0" lang="es-CL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Gregory Co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Century Gothic"/>
              </a:rPr>
              <a:t>NÃO PRECISA CLIC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hecker dir="vert"/>
    <p:sndAc>
      <p:stSnd>
        <p:snd r:embed="rId2" name="LAST-CLAYDERMAN%20-%20COEURS%20D'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300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1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6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77336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 força deste vazio é que atrairá e absorverá tudo o que desej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76280"/>
            <a:ext cx="629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 acumula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os e sentimentos velhos e inútei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terás espaço para novas oportun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724280"/>
            <a:ext cx="44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s bens necessitam circular. Limpe as gavetas, os armários, o depósito, a garagem… A ment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1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92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192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192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192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22400" y="2851200"/>
            <a:ext cx="34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oe tudo aquilo que já não usa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63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1557360"/>
            <a:ext cx="63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21100"/>
                </a:solidFill>
                <a:latin typeface="Verdana"/>
              </a:rPr>
              <a:t>A atitude de guardar um monte de coisas inút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21100"/>
                </a:solidFill>
                <a:latin typeface="Verdana"/>
              </a:rPr>
              <a:t>só acorrenta a tua v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76500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são só os objetos guardados que paralisam a tua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02440" y="1127160"/>
            <a:ext cx="389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Eis o significado da atitude de guard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0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692280"/>
            <a:ext cx="59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quando se guarda, se considera a possibilidade de falta, de carênci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620640"/>
            <a:ext cx="66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credita-se que, amanhã, poderá faltar e que não haverá maneira de suprir as necessidad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8720" y="549360"/>
            <a:ext cx="593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om esse pensamen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stás enviando duas mensagens ao teu cérebro e à tua vi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89000"/>
            <a:ext cx="7920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Estimados amigos,                                                                                                                  me permito brindá-los com esta mensagem do au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Joseph New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e uma pequena e maravilhosa coleção de fotografias do                             mundialmente famoso fotógrafo e cineasta canadens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Gregory Colbert.</a:t>
            </a: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205000"/>
            <a:ext cx="7993080" cy="82404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Quando criei “Cinzas e Neve”, em 1992, minha intenção foi explorar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relação entre homens e animais, de dentro para fora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(Gregory Colber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checke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18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62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18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740"/>
                            </p:stCondLst>
                            <p:childTnLst>
                              <p:par>
                                <p:cTn id="39" nodeType="afterEffect" fill="hold" presetClass="entr" presetID="43">
                                  <p:stCondLst>
                                    <p:cond delay="200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51480" y="1989000"/>
            <a:ext cx="33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entury Gothic"/>
              </a:rPr>
              <a:t>A de que não confias no amanh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33336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e1f00"/>
                </a:solidFill>
                <a:latin typeface="Verdana"/>
              </a:rPr>
              <a:t>E que o novo e o melhor NÃO são para t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09600" y="906480"/>
            <a:ext cx="52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r isso te alegras guardando coisas velhas e inútei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4400" y="1627200"/>
            <a:ext cx="38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e1f00"/>
                </a:solidFill>
                <a:latin typeface="Verdana"/>
              </a:rPr>
              <a:t>Até o que já perdeu a cor e o brilh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53080" y="619200"/>
            <a:ext cx="34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eixa entrar o novo em tua casa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 dentro de t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8366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r isso, depois de l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sta mensage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a guarde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052640"/>
            <a:ext cx="53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Faça-a circular,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que a prosperidade e a paz cheguem a 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0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90792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Boa sor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98100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juntar objetos inút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creditando que um dia (não sabes qu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vais necessitar deles?</a:t>
            </a: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89000"/>
            <a:ext cx="611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juntar dinheir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m gastá-l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is imaginas que ele poderá faltar no futu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276640"/>
            <a:ext cx="76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guardar roupas, sapatos, móveis, utensílios domésticos e outras coisas que já não usas há muito tempo?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797360"/>
            <a:ext cx="712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dentro de ti?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guardar raiv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ressentimentos, tristezas, me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outros sentimentos negativos?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549360"/>
            <a:ext cx="46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faças isso!  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Vai contra a tua prosperidad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628640"/>
            <a:ext cx="66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É  preciso deixar um espaço, um vazio par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ovas coisas cheguem à tua v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916280"/>
            <a:ext cx="73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É  preciso se desfazer do inútil que há em 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em tua vida para que a prosperidade possa acontec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5:00:26Z</dcterms:created>
  <dc:creator>rakimchile@hotmail.com</dc:creator>
  <dc:description/>
  <dc:language>en-US</dc:language>
  <cp:lastModifiedBy>LIANA</cp:lastModifiedBy>
  <dcterms:modified xsi:type="dcterms:W3CDTF">2009-06-23T21:04:31Z</dcterms:modified>
  <cp:revision>81</cp:revision>
  <dc:subject>www.freewebs.com/rakimchile *** Canada  2008</dc:subject>
  <dc:title>Una produccion de Rakimchile y el Sirope de Savia de Arce la Miel de la Vida</dc:title>
</cp:coreProperties>
</file>