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ntrumental%20-%20Ernesto%20Cortazar%20-%20Together.wav" ContentType="audio/x-wav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6311-B43A-483C-8A7A-070E1F176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54DD-1DE3-4588-A21C-8C3811461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0E2D-09F7-4CEB-94A8-31BD17E13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5A0D-5582-4935-B3F9-11BA0C592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0BB5-CDA0-4B38-8F61-78D932936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69C9-86BB-42F8-8C0D-51AB97F1A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BCA1-C821-4587-9F55-D5A30EA2C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3A9B-F4B1-4C67-BAFB-FDCAD38AF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7E98-7BF9-4A5D-865F-51B3088D2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D4FF-B5E9-4F3F-B47D-F366DC4FB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466D-77CC-4902-9E93-2583F95CD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4033-B974-4D78-97E7-650F03A05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291F7-684C-46FE-B0BC-23E320BB07A0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audio" Target="../media/Intrumental%20-%20Ernesto%20Cortazar%20-%20Together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3" name="Imagem 3" descr="Imagem6.jpg"/>
          <p:cNvPicPr/>
          <p:nvPr/>
        </p:nvPicPr>
        <p:blipFill>
          <a:blip r:embed="rId2"/>
          <a:stretch/>
        </p:blipFill>
        <p:spPr>
          <a:xfrm>
            <a:off x="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Retângulo 6"/>
          <p:cNvSpPr/>
          <p:nvPr/>
        </p:nvSpPr>
        <p:spPr>
          <a:xfrm>
            <a:off x="0" y="1857240"/>
            <a:ext cx="9144000" cy="3357720"/>
          </a:xfrm>
          <a:prstGeom prst="rect">
            <a:avLst/>
          </a:prstGeom>
          <a:solidFill>
            <a:srgbClr val="ffffff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CaixaDeTexto 7"/>
          <p:cNvSpPr/>
          <p:nvPr/>
        </p:nvSpPr>
        <p:spPr>
          <a:xfrm>
            <a:off x="642960" y="2401920"/>
            <a:ext cx="7715160" cy="31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Calibri"/>
              </a:rPr>
              <a:t>Lei do carma ou de causa e efeit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Calibri"/>
              </a:rPr>
              <a:t>Toda ação gera uma força energética que retorna a nós da mesma forma. O que semeamos é o que colhemo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  <p:sndAc>
      <p:stSnd>
        <p:snd r:embed="rId3" name="Intrumental%20-%20Ernesto%20Cortazar%20-%20Together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CaixaDeTexto 4"/>
          <p:cNvSpPr/>
          <p:nvPr/>
        </p:nvSpPr>
        <p:spPr>
          <a:xfrm>
            <a:off x="642960" y="1928880"/>
            <a:ext cx="7715160" cy="446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Somente o coração conhece a resposta certa. Muita gente acha que o coração é piegas e sentimental. Não é. O coração é intuitivo. É holístico. É contextual. É relacional. Não se orienta por perdas e ganhos. Ele esta conectado ao computador cósmico que leva tudo em conta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Às vezes, pode ate parecer irracional, mas o coração tem uma capacidade mais acurada e muito mais precisa de processar dados do que qualquer outra coisa que exista nos limites do pensamento racional.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alibri"/>
              </a:rPr>
              <a:t>Deepak Chopr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Imagem 6" descr="Imagem12.jpg"/>
          <p:cNvPicPr/>
          <p:nvPr/>
        </p:nvPicPr>
        <p:blipFill>
          <a:blip r:embed="rId1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Retângulo 7"/>
          <p:cNvSpPr/>
          <p:nvPr/>
        </p:nvSpPr>
        <p:spPr>
          <a:xfrm>
            <a:off x="0" y="1857240"/>
            <a:ext cx="9144000" cy="3357720"/>
          </a:xfrm>
          <a:prstGeom prst="rect">
            <a:avLst/>
          </a:prstGeom>
          <a:solidFill>
            <a:srgbClr val="ffffff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CaixaDeTexto 8"/>
          <p:cNvSpPr/>
          <p:nvPr/>
        </p:nvSpPr>
        <p:spPr>
          <a:xfrm>
            <a:off x="795240" y="2200320"/>
            <a:ext cx="7715520" cy="24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jardim dos girassóis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http://br.groups.yahoo.com/group/jardimdosgirassois/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BLOG: http://karinizumi.wordpress.com/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TWITTER: http://twitter.com/karinizum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8" name="Imagem 3" descr="Imagem4.jpg"/>
          <p:cNvPicPr/>
          <p:nvPr/>
        </p:nvPicPr>
        <p:blipFill>
          <a:blip r:embed="rId2"/>
          <a:stretch/>
        </p:blipFill>
        <p:spPr>
          <a:xfrm>
            <a:off x="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Retângulo 6"/>
          <p:cNvSpPr/>
          <p:nvPr/>
        </p:nvSpPr>
        <p:spPr>
          <a:xfrm>
            <a:off x="0" y="1857240"/>
            <a:ext cx="9144000" cy="3357720"/>
          </a:xfrm>
          <a:prstGeom prst="rect">
            <a:avLst/>
          </a:prstGeom>
          <a:solidFill>
            <a:srgbClr val="ffffff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CaixaDeTexto 7"/>
          <p:cNvSpPr/>
          <p:nvPr/>
        </p:nvSpPr>
        <p:spPr>
          <a:xfrm>
            <a:off x="642960" y="2214720"/>
            <a:ext cx="77151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É bem conhecido o ditado </a:t>
            </a: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“você colhe aquilo que semeia”.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ortanto, não há nada de misterioso na lei do carma. Obviamente, se desejamos felicidade, precisamos aprender a semear felicidad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Carma implica, então, escolha e ação consciente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3" name="Imagem 3" descr="Imagem5.jpg"/>
          <p:cNvPicPr/>
          <p:nvPr/>
        </p:nvPicPr>
        <p:blipFill>
          <a:blip r:embed="rId2"/>
          <a:stretch/>
        </p:blipFill>
        <p:spPr>
          <a:xfrm>
            <a:off x="648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Retângulo 6"/>
          <p:cNvSpPr/>
          <p:nvPr/>
        </p:nvSpPr>
        <p:spPr>
          <a:xfrm>
            <a:off x="0" y="1857240"/>
            <a:ext cx="9144000" cy="3357720"/>
          </a:xfrm>
          <a:prstGeom prst="rect">
            <a:avLst/>
          </a:prstGeom>
          <a:solidFill>
            <a:srgbClr val="ffffff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CaixaDeTexto 7"/>
          <p:cNvSpPr/>
          <p:nvPr/>
        </p:nvSpPr>
        <p:spPr>
          <a:xfrm>
            <a:off x="642960" y="2000160"/>
            <a:ext cx="77151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Quer você goste ou não, tudo o que está acontecendo neste momento é resultado de escolhas feitas no passado. Infelizmente, muitos fazem escolhas inconscientes e por isso, acham que não são escolhas. Mas são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Se eu o insulto, é provável que você escolha se ofender. Se eu lhe dirijo um cumprimento, é provável que você escolha se sentir grato e envaidecido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Pense bem:  é sempre uma escolh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Imagem 10" descr="Imagem2.jpg"/>
          <p:cNvPicPr/>
          <p:nvPr/>
        </p:nvPicPr>
        <p:blipFill>
          <a:blip r:embed="rId1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Retângulo 5"/>
          <p:cNvSpPr/>
          <p:nvPr/>
        </p:nvSpPr>
        <p:spPr>
          <a:xfrm>
            <a:off x="0" y="1857240"/>
            <a:ext cx="9144000" cy="3357720"/>
          </a:xfrm>
          <a:prstGeom prst="rect">
            <a:avLst/>
          </a:prstGeom>
          <a:solidFill>
            <a:srgbClr val="ffffff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CaixaDeTexto 6"/>
          <p:cNvSpPr/>
          <p:nvPr/>
        </p:nvSpPr>
        <p:spPr>
          <a:xfrm>
            <a:off x="642960" y="2063880"/>
            <a:ext cx="771516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Toda pessoa constitui – mesmo sendo um escolhedor infinito – um feixe de reflexos condicionados. Eles são disparados, constantemente por circunstâncias e por pessoas, resultando em comportamentos previsíveis. Essas reações também são escolhas que fazemos a todo momento. Simplesmente estamos escolhendo inconscientement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1" name="Imagem 3" descr="Imagem3.jpg"/>
          <p:cNvPicPr/>
          <p:nvPr/>
        </p:nvPicPr>
        <p:blipFill>
          <a:blip r:embed="rId2"/>
          <a:stretch/>
        </p:blipFill>
        <p:spPr>
          <a:xfrm>
            <a:off x="648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Retângulo 6"/>
          <p:cNvSpPr/>
          <p:nvPr/>
        </p:nvSpPr>
        <p:spPr>
          <a:xfrm>
            <a:off x="0" y="1857240"/>
            <a:ext cx="9144000" cy="3357720"/>
          </a:xfrm>
          <a:prstGeom prst="rect">
            <a:avLst/>
          </a:prstGeom>
          <a:solidFill>
            <a:srgbClr val="ffffff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CaixaDeTexto 7"/>
          <p:cNvSpPr/>
          <p:nvPr/>
        </p:nvSpPr>
        <p:spPr>
          <a:xfrm>
            <a:off x="642960" y="2357280"/>
            <a:ext cx="77151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Se você parar um pouco e começar a observar suas escolhas no momento em que elas ocorrem, mudará esse aspecto de inconsciência. </a:t>
            </a: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O simples ato de observá-las transfere todo processo do terreno do inconsciente para o do consciente.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Escolher e observar conscientemente  é muito enriquecedor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Imagem 1" descr="Imagem8.jpg"/>
          <p:cNvPicPr/>
          <p:nvPr/>
        </p:nvPicPr>
        <p:blipFill>
          <a:blip r:embed="rId1"/>
          <a:stretch/>
        </p:blipFill>
        <p:spPr>
          <a:xfrm>
            <a:off x="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Retângulo 4"/>
          <p:cNvSpPr/>
          <p:nvPr/>
        </p:nvSpPr>
        <p:spPr>
          <a:xfrm>
            <a:off x="0" y="1857240"/>
            <a:ext cx="9144000" cy="3357720"/>
          </a:xfrm>
          <a:prstGeom prst="rect">
            <a:avLst/>
          </a:prstGeom>
          <a:solidFill>
            <a:srgbClr val="ffffff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CaixaDeTexto 5"/>
          <p:cNvSpPr/>
          <p:nvPr/>
        </p:nvSpPr>
        <p:spPr>
          <a:xfrm>
            <a:off x="642960" y="2000160"/>
            <a:ext cx="77151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Quando fizer uma escolha, faça uma pergunta a si mesmo: </a:t>
            </a: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“Quais serão as conseqüências da escolha que estou fazendo?”, “Essa escolha trará felicidade a mim e aos outros ao meu redor?”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A resposta a primeira questão você sentirá em seu coração e saberá imediatamente quais serão as conseqüências. Quanto a segunda questão, se a resposta for sim, então persista nessa escolha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Imagem 9" descr="Imagem7.jpg"/>
          <p:cNvPicPr/>
          <p:nvPr/>
        </p:nvPicPr>
        <p:blipFill>
          <a:blip r:embed="rId1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Retângulo 15"/>
          <p:cNvSpPr/>
          <p:nvPr/>
        </p:nvSpPr>
        <p:spPr>
          <a:xfrm>
            <a:off x="0" y="1857240"/>
            <a:ext cx="9144000" cy="3357720"/>
          </a:xfrm>
          <a:prstGeom prst="rect">
            <a:avLst/>
          </a:prstGeom>
          <a:solidFill>
            <a:srgbClr val="ffffff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CaixaDeTexto 16"/>
          <p:cNvSpPr/>
          <p:nvPr/>
        </p:nvSpPr>
        <p:spPr>
          <a:xfrm>
            <a:off x="642960" y="1992240"/>
            <a:ext cx="77151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Há um mecanismo muito interessante no universo para ajudar a fazer escolhas corretas. Esse mecanismo relaciona-se com as sensações físicas. Nosso corpo conhece dois tipos de sensações: uma é a do </a:t>
            </a: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conforto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e a outra é a do </a:t>
            </a: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desconforto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. Imediatamente, antes de fazer uma escolha consciente, observe seu corpo enquanto faz a pergunta “se eu escolher isso, o que acontecerá?” </a:t>
            </a: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Se seu corpo enviar uma mensagem de conforto, é a escolha certa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Imagem 1" descr="Imagem9.jpg"/>
          <p:cNvPicPr/>
          <p:nvPr/>
        </p:nvPicPr>
        <p:blipFill>
          <a:blip r:embed="rId1"/>
          <a:stretch/>
        </p:blipFill>
        <p:spPr>
          <a:xfrm>
            <a:off x="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Retângulo 4"/>
          <p:cNvSpPr/>
          <p:nvPr/>
        </p:nvSpPr>
        <p:spPr>
          <a:xfrm>
            <a:off x="0" y="1857240"/>
            <a:ext cx="9144000" cy="3357720"/>
          </a:xfrm>
          <a:prstGeom prst="rect">
            <a:avLst/>
          </a:prstGeom>
          <a:solidFill>
            <a:srgbClr val="ffffff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CaixaDeTexto 5"/>
          <p:cNvSpPr/>
          <p:nvPr/>
        </p:nvSpPr>
        <p:spPr>
          <a:xfrm>
            <a:off x="642960" y="2243160"/>
            <a:ext cx="7715160" cy="24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ara alguns, a mensagem de conforto e desconforto se dá na região do plexo solar (estômago). Para a maioria, no entanto, manifesta-se na área do coração. Espere pela resposta, uma resposta física, na forma de sensação, mesmo que seja muito lev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Imagem 2" descr="Imagem11.jpg"/>
          <p:cNvPicPr/>
          <p:nvPr/>
        </p:nvPicPr>
        <p:blipFill>
          <a:blip r:embed="rId1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Retângulo 5"/>
          <p:cNvSpPr/>
          <p:nvPr/>
        </p:nvSpPr>
        <p:spPr>
          <a:xfrm>
            <a:off x="0" y="1857240"/>
            <a:ext cx="9144000" cy="3357720"/>
          </a:xfrm>
          <a:prstGeom prst="rect">
            <a:avLst/>
          </a:prstGeom>
          <a:solidFill>
            <a:srgbClr val="ffffff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CaixaDeTexto 6"/>
          <p:cNvSpPr/>
          <p:nvPr/>
        </p:nvSpPr>
        <p:spPr>
          <a:xfrm>
            <a:off x="642960" y="1928880"/>
            <a:ext cx="7715160" cy="446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Somente o coração conhece a resposta certa. Muita gente acha que o coração é piegas e sentimental. Não é. O coração é intuitivo. É holístico. É contextual. É relacional. Não se orienta por perdas e ganhos. </a:t>
            </a:r>
            <a:r>
              <a:rPr b="1" lang="pt-BR" sz="2300" spc="-1" strike="noStrike">
                <a:solidFill>
                  <a:srgbClr val="000000"/>
                </a:solidFill>
                <a:latin typeface="Calibri"/>
              </a:rPr>
              <a:t>Ele esta conectado ao computador cósmico que leva tudo em conta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Às vezes, pode ate parecer irracional, mas o coração tem uma capacidade mais acurada e muito mais precisa de processar dados do que qualquer outra coisa que exista nos limites do pensamento racional.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alibri"/>
              </a:rPr>
              <a:t>Deepak Chopr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4T22:13:59Z</dcterms:created>
  <dc:creator>Karin</dc:creator>
  <dc:description/>
  <dc:language>en-US</dc:language>
  <cp:lastModifiedBy>Karin</cp:lastModifiedBy>
  <dcterms:modified xsi:type="dcterms:W3CDTF">2010-01-24T22:52:43Z</dcterms:modified>
  <cp:revision>6</cp:revision>
  <dc:subject/>
  <dc:title>Slide 1</dc:title>
</cp:coreProperties>
</file>