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My%20Wa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063-AA2D-47DC-9E5A-C83E9A47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715-DF6E-4BE6-9A4B-88A54B5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2BC-A43B-49A1-A0CF-12E81351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698-B324-4494-AFFD-8EF71FD4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782-D28F-4E97-9FB0-394963A3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5FD-6740-435D-8BB5-ECD27FBA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D9A-A5BA-4281-B828-EC8B6AE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886-1080-42D7-B1ED-84C2CF5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C8C-8DBE-4533-A73C-159B356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7AA-5B1A-4A3E-972C-C6DB369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109-E0AB-4029-9B33-621A08E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E7D-74B7-45E9-858A-50DFFA7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13F-6A70-45F7-B7A0-E02101027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y%20Wa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1557360"/>
            <a:ext cx="6696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RATÉGIAS  MENTAIS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O que você deve fazer de dentro para f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My%20Wa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268280"/>
            <a:ext cx="6840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te mais horas realizando que sonhando, fazendo que planejando, vivendo que esperando, p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ora quem quase morre esteja vivo, quem quase vive já morre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medo nos afasta das derrotas....mas das vitórias também!!!!!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125360"/>
            <a:ext cx="6769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da essa mensagem h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a pode ficar ainda mais bonita quando aplicada nas nossas vidas. Vamos meditar sobre o assunto com muito carin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ha um dia repleto de novas estratégias e muita confianç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162864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r des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16280"/>
            <a:ext cx="2951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úsica: M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2205000"/>
            <a:ext cx="424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tação:  Moacir Mac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125360"/>
            <a:ext cx="69850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Pense sempre, de forma positiva. Toda vez que um pensamento negativo vier à sua cabeça, troque-o por outro! Para isso, é preciso muita disciplina mental. Você não adquire isso do dia para a noite; assim como um “atleta”, treine mu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Não tenha medo de nada e ninguém.                             O medo é uma das maiores causas de nossas perturbações interiores.                                               Tenha fé em você mesmo. Sentir medo é acreditar que os outros são poderosos. Não dê poder ao pró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197000"/>
            <a:ext cx="70563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Não se queixe. Quando você reclama, tal qual um ímã, você atrai para si toda a carga negativa de suas próprias palavras. A maioria das coisas que acabam dando errado, começa a se materializar quando nos lament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981000"/>
            <a:ext cx="72723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Risque a palavra “culpa” do seu dicionário. Não se permita esta sensação, pois quando nos punimos, abrimos nossa retaguarda para espíritos opressores e agressores, que vibram com nossa melancolia. Ignore-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Não deixe que interferências externas tumultuem o seu cotidiano. Livre-se de fofocas, comentários maldosos e gente deprimida. Isto é contagioso. Seja prestativo com quem presta. Sintonize com gente positiva e alto as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907920"/>
            <a:ext cx="6985080" cy="2836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Não se aborreça com facilidade e nem dê importância às pequenas coisas. Quando nos irritamos, envenenamos nosso corpo e nossa mente.          Procure conviver com serenidade e quando tiver vontade de explodir, conte até de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Viva o presente. O ansioso vive no futuro. O rancoroso, vive no passado. Aproveite o aqui e agora. Nada se repete, tudo passa. Faça o seu dia valer a pena. Não perca tempo com melindres e preocupações, pois só trazem doe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1844640"/>
            <a:ext cx="6840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ÉGIAS  MENTAI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 que você deve fazer de fora para den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981000"/>
            <a:ext cx="698508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 água purifica. Sempre que puder vá a praia, rio ou cachoeira. Em casa, enquanto toma banho, embaixo do chuveiro, de olhos fechados, imagine seu cansaço físico e mental e que toda a carga negativa está indo embora por água aba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Ande descalço quando puder, na terra de preferência. Em casa, massageie seus pés com um creme depois de um longo dia de trabalho. Os escalde em água mo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052640"/>
            <a:ext cx="6985080" cy="2692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Mantenha contato com a natureza; tenha em casa um vaso de plantas pelo menos. Cuide dele com carinho. O amor que dedicamos às plantas e animais acalma o ser humano e funciona como relaxante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Ouça músicas que o façam cantar e dançar. Seja qual for o seu estilo preferido, a vibração de uma canção tem o poder de nos fazer sentir vivos , aflorando a nossa emoção e abrindo o nosso canal com aleg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197000"/>
            <a:ext cx="6985080" cy="2051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ão deixe que a saudade sufoque, que a rotina acomode, que o medo o impeça de ten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berte-se!!! Sempre que puder livre-se da rotina e pegue 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rada, nem que seja por um único dia.              Conheça novos lugares e novas pessoas.                   Viva a Vida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41:42Z</dcterms:created>
  <dc:creator>ba</dc:creator>
  <dc:description/>
  <dc:language>en-US</dc:language>
  <cp:lastModifiedBy>ba</cp:lastModifiedBy>
  <dcterms:modified xsi:type="dcterms:W3CDTF">2008-07-14T17:46:58Z</dcterms:modified>
  <cp:revision>1</cp:revision>
  <dc:subject/>
  <dc:title>Slide 1</dc:title>
</cp:coreProperties>
</file>