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Stolen%20Kiss-Ernesto%20Cortazar.wav" ContentType="audio/x-wav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965-E03D-42E1-8353-239CFDE1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0CD-5E1E-4459-89BA-A0F68244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C67-8A5C-43A5-9991-42D8E604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2DA-F711-4ADF-8815-D9851582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4AA-C968-4758-889A-8402B828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63D-3E32-4543-BB61-D71F981D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ED2-1BC4-4B9B-A9FE-E05B7565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4F0-29AF-4755-AE0C-326491BF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4A4-2D32-4CF6-AE78-B449B26C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A70-CE0B-455F-97B5-FD7EC6EA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60C-8E92-42C0-80DB-EED05746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E98-F0CE-4CA5-B46B-F819A06F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43D4-1D7B-45DF-8FC9-A5E667F8A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instituto@flaviogikovate.com.br" TargetMode="External"/><Relationship Id="rId3" Type="http://schemas.openxmlformats.org/officeDocument/2006/relationships/hyperlink" Target="mailto:instituto@flaviogikovate.com.br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tolen%20Kiss-Ernesto%20Cortaza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4000" y="3500280"/>
            <a:ext cx="109692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4437000"/>
            <a:ext cx="6407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xto de </a:t>
            </a:r>
            <a:br>
              <a:rPr sz="2800"/>
            </a:b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::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lávio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Gikovate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édico Psicanal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97480" y="6491160"/>
            <a:ext cx="28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que para passar os sl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5687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 o avanço tecnológico, que exige mais tempo individual, as pessoas estão perdendo o pavor de ficar sozinhas, e aprendendo a conviver melhor consigo mesma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7867" r="0" b="5584"/>
          <a:stretch/>
        </p:blipFill>
        <p:spPr>
          <a:xfrm>
            <a:off x="539640" y="130320"/>
            <a:ext cx="7885080" cy="4451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18151" b="0"/>
          <a:stretch/>
        </p:blipFill>
        <p:spPr>
          <a:xfrm>
            <a:off x="5413320" y="0"/>
            <a:ext cx="37306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57243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as estão começando a perceber que se sentem fração, mas são inteira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 outro, com o qual se estabelece um elo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mbém se sen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ma fraçã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ão é príncipe ou salvador de coisa nenhuma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apenas u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nheiro de viagem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 homem é um animal que vai mudando o mundo e depois tem de ir se reciclando, para se adaptar ao mundo que fabricou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7192" r="0" b="8436"/>
          <a:stretch/>
        </p:blipFill>
        <p:spPr>
          <a:xfrm>
            <a:off x="322200" y="247680"/>
            <a:ext cx="8497800" cy="476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68720" y="547560"/>
            <a:ext cx="4067280" cy="6121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1280" y="87480"/>
            <a:ext cx="51483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stamos entrando na era da individualidade, o que não tem nada a ver com egoísm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 egoísta não tem energia própria; ele se alimenta da energia que vem do outro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ja ela financeir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u moral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260280"/>
            <a:ext cx="500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nova forma de amor, ou mais amor, tem nova feição e significado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sa a aproximação de dois inteiros, e não a união de duas metad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22450" b="0"/>
          <a:stretch/>
        </p:blipFill>
        <p:spPr>
          <a:xfrm>
            <a:off x="322200" y="331920"/>
            <a:ext cx="3241800" cy="619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51280" y="333360"/>
            <a:ext cx="5292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 ela só é possível para aqueles que conseguem trabalhar sua individualidad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anto mais o indivíduo for competente para viver sozinho, mais preparado estará para uma boa relação afetiva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10758" b="0"/>
          <a:stretch/>
        </p:blipFill>
        <p:spPr>
          <a:xfrm>
            <a:off x="177840" y="331920"/>
            <a:ext cx="3673440" cy="619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4360" y="44280"/>
            <a:ext cx="615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solidão é boa, ficar sozinho não é vergonhoso. Ao contrário, dá dignidade à pessoa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boas relações afetivas são ótimas, são muito parecidas com o ficar sozinho, ninguém exige nada de ningué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 ambos crescem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ações de dominação e de concessões exageradas são coisas do século passad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22121" t="0" r="4449" b="0"/>
          <a:stretch/>
        </p:blipFill>
        <p:spPr>
          <a:xfrm>
            <a:off x="108000" y="403200"/>
            <a:ext cx="298764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4704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da cérebro é único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sso modo de pensar e agir não serve de referência para avaliar ningué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itas vezes, pensamos que o outro é nossa alma gêmea e, na verdade, o que fizemos foi inventá-lo ao nosso gost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1066"/>
          <a:stretch/>
        </p:blipFill>
        <p:spPr>
          <a:xfrm>
            <a:off x="900000" y="142920"/>
            <a:ext cx="7056720" cy="335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das as pessoas deveriam ficar sozinhas de vez em quando, para estabelecer um diálogo interno e descobrir sua força pessoa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698508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07664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 solidão, o indivíduo entende que a harmonia e a paz de espírito só podem ser encontradas dentro dele mesmo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 não a partir do outr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19926" r="0" b="0"/>
          <a:stretch/>
        </p:blipFill>
        <p:spPr>
          <a:xfrm>
            <a:off x="1042920" y="260280"/>
            <a:ext cx="7058160" cy="3764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6342" r="0" b="11288"/>
          <a:stretch/>
        </p:blipFill>
        <p:spPr>
          <a:xfrm>
            <a:off x="324000" y="1773360"/>
            <a:ext cx="8532720" cy="468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5280" y="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7200" spc="-1" strike="noStrike">
                <a:solidFill>
                  <a:srgbClr val="ffcc00"/>
                </a:solidFill>
                <a:latin typeface="Times New Roman"/>
              </a:rPr>
              <a:t>Sawabona Shikob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2" name="Stolen%20Kiss-Ernesto%20Cortaza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o perceber isso, ele se torna menos crítico e mais compreensivo quanto às diferenças, respeitando a maneira de ser de cada u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3080" y="219240"/>
            <a:ext cx="7199280" cy="479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6734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 amor de duas pessoas inteir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bem mais saudável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sse tipo de ligação, há o aconchego, o prazer da companh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 o respeito pelo ser amad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5779" r="0" b="9163"/>
          <a:stretch/>
        </p:blipFill>
        <p:spPr>
          <a:xfrm>
            <a:off x="1908000" y="189000"/>
            <a:ext cx="4753080" cy="356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Nem sempre é suficiente ser perdoado por alguém. Algumas vezes tem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de aprender a nos perdoar a nós mesmos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6769080" cy="453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71628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so tenha ficado curioso(a) em saber o significado d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WABON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é um cumprimento usado no sul da África quer dizer: </a:t>
            </a: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“Eu Te respeito, eu te Valoriz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você é importante pra mim”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6430" r="0" b="6390"/>
          <a:stretch/>
        </p:blipFill>
        <p:spPr>
          <a:xfrm>
            <a:off x="1355760" y="187200"/>
            <a:ext cx="60958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899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i="1" lang="en-US" sz="5400" spc="-1" strike="noStrike">
                <a:solidFill>
                  <a:srgbClr val="ffcc00"/>
                </a:solidFill>
                <a:latin typeface="Times New Roman"/>
              </a:rPr>
              <a:t>Então eu existo pra você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01080" cy="4795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-34920" y="-27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 resposta as pessoas dize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KOB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que é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7703"/>
          <a:stretch/>
        </p:blipFill>
        <p:spPr>
          <a:xfrm>
            <a:off x="971640" y="404640"/>
            <a:ext cx="7380360" cy="5689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5920"/>
            <a:ext cx="5148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ão é apenas o avanço tecnológico que marcou o inicio deste milêni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s relações afetivas também estão passando por profundas transformações e revolucionando o conceito de amo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2944" t="0" r="5113" b="0"/>
          <a:stretch/>
        </p:blipFill>
        <p:spPr>
          <a:xfrm>
            <a:off x="5364000" y="189000"/>
            <a:ext cx="345780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-27000"/>
            <a:ext cx="543564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 que se busca hoje é uma relação compatível com os tempos modernos, na qual exista individualidade, respeito, alegria e prazer de estar junto, e não mais uma relação de dependência, em que um responsabiliza o outro pelo seu bem-esta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8989" t="0" r="9739" b="0"/>
          <a:stretch/>
        </p:blipFill>
        <p:spPr>
          <a:xfrm>
            <a:off x="250920" y="331920"/>
            <a:ext cx="3441600" cy="619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641520"/>
            <a:ext cx="5076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idéia de uma pessoa ser o remédio para nossa felicidade, que nasceu com o romantismo, está fadada a desaparecer neste início de sécul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10598" b="0"/>
          <a:stretch/>
        </p:blipFill>
        <p:spPr>
          <a:xfrm>
            <a:off x="281160" y="333360"/>
            <a:ext cx="364320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3360"/>
            <a:ext cx="4788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 amor romântico parte da premissa de que somos uma fração e precisamos encontrar nossa outra metade para nos sentirmos completo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24360" y="260280"/>
            <a:ext cx="428472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333360"/>
            <a:ext cx="52196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itas vezes ocorre até um processo de despersonalização que, historicamente, tem atingido mais a mulhe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a abandona suas características, para se amalgamar ao projeto masculin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0253" t="8011" r="5425" b="0"/>
          <a:stretch/>
        </p:blipFill>
        <p:spPr>
          <a:xfrm>
            <a:off x="144360" y="333360"/>
            <a:ext cx="385128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44280"/>
            <a:ext cx="52927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eoria da ligação entre opostos também vem dessa raiz: o outro tem de saber fazer o que eu não sei. Se sou manso, ele deve ser agressivo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 assim por diant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ma idéia prática de sobrevivência, e pouco romântica, por sinal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5163" t="0" r="0" b="0"/>
          <a:stretch/>
        </p:blipFill>
        <p:spPr>
          <a:xfrm>
            <a:off x="0" y="0"/>
            <a:ext cx="3828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333360"/>
            <a:ext cx="52196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alavra de ordem deste século é parceria. Estamos trocando o amor de necessidade, pelo amor de desej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u gosto e desejo a companhia, mas não preciso, o que é muito diferent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1868" t="0" r="6628" b="0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9:11:12Z</dcterms:created>
  <dc:creator>COMPUTADOR</dc:creator>
  <dc:description/>
  <dc:language>en-US</dc:language>
  <cp:lastModifiedBy>COMPUTADOR</cp:lastModifiedBy>
  <dcterms:modified xsi:type="dcterms:W3CDTF">2007-09-17T19:18:06Z</dcterms:modified>
  <cp:revision>1</cp:revision>
  <dc:subject/>
  <dc:title>Slide 1</dc:title>
</cp:coreProperties>
</file>