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1CA-B17A-44F9-AC89-65794A26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9AA-E832-4476-A24D-3569A363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C4A-F529-4A9F-8F96-5F18C72A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814-6CAB-4698-8D4B-1B02E2C9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F0E-3E45-49BB-984F-B76D43F5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5C4-ED15-4A8D-A196-65E20C56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703-D0C8-4F7C-8FBD-4641ED62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F9E-4CA4-450D-901D-BA555838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561-737F-4637-B5DB-22ACC95A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78D-DFCD-4D48-B1C7-342F181B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68E-D623-49E3-83C6-A344566E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BDA-E7E7-4EBA-80A9-DF1658D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1BBE-7D1A-4366-A42F-B75FD55E2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maravilhosa-lenta181.wav" TargetMode="External"/><Relationship Id="rId4" Type="http://schemas.microsoft.com/office/2007/relationships/media" Target="file:///tmp/home/.config/libreoffice/4/user/gallery/maravilhosa-lenta181.wav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mailto:gaivota.da.paz@uol.com.br" TargetMode="External"/><Relationship Id="rId3" Type="http://schemas.openxmlformats.org/officeDocument/2006/relationships/hyperlink" Target="mailto:gaivota.da.paz@uol.com.br" TargetMode="External"/><Relationship Id="rId4" Type="http://schemas.openxmlformats.org/officeDocument/2006/relationships/hyperlink" Target="mailto:gaivota.da.paz@uol.com.br" TargetMode="External"/><Relationship Id="rId5" Type="http://schemas.openxmlformats.org/officeDocument/2006/relationships/hyperlink" Target="mailto:gaivota.da.paz@uol.com.br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19320"/>
            <a:ext cx="7620120" cy="1572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Mincho"/>
              </a:rPr>
              <a:t>PADRE  FÁBIO  DE  M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Mincho"/>
              </a:rPr>
              <a:t>TECE   COMENTÁRIOS  SO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Mincho"/>
              </a:rPr>
              <a:t>CHIC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4114800"/>
            <a:ext cx="4190760" cy="39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Mincho"/>
              </a:rPr>
              <a:t>WELLINGTON BAL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llington%20B" descr=""/>
          <p:cNvPicPr/>
          <p:nvPr/>
        </p:nvPicPr>
        <p:blipFill>
          <a:blip r:embed="rId2"/>
          <a:stretch/>
        </p:blipFill>
        <p:spPr>
          <a:xfrm>
            <a:off x="6095880" y="327672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228600"/>
            <a:ext cx="36360" cy="3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36360" cy="36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90920" y="380880"/>
            <a:ext cx="365760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Assisti a entrevista que o Padre Fábio de Melo concedeu à jornalista Marília Gabriela no canal SBT - Sistema Brasileiro de Televisão no último domingo, 20/06/201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962520"/>
            <a:ext cx="861048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ntre os inúmeros assuntos abordados, ele narrou um pitoresco fato envolvendo uma fiel que o procurou para falar acerca de um problema gra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A beata estava preocupada com a repercussão do centenário de nascimento do médium Chico Xavi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29000" y="45720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Mincho"/>
              </a:rPr>
              <a:t>Filmes, reportagens e matérias pertinentes à vida do mineiro de Pedro Leopoldo, na opinião da senhora,  exercem perniciosa influência na socie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666880"/>
            <a:ext cx="6477120" cy="39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MS Mincho"/>
              </a:rPr>
              <a:t>O padre Fábio de Melo tranqüilizou-a, afirm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MS Mincho"/>
              </a:rPr>
              <a:t>- Por que levantarmos vozes contra Chico Xavier, uma figura que exemplificou o amor, sensível e que dedicou toda sua vida ao semelhante? Não há razão para isso. Embora eu não seja reencarnacionista, admiro o cidadão Chico Xavier, sua sensibilida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19520" y="304920"/>
            <a:ext cx="6095880" cy="26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Admirável a resposta do padr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O fato de discordar de Chico torna o seu posicionamento ainda mais notável. Fácil admirar quem compartilha nossos ideais. Difícil, no entanto, olhar com generosidade e valorizar aqueles cujo pensamento diverge do nos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276720"/>
            <a:ext cx="7848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Padre Fábio de Melo deixou de lado o rótulo e mergulhou na essência: os exemplos de Chico, um homem Când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80060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A religião que professamos é apenas o rótulo, a essência são nossas atitudes. E negar a grandeza do coração de Chico Xavier é "tapar o sol com a peneira". Aliás, não apenas de Chico, mas de tantos outros missionários da bondad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762120"/>
            <a:ext cx="845820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MS Mincho"/>
              </a:rPr>
              <a:t>Quem em s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consciência pode tecer comentários maldosos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MS Mincho"/>
              </a:rPr>
              <a:t>do evangéli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Martin Luther King ou de Madre Tereza de Calcutá?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MS Mincho"/>
              </a:rPr>
              <a:t>Impossível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são criaturas que deixaram contribuições marcantes no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MS Mincho"/>
              </a:rPr>
              <a:t>campo 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amor e do idealismo, independentemente de suas 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MS Mincho"/>
              </a:rPr>
              <a:t>religi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Não compreendo como há gente que se nega a valorizar as boas atitudes dos outros porque professam a religião A ou B. Trata-se de uma bobagem monumental, parece coisa de criança mimada. Aliás, muitas vezes nem entre confrades existe essa valorização. Uma pena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5680" y="228600"/>
            <a:ext cx="441972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Diferente agiu o padre: mesmo discordando dos princípios da crença de nosso Chico ele afirmou admirar o cidadão Chico Xavier. Quebrou o paradigma, olhou além das diferenças e proporcionou singular lição àquela senhora que alimentava deliberadamente o preconceito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72428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Com sua postura íntegra o Padre Fábio de Melo ganhou um novo admirador. Não poderia, portanto, deixar de registrar a digna atitude do sacerdote a fim de que sigamos seu exemplo de valorizar o trabalho alhe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457200"/>
            <a:ext cx="685800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Imagen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-Gettyim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-Vetton.r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-Internet, sem restrição de 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Courier New"/>
              </a:rPr>
              <a:t>Grupo  Gaiv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Courier New"/>
              </a:rPr>
              <a:t>~Sempre amor para você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Courier New"/>
              </a:rPr>
              <a:t>Distribuição de mensag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Courier New"/>
              </a:rPr>
              <a:t>espíritas, espiritu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Courier New"/>
              </a:rPr>
              <a:t>e de auto-aju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Courier New"/>
              </a:rPr>
              <a:t>Para recebê-las, escreva-n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Courier New"/>
              </a:rPr>
              <a:t>Não é necessário fazer a inscr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Courier New"/>
              </a:rPr>
              <a:t>mais de uma v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791320"/>
            <a:ext cx="3352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ccccff"/>
                </a:solidFill>
                <a:uFillTx/>
                <a:latin typeface="Verdana"/>
                <a:ea typeface="Courier New"/>
                <a:hlinkClick r:id="rId2"/>
              </a:rPr>
              <a:t>gaivota.da.paz@</a:t>
            </a:r>
            <a:r>
              <a:rPr b="0" lang="pt-BR" sz="1600" spc="-1" strike="noStrike" u="sng">
                <a:solidFill>
                  <a:srgbClr val="ccccff"/>
                </a:solidFill>
                <a:uFillTx/>
                <a:latin typeface="Verdana"/>
                <a:ea typeface="Courier New"/>
                <a:hlinkClick r:id="rId3"/>
              </a:rPr>
              <a:t>uol</a:t>
            </a:r>
            <a:r>
              <a:rPr b="0" lang="pt-BR" sz="1600" spc="-1" strike="noStrike" u="sng">
                <a:solidFill>
                  <a:srgbClr val="ccccff"/>
                </a:solidFill>
                <a:uFillTx/>
                <a:latin typeface="Verdana"/>
                <a:ea typeface="Courier New"/>
                <a:hlinkClick r:id="rId4"/>
              </a:rPr>
              <a:t>.com.</a:t>
            </a:r>
            <a:r>
              <a:rPr b="0" lang="pt-BR" sz="1600" spc="-1" strike="noStrike" u="sng">
                <a:solidFill>
                  <a:srgbClr val="ccccff"/>
                </a:solidFill>
                <a:uFillTx/>
                <a:latin typeface="Verdana"/>
                <a:ea typeface="Courier New"/>
                <a:hlinkClick r:id="rId5"/>
              </a:rPr>
              <a:t>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12:24:27Z</dcterms:created>
  <dc:creator>Sistema</dc:creator>
  <dc:description/>
  <dc:language>en-US</dc:language>
  <cp:lastModifiedBy>Edilson</cp:lastModifiedBy>
  <dcterms:modified xsi:type="dcterms:W3CDTF">2010-07-14T19:14:14Z</dcterms:modified>
  <cp:revision>2</cp:revision>
  <dc:subject/>
  <dc:title>Apresentação do PowerPoint</dc:title>
</cp:coreProperties>
</file>