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06%20Our%20Shangri-La.wav" ContentType="audio/x-wav"/>
  <Override PartName="/ppt/media/image1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EFDE-59F1-4732-9D22-C85BA152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208-BB56-4784-8609-736E911D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BDC3-A655-444F-BAB7-1BC6A323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5F34-0677-49DC-A537-6E55D314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B18B-8824-48C8-B9D0-0B328F4D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A22-CEBB-4E42-911A-13425F12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5FC-3188-41F5-8272-4919D81B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979A-E37D-402E-BC94-BC215F5F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F4E-873E-43EF-A09A-19CAA28E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4E0C-DD98-414C-ABA9-55A828BF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C1F-CFCC-49FE-8D47-13307990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A8B-FA73-4385-8CC1-19659E41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03A3-5F42-48D5-BE2F-7BED334659E3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06%20Our%20Shangri-L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Tijdelijke aanduiding voor inhoud 3" descr="Dia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kstvak 5"/>
          <p:cNvSpPr/>
          <p:nvPr/>
        </p:nvSpPr>
        <p:spPr>
          <a:xfrm>
            <a:off x="654120" y="5715000"/>
            <a:ext cx="28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usique – Mark Knopf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Our Shangri -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tângulo 6" descr=""/>
          <p:cNvPicPr/>
          <p:nvPr/>
        </p:nvPicPr>
        <p:blipFill>
          <a:blip r:embed="rId2"/>
          <a:stretch/>
        </p:blipFill>
        <p:spPr>
          <a:xfrm>
            <a:off x="706320" y="835200"/>
            <a:ext cx="7847280" cy="127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  <p:sndAc>
      <p:stSnd>
        <p:snd r:embed="rId3" name="06%20Our%20Shangri-L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Tijdelijke aanduiding voor inhoud 3" descr="Dia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CaixaDeTexto 3"/>
          <p:cNvSpPr/>
          <p:nvPr/>
        </p:nvSpPr>
        <p:spPr>
          <a:xfrm>
            <a:off x="826920" y="692280"/>
            <a:ext cx="6553440" cy="6426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sim, inicia-se uma jornada que pode levar anos até a chegada a um porto seg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Tijdelijke aanduiding voor inhoud 3" descr="Dia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CaixaDeTexto 3"/>
          <p:cNvSpPr/>
          <p:nvPr/>
        </p:nvSpPr>
        <p:spPr>
          <a:xfrm>
            <a:off x="1258920" y="90792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assim começamos a nos conhecer melhor, a escutar nosso coração e a nos desapegar das coisas desnecessá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Tijdelijke aanduiding voor inhoud 3" descr="Dia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CaixaDeTexto 3"/>
          <p:cNvSpPr/>
          <p:nvPr/>
        </p:nvSpPr>
        <p:spPr>
          <a:xfrm>
            <a:off x="395280" y="765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o caminho de volta para c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Tijdelijke aanduiding voor inhoud 3" descr="Dia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CaixaDeTexto 3"/>
          <p:cNvSpPr/>
          <p:nvPr/>
        </p:nvSpPr>
        <p:spPr>
          <a:xfrm>
            <a:off x="684360" y="620640"/>
            <a:ext cx="43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itas vezes silencioso, reflexivo, mas na maioria do tempo questionador daquilo que vale a pe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Tijdelijke aanduiding voor inhoud 3" descr="Dia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CaixaDeTexto 3"/>
          <p:cNvSpPr/>
          <p:nvPr/>
        </p:nvSpPr>
        <p:spPr>
          <a:xfrm>
            <a:off x="1042920" y="765000"/>
            <a:ext cx="5832720" cy="6426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ponto já entendemos que independente da escolha, sempre ganhamos e sempre perd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Tijdelijke aanduiding voor inhoud 3" descr="Dia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ixaDeTexto 3"/>
          <p:cNvSpPr/>
          <p:nvPr/>
        </p:nvSpPr>
        <p:spPr>
          <a:xfrm>
            <a:off x="971640" y="404640"/>
            <a:ext cx="7416720" cy="91692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a lei da polaridade, do yin e do yang, do alto e do baixo, da luz e da escuridão. Para termos equilíbrio precisa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viver com a nossa somb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Tijdelijke aanduiding voor inhoud 5" descr="Dia4.JPG"/>
          <p:cNvPicPr/>
          <p:nvPr/>
        </p:nvPicPr>
        <p:blipFill>
          <a:blip r:embed="rId1"/>
          <a:stretch/>
        </p:blipFill>
        <p:spPr>
          <a:xfrm>
            <a:off x="-285840" y="-214200"/>
            <a:ext cx="9715680" cy="7358040"/>
          </a:xfrm>
          <a:prstGeom prst="rect">
            <a:avLst/>
          </a:prstGeom>
          <a:ln w="0">
            <a:noFill/>
          </a:ln>
        </p:spPr>
      </p:pic>
      <p:sp>
        <p:nvSpPr>
          <p:cNvPr id="89" name="CaixaDeTexto 3"/>
          <p:cNvSpPr/>
          <p:nvPr/>
        </p:nvSpPr>
        <p:spPr>
          <a:xfrm>
            <a:off x="826920" y="836640"/>
            <a:ext cx="28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 também já sabemos, que para evoluir, precisamos nos relacionar cada vez mais uns com os ou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Tijdelijke aanduiding voor inhoud 3" descr="Dia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CaixaDeTexto 3"/>
          <p:cNvSpPr/>
          <p:nvPr/>
        </p:nvSpPr>
        <p:spPr>
          <a:xfrm>
            <a:off x="4356000" y="9079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tudo isso, é preciso clareza em cima do que se está busca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Tijdelijke aanduiding voor inhoud 5" descr="Dia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CaixaDeTexto 3"/>
          <p:cNvSpPr/>
          <p:nvPr/>
        </p:nvSpPr>
        <p:spPr>
          <a:xfrm>
            <a:off x="6084720" y="3213000"/>
            <a:ext cx="2590920" cy="228852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outras palavras, se é alívio financeiro, talvez seja melhor se empenhar mais no trabalho ou trocar de atividade profissional se não estiver satisfeito com seus rendim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Tijdelijke aanduiding voor inhoud 3" descr="Dia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CaixaDeTexto 3"/>
          <p:cNvSpPr/>
          <p:nvPr/>
        </p:nvSpPr>
        <p:spPr>
          <a:xfrm>
            <a:off x="5076720" y="836640"/>
            <a:ext cx="35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o caso for uma desilusão amorosa, uma terapia pode ser mais indi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ijdelijke aanduiding voor inhoud 3" descr="Dia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CaixaDeTexto 3"/>
          <p:cNvSpPr/>
          <p:nvPr/>
        </p:nvSpPr>
        <p:spPr>
          <a:xfrm>
            <a:off x="1187280" y="907920"/>
            <a:ext cx="2232360" cy="14655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os 35, 40 anos, a existência é totalmente voltada para fora: trabalhar, procriar, produz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Tijdelijke aanduiding voor inhoud 3" descr="Dia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CaixaDeTexto 4"/>
          <p:cNvSpPr/>
          <p:nvPr/>
        </p:nvSpPr>
        <p:spPr>
          <a:xfrm>
            <a:off x="900000" y="5516640"/>
            <a:ext cx="7344000" cy="3682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s se a busca for pela espiritualidade, se aquiete, confie e agradeç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Tijdelijke aanduiding voor inhoud 3" descr="Dia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CaixaDeTexto 8"/>
          <p:cNvSpPr/>
          <p:nvPr/>
        </p:nvSpPr>
        <p:spPr>
          <a:xfrm>
            <a:off x="6948360" y="6237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2/07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Tijdelijke aanduiding voor inhoud 3" descr="Dia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CaixaDeTexto 3"/>
          <p:cNvSpPr/>
          <p:nvPr/>
        </p:nvSpPr>
        <p:spPr>
          <a:xfrm>
            <a:off x="1547640" y="5373720"/>
            <a:ext cx="66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segunda metade da vida, começa a jornada para o mundo interno e para a busca de uma espiritualidade mais inten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ijdelijke aanduiding voor inhoud 3" descr="Dia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CaixaDeTexto 3"/>
          <p:cNvSpPr/>
          <p:nvPr/>
        </p:nvSpPr>
        <p:spPr>
          <a:xfrm>
            <a:off x="2340000" y="476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repente, o coração pede uma maior profund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ijdelijke aanduiding voor inhoud 3" descr="Di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3"/>
          <p:cNvSpPr/>
          <p:nvPr/>
        </p:nvSpPr>
        <p:spPr>
          <a:xfrm>
            <a:off x="826920" y="83664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rge o desejo de procurar um outro sentido para a vida e uma conexão com algo ma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Tijdelijke aanduiding voor inhoud 3" descr="Dia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59" name="CaixaDeTexto 3"/>
          <p:cNvSpPr/>
          <p:nvPr/>
        </p:nvSpPr>
        <p:spPr>
          <a:xfrm>
            <a:off x="1979640" y="5732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guindo este forte impulso, nos tornamos buscadores espiritu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Tijdelijke aanduiding voor inhoud 3" descr="Dia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CaixaDeTexto 3"/>
          <p:cNvSpPr/>
          <p:nvPr/>
        </p:nvSpPr>
        <p:spPr>
          <a:xfrm>
            <a:off x="6588000" y="1197000"/>
            <a:ext cx="194472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o trilharmos esses novos caminhos, surgirão riscos e perigos, mas também infinitos presentes e aleg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Tijdelijke aanduiding voor inhoud 3" descr="Di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CaixaDeTexto 4"/>
          <p:cNvSpPr/>
          <p:nvPr/>
        </p:nvSpPr>
        <p:spPr>
          <a:xfrm>
            <a:off x="1187280" y="69228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começo, pode ser algo difuso, um sentimento de que alguma coisa não vai bem. A vida pode estar até boa , mas parece sem sent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Tijdelijke aanduiding voor inhoud 5" descr="Dia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CaixaDeTexto 3"/>
          <p:cNvSpPr/>
          <p:nvPr/>
        </p:nvSpPr>
        <p:spPr>
          <a:xfrm>
            <a:off x="2627280" y="76500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oração clama por mais alívio, paz, alegria, não mais com base no que nos oferece o mundo material, mas a partir de algo mais interno e prof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17:48:28Z</dcterms:created>
  <dc:creator>Jantjebeton</dc:creator>
  <dc:description/>
  <dc:language>en-US</dc:language>
  <cp:lastModifiedBy>Vitor</cp:lastModifiedBy>
  <dcterms:modified xsi:type="dcterms:W3CDTF">2010-09-27T00:14:51Z</dcterms:modified>
  <cp:revision>13</cp:revision>
  <dc:subject>094440</dc:subject>
  <dc:title>Asie</dc:title>
</cp:coreProperties>
</file>