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Krishna%20%20-%20Instruimen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5ECE-8B8E-4606-BFCE-244C4C4B5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543E-5682-453E-9020-710A468BA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D135-03A9-4827-A733-DDFC86093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E45A-8169-404B-A3F1-9F9651F1C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3574-29FB-496C-B555-4BF326AD8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F4F4-F2A9-4A30-AC9E-62F126C4A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0C11-51AD-4C71-B00F-CA2C73947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6E03-8B69-4675-B8D3-478E8ED30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A35F-A3EA-48D3-8BC7-743A39D38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B45B-804A-4BEC-BC12-E30CEE80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64BE-1E8E-4C3B-B397-D53C06DD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621A-7173-481E-A17C-1D49943B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ABE8D-30D8-48CA-BC1E-9940A36257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Krishna%20%20-%20Instruimen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869000"/>
            <a:ext cx="9144000" cy="1989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59280" y="5084640"/>
            <a:ext cx="2881080" cy="15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108000" y="0"/>
            <a:ext cx="9433080" cy="4927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059280" y="4869000"/>
            <a:ext cx="3241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Blackadder ITC"/>
              </a:rPr>
              <a:t>     </a:t>
            </a:r>
            <a:r>
              <a:rPr b="0" lang="pt-BR" sz="2800" spc="-1" strike="noStrike">
                <a:solidFill>
                  <a:srgbClr val="000000"/>
                </a:solidFill>
                <a:latin typeface="Blackadder ITC"/>
              </a:rPr>
              <a:t>O</a:t>
            </a:r>
            <a:r>
              <a:rPr b="0" lang="pt-BR" sz="4000" spc="-1" strike="noStrike">
                <a:solidFill>
                  <a:srgbClr val="000000"/>
                </a:solidFill>
                <a:latin typeface="Blackadder ITC"/>
              </a:rPr>
              <a:t>                   </a:t>
            </a:r>
            <a:r>
              <a:rPr b="1" lang="pt-BR" sz="4000" spc="-1" strike="noStrike" u="sng">
                <a:solidFill>
                  <a:srgbClr val="000000"/>
                </a:solidFill>
                <a:uFillTx/>
                <a:latin typeface="Blackadder ITC"/>
              </a:rPr>
              <a:t>Bhagavad Gi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6308640"/>
            <a:ext cx="38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Bradley Hand ITC"/>
              </a:rPr>
              <a:t>A Canção Divina de De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164360" y="632304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Bradley Hand ITC"/>
              </a:rPr>
              <a:t>Tradução  Wilm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8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3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75232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860400"/>
            <a:ext cx="80769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pt-BR" sz="2800" spc="-1" strike="noStrike">
                <a:solidFill>
                  <a:srgbClr val="ffffff"/>
                </a:solidFill>
                <a:latin typeface="Forte"/>
              </a:rPr>
              <a:t>A mudança é a lei do universo. </a:t>
            </a:r>
            <a:br>
              <a:rPr sz="2800"/>
            </a:br>
            <a:r>
              <a:rPr b="1" lang="pt-BR" sz="2800" spc="-1" strike="noStrike">
                <a:solidFill>
                  <a:srgbClr val="ffffff"/>
                </a:solidFill>
                <a:latin typeface="Forte"/>
              </a:rPr>
              <a:t>O que tu consideras como morte, </a:t>
            </a:r>
            <a:br>
              <a:rPr sz="2800"/>
            </a:br>
            <a:r>
              <a:rPr b="1" lang="pt-BR" sz="2800" spc="-1" strike="noStrike">
                <a:solidFill>
                  <a:srgbClr val="ffffff"/>
                </a:solidFill>
                <a:latin typeface="Forte"/>
              </a:rPr>
              <a:t>É, na realidade, a vida. </a:t>
            </a:r>
            <a:br>
              <a:rPr sz="2800"/>
            </a:br>
            <a:br>
              <a:rPr sz="2800"/>
            </a:br>
            <a:r>
              <a:rPr b="1" lang="pt-BR" sz="2800" spc="-1" strike="noStrike">
                <a:solidFill>
                  <a:srgbClr val="ffffff"/>
                </a:solidFill>
                <a:latin typeface="Forte"/>
              </a:rPr>
              <a:t>Em qualquer momento tu podes </a:t>
            </a:r>
            <a:br>
              <a:rPr sz="2800"/>
            </a:br>
            <a:r>
              <a:rPr b="1" lang="pt-BR" sz="2800" spc="-1" strike="noStrike">
                <a:solidFill>
                  <a:srgbClr val="ffffff"/>
                </a:solidFill>
                <a:latin typeface="Forte"/>
              </a:rPr>
              <a:t>ser um milionário </a:t>
            </a:r>
            <a:br>
              <a:rPr sz="2800"/>
            </a:br>
            <a:r>
              <a:rPr b="1" lang="pt-BR" sz="2800" spc="-1" strike="noStrike">
                <a:solidFill>
                  <a:srgbClr val="ffffff"/>
                </a:solidFill>
                <a:latin typeface="Forte"/>
              </a:rPr>
              <a:t>e, no seguinte, podes </a:t>
            </a:r>
            <a:br>
              <a:rPr sz="2800"/>
            </a:br>
            <a:r>
              <a:rPr b="1" lang="pt-BR" sz="2800" spc="-1" strike="noStrike">
                <a:solidFill>
                  <a:srgbClr val="ffffff"/>
                </a:solidFill>
                <a:latin typeface="Forte"/>
              </a:rPr>
              <a:t>cair em pobrez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715000" y="3808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021040" y="-3240"/>
            <a:ext cx="510192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28600" y="3808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800280"/>
            <a:ext cx="864216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orte"/>
              </a:rPr>
              <a:t>Teus e meus, grandes e pequenos </a:t>
            </a: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Forte"/>
              </a:rPr>
              <a:t>Apagues essas idéias de tua mente. </a:t>
            </a:r>
            <a:br>
              <a:rPr sz="2800"/>
            </a:b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Forte"/>
              </a:rPr>
              <a:t>Então, tudo te pertencerá e </a:t>
            </a: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Forte"/>
              </a:rPr>
              <a:t>todos serão donos. </a:t>
            </a: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Forte"/>
              </a:rPr>
              <a:t>Esse corpo te pertence, </a:t>
            </a: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Forte"/>
              </a:rPr>
              <a:t>Também tu não és desse corpo. </a:t>
            </a:r>
            <a:br>
              <a:rPr sz="2800"/>
            </a:b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Forte"/>
              </a:rPr>
              <a:t>O corpo é feito de fogo, água, ar, terra e ete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orte"/>
              </a:rPr>
              <a:t>E retornará pára esses elementos. </a:t>
            </a: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Forte"/>
              </a:rPr>
              <a:t>Mas a alma é permanente - então quem és t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334120" y="5335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048040" y="0"/>
            <a:ext cx="508608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082520"/>
            <a:ext cx="83822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Forte"/>
              </a:rPr>
              <a:t>Dediques teu ser a Deus. </a:t>
            </a:r>
            <a:br>
              <a:rPr sz="2800"/>
            </a:br>
            <a:r>
              <a:rPr b="1" lang="pt-BR" sz="2800" spc="-1" strike="noStrike">
                <a:solidFill>
                  <a:srgbClr val="ffffff"/>
                </a:solidFill>
                <a:latin typeface="Forte"/>
              </a:rPr>
              <a:t>Ele é o único em quem se deve confiar. </a:t>
            </a:r>
            <a:br>
              <a:rPr sz="2800"/>
            </a:br>
            <a:r>
              <a:rPr b="1" lang="pt-BR" sz="2800" spc="-1" strike="noStrike">
                <a:solidFill>
                  <a:srgbClr val="ffffff"/>
                </a:solidFill>
                <a:latin typeface="Forte"/>
              </a:rPr>
              <a:t>Aqueles que conhecem esta verdade são para sempre </a:t>
            </a:r>
            <a:br>
              <a:rPr sz="2800"/>
            </a:br>
            <a:r>
              <a:rPr b="1" lang="pt-BR" sz="2800" spc="-1" strike="noStrike">
                <a:solidFill>
                  <a:srgbClr val="ffffff"/>
                </a:solidFill>
                <a:latin typeface="Forte"/>
              </a:rPr>
              <a:t>livres do medo, preocupação e dor. </a:t>
            </a:r>
            <a:br>
              <a:rPr sz="2800"/>
            </a:br>
            <a:br>
              <a:rPr sz="2800"/>
            </a:br>
            <a:r>
              <a:rPr b="1" lang="pt-BR" sz="2800" spc="-1" strike="noStrike">
                <a:solidFill>
                  <a:srgbClr val="ffffff"/>
                </a:solidFill>
                <a:latin typeface="Forte"/>
              </a:rPr>
              <a:t>Aconteça o que acontecer, </a:t>
            </a:r>
            <a:br>
              <a:rPr sz="2800"/>
            </a:br>
            <a:r>
              <a:rPr b="1" lang="pt-BR" sz="2800" spc="-1" strike="noStrike">
                <a:solidFill>
                  <a:srgbClr val="ffffff"/>
                </a:solidFill>
                <a:latin typeface="Forte"/>
              </a:rPr>
              <a:t>Faças como uma oferta a Deus. </a:t>
            </a:r>
            <a:br>
              <a:rPr sz="2800"/>
            </a:br>
            <a:r>
              <a:rPr b="1" lang="pt-BR" sz="2800" spc="-1" strike="noStrike">
                <a:solidFill>
                  <a:srgbClr val="ffffff"/>
                </a:solidFill>
                <a:latin typeface="Forte"/>
              </a:rPr>
              <a:t>Isso te levará </a:t>
            </a:r>
            <a:br>
              <a:rPr sz="2800"/>
            </a:br>
            <a:r>
              <a:rPr b="1" lang="pt-BR" sz="2800" spc="-1" strike="noStrike">
                <a:solidFill>
                  <a:srgbClr val="ffffff"/>
                </a:solidFill>
                <a:latin typeface="Forte"/>
              </a:rPr>
              <a:t>A experimentar da </a:t>
            </a:r>
            <a:br>
              <a:rPr sz="2800"/>
            </a:br>
            <a:r>
              <a:rPr b="1" lang="pt-BR" sz="2800" spc="-1" strike="noStrike">
                <a:solidFill>
                  <a:srgbClr val="ffffff"/>
                </a:solidFill>
                <a:latin typeface="Forte"/>
              </a:rPr>
              <a:t>alegria, da liberdade e da vida para sempre.</a:t>
            </a:r>
            <a:r>
              <a:rPr b="0" lang="pt-BR" sz="2800" spc="-1" strike="noStrike">
                <a:solidFill>
                  <a:srgbClr val="ffffff"/>
                </a:solidFill>
                <a:latin typeface="Fort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019920" y="8380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708200" y="0"/>
            <a:ext cx="5727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130176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ffffff"/>
                </a:solidFill>
                <a:latin typeface="Forte"/>
              </a:rPr>
              <a:t>Obrigado pela leitura, </a:t>
            </a:r>
            <a:br>
              <a:rPr sz="5400"/>
            </a:br>
            <a:r>
              <a:rPr b="0" lang="pt-BR" sz="5400" spc="-1" strike="noStrike">
                <a:solidFill>
                  <a:srgbClr val="ffffff"/>
                </a:solidFill>
                <a:latin typeface="Forte"/>
              </a:rPr>
              <a:t>Tente, honestamente, </a:t>
            </a:r>
            <a:br>
              <a:rPr sz="5400"/>
            </a:br>
            <a:r>
              <a:rPr b="0" lang="pt-BR" sz="5400" spc="-1" strike="noStrike">
                <a:solidFill>
                  <a:srgbClr val="ffffff"/>
                </a:solidFill>
                <a:latin typeface="Forte"/>
              </a:rPr>
              <a:t>aplicar, em tua vida diária.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5924520"/>
            <a:ext cx="91440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or favor, compartilhe esta apresentação com teus ami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4478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63640" y="735120"/>
            <a:ext cx="5832720" cy="62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orte"/>
              </a:rPr>
              <a:t>Por que te preocupas sem motivo? </a:t>
            </a: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Forte"/>
              </a:rPr>
              <a:t>A quem temes, sem razão? </a:t>
            </a: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Forte"/>
              </a:rPr>
              <a:t>Quem poderia te matar? </a:t>
            </a: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Forte"/>
              </a:rPr>
              <a:t>A alma não nasce, nem morre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orte"/>
              </a:rPr>
              <a:t>Qualquer coisa que aconteça, </a:t>
            </a: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Forte"/>
              </a:rPr>
              <a:t>Acontecerá para seu bem; </a:t>
            </a: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Forte"/>
              </a:rPr>
              <a:t>O que está acontecendo, </a:t>
            </a: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Forte"/>
              </a:rPr>
              <a:t>Está acontecendo para o seu bem; </a:t>
            </a: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Forte"/>
              </a:rPr>
              <a:t>O que vai acontecer, </a:t>
            </a: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Forte"/>
              </a:rPr>
              <a:t>Também acontecerá para o be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943600" y="380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9640" y="-6480"/>
            <a:ext cx="806472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447920"/>
            <a:ext cx="83822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orte"/>
              </a:rPr>
              <a:t>Não deves lamentar pelo passado. </a:t>
            </a: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Forte"/>
              </a:rPr>
              <a:t>Não deves te preocupar com o futuro. </a:t>
            </a: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Forte"/>
              </a:rPr>
              <a:t>O presente está acontecendo ... </a:t>
            </a: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Forte"/>
              </a:rPr>
              <a:t>Que perda te faz chorar? </a:t>
            </a:r>
            <a:br>
              <a:rPr sz="2800"/>
            </a:b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Forte"/>
              </a:rPr>
              <a:t>Que trouxestes contigo, </a:t>
            </a: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Forte"/>
              </a:rPr>
              <a:t>E que achas que perdes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4120" y="1600200"/>
            <a:ext cx="350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39640" y="1440"/>
            <a:ext cx="806472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189000"/>
            <a:ext cx="57592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orte"/>
              </a:rPr>
              <a:t>O que produzistes, </a:t>
            </a: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Forte"/>
              </a:rPr>
              <a:t>O que achas que foi destruído? </a:t>
            </a:r>
            <a:br>
              <a:rPr sz="2800"/>
            </a:b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Forte"/>
              </a:rPr>
              <a:t>Não destes nada, </a:t>
            </a: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Forte"/>
              </a:rPr>
              <a:t>Não trouxestes nada contigo, </a:t>
            </a: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Forte"/>
              </a:rPr>
              <a:t>qualquer coisa que possuas, recebestes aqui. </a:t>
            </a:r>
            <a:br>
              <a:rPr sz="2800"/>
            </a:b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Forte"/>
              </a:rPr>
              <a:t>Qualquer coisa que tomastes, foi tomada de Deus. </a:t>
            </a: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Forte"/>
              </a:rPr>
              <a:t>Tudo o que seja que tenham te dado, Ele te deu </a:t>
            </a: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Forte"/>
              </a:rPr>
              <a:t>Chegastes de mãos vazias, </a:t>
            </a: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Forte"/>
              </a:rPr>
              <a:t>E voltaras de mãos vazi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55640" y="-7920"/>
            <a:ext cx="756144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504800"/>
            <a:ext cx="8458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Forte"/>
              </a:rPr>
              <a:t>Tudo que tens hoje, </a:t>
            </a:r>
            <a:br>
              <a:rPr sz="2800"/>
            </a:br>
            <a:r>
              <a:rPr b="1" lang="pt-BR" sz="2800" spc="-1" strike="noStrike">
                <a:solidFill>
                  <a:srgbClr val="ffffff"/>
                </a:solidFill>
                <a:latin typeface="Forte"/>
              </a:rPr>
              <a:t>pertencia a outra pessoa ontem,                                                                                       e pertencerá a outra no dia de amanhã. </a:t>
            </a:r>
            <a:br>
              <a:rPr sz="2800"/>
            </a:br>
            <a:r>
              <a:rPr b="1" lang="pt-BR" sz="2800" spc="-1" strike="noStrike">
                <a:solidFill>
                  <a:srgbClr val="ffffff"/>
                </a:solidFill>
                <a:latin typeface="Forte"/>
              </a:rPr>
              <a:t>Erradamente desfrutastes da idéia </a:t>
            </a:r>
            <a:br>
              <a:rPr sz="2800"/>
            </a:br>
            <a:r>
              <a:rPr b="1" lang="pt-BR" sz="2800" spc="-1" strike="noStrike">
                <a:solidFill>
                  <a:srgbClr val="ffffff"/>
                </a:solidFill>
                <a:latin typeface="Forte"/>
              </a:rPr>
              <a:t>que isso te pertence. </a:t>
            </a:r>
            <a:br>
              <a:rPr sz="2800"/>
            </a:br>
            <a:br>
              <a:rPr sz="2800"/>
            </a:br>
            <a:r>
              <a:rPr b="1" lang="pt-BR" sz="2800" spc="-1" strike="noStrike">
                <a:solidFill>
                  <a:srgbClr val="ffffff"/>
                </a:solidFill>
                <a:latin typeface="Forte"/>
              </a:rPr>
              <a:t>É esta falsa felicidade </a:t>
            </a:r>
            <a:br>
              <a:rPr sz="2800"/>
            </a:br>
            <a:r>
              <a:rPr b="1" lang="pt-BR" sz="2800" spc="-1" strike="noStrike">
                <a:solidFill>
                  <a:srgbClr val="ffffff"/>
                </a:solidFill>
                <a:latin typeface="Forte"/>
              </a:rPr>
              <a:t>a causa de seus sofrimen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5T14:26:37Z</dcterms:created>
  <dc:creator>Recopilado por Harshad Maniar</dc:creator>
  <dc:description/>
  <dc:language>en-US</dc:language>
  <cp:lastModifiedBy>Usuario</cp:lastModifiedBy>
  <dcterms:modified xsi:type="dcterms:W3CDTF">2009-09-07T19:20:19Z</dcterms:modified>
  <cp:revision>86</cp:revision>
  <dc:subject>El Gita simplificado</dc:subject>
  <dc:title>PowerPoint Presentation</dc:title>
</cp:coreProperties>
</file>