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Richard%20Clayderman-Outra%20vez.wav" ContentType="audio/x-wav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7907-19B6-4D35-AAC7-DBC28A18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E8CF-DEE0-4606-AF60-B4F45431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F408-BF36-4564-A848-71B8E1DE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F8B4-4A42-4261-9E1F-E1F56CE2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B5A-1104-41CC-8606-5EFE7086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E65A-3663-426C-8489-831E92B6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084-ADA3-49E4-BF15-D9F1AF1A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FF78-E46C-4184-AEDA-EA03F76D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FD43-832D-407E-80FF-A6450CB3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D4B-E152-4DBF-8F94-783D4E15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3B71-C9AC-4446-9BFC-CC30385B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C2EE-8C51-472F-8AD2-04643AE4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F22D-826D-4A76-BFD0-8CCED2587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Richard%20Clayderman-Outra%20vez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12"/>
          <p:cNvPicPr/>
          <p:nvPr/>
        </p:nvPicPr>
        <p:blipFill>
          <a:blip r:embed="rId1"/>
          <a:stretch/>
        </p:blipFill>
        <p:spPr>
          <a:xfrm>
            <a:off x="2340000" y="981000"/>
            <a:ext cx="4321080" cy="446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544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Narrow"/>
              </a:rPr>
              <a:t>Mario Benedet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611280" y="4365720"/>
            <a:ext cx="79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Gosto de gente que pensa e medita  internamente.  De gente que valoriza seus semelhantes, não por um estereótipo social, nem como se apresenta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e gente que não julga, nem deixa que outros julgu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Gosta de gente que tem personali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771640" y="1628640"/>
            <a:ext cx="3672000" cy="2592360"/>
          </a:xfrm>
          <a:prstGeom prst="rect">
            <a:avLst/>
          </a:prstGeom>
          <a:solidFill>
            <a:srgbClr val="000000">
              <a:alpha val="90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image010101011"/>
          <p:cNvPicPr/>
          <p:nvPr/>
        </p:nvPicPr>
        <p:blipFill>
          <a:blip r:embed="rId1"/>
          <a:stretch/>
        </p:blipFill>
        <p:spPr>
          <a:xfrm>
            <a:off x="2843280" y="1700280"/>
            <a:ext cx="355608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611280" y="4724280"/>
            <a:ext cx="799308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Me encanta gente que é capaz de entender que o maior erro do ser humano é tentar arrancar da cabeça aquilo que não sai do coraçã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771640" y="1628640"/>
            <a:ext cx="3672000" cy="2592360"/>
          </a:xfrm>
          <a:prstGeom prst="rect">
            <a:avLst/>
          </a:prstGeom>
          <a:solidFill>
            <a:srgbClr val="000000">
              <a:alpha val="90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image011111112"/>
          <p:cNvPicPr/>
          <p:nvPr/>
        </p:nvPicPr>
        <p:blipFill>
          <a:blip r:embed="rId1"/>
          <a:stretch/>
        </p:blipFill>
        <p:spPr>
          <a:xfrm>
            <a:off x="2843280" y="1700280"/>
            <a:ext cx="355608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11280" y="465300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 sensibilidade, a coragem, a solidariedade, a bondade, o respeito, a tranqüilidade, os valores, a alegria, a humildade, a fé, a felicidade, o tato, a confiança, a esperança, o agradecimento, a sabedoria, os sonhos, o arrependimento, e o amor para com os demais e consigo próprio são coisas fundamentais para se chamar G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2771640" y="1628640"/>
            <a:ext cx="3672000" cy="2592360"/>
          </a:xfrm>
          <a:prstGeom prst="rect">
            <a:avLst/>
          </a:prstGeom>
          <a:solidFill>
            <a:srgbClr val="000000">
              <a:alpha val="90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image012121213"/>
          <p:cNvPicPr/>
          <p:nvPr/>
        </p:nvPicPr>
        <p:blipFill>
          <a:blip r:embed="rId1"/>
          <a:stretch/>
        </p:blipFill>
        <p:spPr>
          <a:xfrm>
            <a:off x="2843280" y="1700280"/>
            <a:ext cx="355608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611280" y="4581360"/>
            <a:ext cx="79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m gente como essa, me comprometo, para o que seja, pelo resto de minha vida... já que, por tê-los junto de mim, me dou por bem retribuíd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BRIGADO POR SER PARTE DESSA GE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771640" y="1628640"/>
            <a:ext cx="3672000" cy="2592360"/>
          </a:xfrm>
          <a:prstGeom prst="rect">
            <a:avLst/>
          </a:prstGeom>
          <a:solidFill>
            <a:srgbClr val="000000">
              <a:alpha val="90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image013131314"/>
          <p:cNvPicPr/>
          <p:nvPr/>
        </p:nvPicPr>
        <p:blipFill>
          <a:blip r:embed="rId1"/>
          <a:stretch/>
        </p:blipFill>
        <p:spPr>
          <a:xfrm>
            <a:off x="2843280" y="1700280"/>
            <a:ext cx="355608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611280" y="549360"/>
            <a:ext cx="7993080" cy="67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mpossível ganhar sem saber perd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mpossível andar sem saber c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mpossível acertar sem saber err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mpossível viver sem saber revi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 glória não consiste em não cair nunca, mas em     levantar-se todas as vezes que seja necessá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 ISSO É ALGO QUE MUITO POUCA GENTE TEM O PRIVILEGIO DE PODER EXPERIMEN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em aventurados aqueles que já conseguiram receber com a mesma naturalidade o ganhar e o perder, o acerto e o erro, o triunfo e a derrot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187280" y="2781360"/>
            <a:ext cx="66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OR FAVOR, REENVIE ESSA MENSAGEM SOMENTE PARA GENTE QUE MEREÇA CHAMAR-SE G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2997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Narrow"/>
              </a:rPr>
              <a:t>DA GENTE QUE EU GOST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/>
    <p:sndAc>
      <p:stSnd>
        <p:snd r:embed="rId1" name="Richard%20Clayderman-Outra%20vez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11280" y="436572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u gosto de gente que vibra, que não tem de ser empurrada, que não se tem de dizer que faça as coisas, mas que sabe o que tem que fazer e que faz. Gente que cultiva seus sonhos até que esses sonhos se apoderam de sua própria reali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2771640" y="1628640"/>
            <a:ext cx="3672000" cy="2592360"/>
          </a:xfrm>
          <a:prstGeom prst="rect">
            <a:avLst/>
          </a:prstGeom>
          <a:solidFill>
            <a:srgbClr val="000000">
              <a:alpha val="90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image003334"/>
          <p:cNvPicPr/>
          <p:nvPr/>
        </p:nvPicPr>
        <p:blipFill>
          <a:blip r:embed="rId1"/>
          <a:stretch/>
        </p:blipFill>
        <p:spPr>
          <a:xfrm>
            <a:off x="2843280" y="1700280"/>
            <a:ext cx="3529080" cy="244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image001112"/>
          <p:cNvPicPr/>
          <p:nvPr/>
        </p:nvPicPr>
        <p:blipFill>
          <a:blip r:embed="rId2"/>
          <a:stretch/>
        </p:blipFill>
        <p:spPr>
          <a:xfrm>
            <a:off x="2843280" y="1700280"/>
            <a:ext cx="355608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611280" y="4508640"/>
            <a:ext cx="799308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u gosto de gente com capacidade para assumir as conseqüências de suas ações, de gente que arrisca o certo pelo incerto para ir atrás de um sonho, que se permite, abandona os conselhos sensatos deixando as soluções nas mãos de D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771640" y="1628640"/>
            <a:ext cx="3672000" cy="2592360"/>
          </a:xfrm>
          <a:prstGeom prst="rect">
            <a:avLst/>
          </a:prstGeom>
          <a:solidFill>
            <a:srgbClr val="000000">
              <a:alpha val="90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image003334"/>
          <p:cNvPicPr/>
          <p:nvPr/>
        </p:nvPicPr>
        <p:blipFill>
          <a:blip r:embed="rId1"/>
          <a:stretch/>
        </p:blipFill>
        <p:spPr>
          <a:xfrm>
            <a:off x="2843280" y="1700280"/>
            <a:ext cx="352908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11280" y="4437000"/>
            <a:ext cx="799308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Gosto de gente que é justa com sua gente e consigo mesma, da gente que agradece o novo dia, as coisas boas que existem em sua vida, que vive cada hora com bom animo dando o melhor de si, agradecido de estar vivo, de poder distribuir sorrisos, de oferecer suas mãos e ajudar generosamente sem esperar nada em troca.</a:t>
            </a: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771640" y="1628640"/>
            <a:ext cx="3672000" cy="2592360"/>
          </a:xfrm>
          <a:prstGeom prst="rect">
            <a:avLst/>
          </a:prstGeom>
          <a:solidFill>
            <a:srgbClr val="000000">
              <a:alpha val="90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image004445"/>
          <p:cNvPicPr/>
          <p:nvPr/>
        </p:nvPicPr>
        <p:blipFill>
          <a:blip r:embed="rId1"/>
          <a:stretch/>
        </p:blipFill>
        <p:spPr>
          <a:xfrm>
            <a:off x="2843280" y="1700280"/>
            <a:ext cx="3556080" cy="244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image0099910"/>
          <p:cNvPicPr/>
          <p:nvPr/>
        </p:nvPicPr>
        <p:blipFill>
          <a:blip r:embed="rId2"/>
          <a:stretch/>
        </p:blipFill>
        <p:spPr>
          <a:xfrm>
            <a:off x="2843280" y="1677960"/>
            <a:ext cx="355608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11280" y="4392720"/>
            <a:ext cx="7993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u gosto de gente capaz de me criticar construtivamente e de frente, mas sem me lastimar ou me ferir. De gente que tem ta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Gosto de gente que possui sentido de justiç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 estes chamo de meus am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771640" y="1628640"/>
            <a:ext cx="3672000" cy="2592360"/>
          </a:xfrm>
          <a:prstGeom prst="rect">
            <a:avLst/>
          </a:prstGeom>
          <a:solidFill>
            <a:srgbClr val="000000">
              <a:alpha val="90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image005556"/>
          <p:cNvPicPr/>
          <p:nvPr/>
        </p:nvPicPr>
        <p:blipFill>
          <a:blip r:embed="rId1"/>
          <a:stretch/>
        </p:blipFill>
        <p:spPr>
          <a:xfrm>
            <a:off x="2843280" y="1700280"/>
            <a:ext cx="355608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95280" y="4653000"/>
            <a:ext cx="8748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osto de  gente que sabe a importância da alegria e a prat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De gente que por meio de piadas nos ensina a conceber a vida com hum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                         </a:t>
            </a: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De gente que nunca deixa de ser animada.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                     </a:t>
            </a: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Gosto de gente que nos contagia com sua energ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771640" y="1628640"/>
            <a:ext cx="3672000" cy="2592360"/>
          </a:xfrm>
          <a:prstGeom prst="rect">
            <a:avLst/>
          </a:prstGeom>
          <a:solidFill>
            <a:srgbClr val="000000">
              <a:alpha val="90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image007778"/>
          <p:cNvPicPr/>
          <p:nvPr/>
        </p:nvPicPr>
        <p:blipFill>
          <a:blip r:embed="rId1"/>
          <a:stretch/>
        </p:blipFill>
        <p:spPr>
          <a:xfrm>
            <a:off x="2843280" y="1700280"/>
            <a:ext cx="355608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500040" y="472428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Gosto de gente sincera e franca, capaz de se opor com argumentos razoáveis a qualquer decis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Gosto de gente fiel e persistente, que não descansa quando se trata de alcançar objetivos e idéi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771640" y="1628640"/>
            <a:ext cx="3672000" cy="2592360"/>
          </a:xfrm>
          <a:prstGeom prst="rect">
            <a:avLst/>
          </a:prstGeom>
          <a:solidFill>
            <a:srgbClr val="000000">
              <a:alpha val="90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image008889"/>
          <p:cNvPicPr/>
          <p:nvPr/>
        </p:nvPicPr>
        <p:blipFill>
          <a:blip r:embed="rId1"/>
          <a:stretch/>
        </p:blipFill>
        <p:spPr>
          <a:xfrm>
            <a:off x="2843280" y="1700280"/>
            <a:ext cx="355608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24000" y="4221000"/>
            <a:ext cx="85690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Me encanta gente de critério, que não se envergonha em reconhecer que se equivocou ou que não sabe alg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De gente que, ao aceitar seus erros, se esforça  genuinamente por não voltar a  cometê-l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De gente que luta contra adversidades. Gosto de gente que busca solu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771640" y="1628640"/>
            <a:ext cx="3672000" cy="2592360"/>
          </a:xfrm>
          <a:prstGeom prst="rect">
            <a:avLst/>
          </a:prstGeom>
          <a:solidFill>
            <a:srgbClr val="000000">
              <a:alpha val="90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image0099910"/>
          <p:cNvPicPr/>
          <p:nvPr/>
        </p:nvPicPr>
        <p:blipFill>
          <a:blip r:embed="rId1"/>
          <a:stretch/>
        </p:blipFill>
        <p:spPr>
          <a:xfrm>
            <a:off x="2843280" y="1700280"/>
            <a:ext cx="3556080" cy="244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image004445"/>
          <p:cNvPicPr/>
          <p:nvPr/>
        </p:nvPicPr>
        <p:blipFill>
          <a:blip r:embed="rId2"/>
          <a:stretch/>
        </p:blipFill>
        <p:spPr>
          <a:xfrm>
            <a:off x="2843280" y="1700280"/>
            <a:ext cx="355608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2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18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5:29:14Z</dcterms:created>
  <dc:creator>lucas marsoto</dc:creator>
  <dc:description>Por favor, não retire os créditos.
Para se tornar um associado envie uma mensagem para:
tempo_de_germinar-subscribe@yahoogrupos.com.br</dc:description>
  <dc:language>en-US</dc:language>
  <cp:lastModifiedBy>Lúcia Brandão</cp:lastModifiedBy>
  <dcterms:modified xsi:type="dcterms:W3CDTF">2009-09-10T19:40:57Z</dcterms:modified>
  <cp:revision>38</cp:revision>
  <dc:subject/>
  <dc:title>mario benedett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Recebido de">
    <vt:lpwstr>Doris</vt:lpwstr>
  </property>
</Properties>
</file>