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08E-AEC7-48B9-A92B-A1622B82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8C6-0681-4A47-985D-B92E628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3AB-16B2-436E-B4B5-5E9581C0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D3-C1F8-4BD7-9DBC-B64FEE63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7A8-E22B-4AB1-B707-3E9B2481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021-ED39-4E76-8CA7-FE717B9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883-7FF8-42EF-B4E5-92DDB5A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839-1FC2-41ED-94F7-FF3B9E8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AD8-4897-4F6F-B483-767ED83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377-D81A-43D3-B7E4-BBA4A39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B65-99B9-4644-B5C7-758BAEDA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0D0-18B1-4591-A6F3-1B4885C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D50-0224-4FAE-A06F-F9A05062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620640"/>
            <a:ext cx="813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us problemas acabaram"...heh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anda muito nervoso (a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ntade de estrangular algué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s problemas podem estar perto do f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be aquele plástico cheio de bolhas de ar, que é ótimo pra se ficar estourando continuament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is é... agora existe um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são PP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a ótima maneira de se acalma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 do que Maracujina ou Flora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rápido que Lexota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muito mais barato que psiquiatr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o Plástico Bolha ! Agora em versão eletrônic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só clicar -  divirta-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8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39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36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5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7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6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8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92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6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ShockwaveFlash1"/>
          <p:cNvGraphicFramePr/>
          <p:nvPr/>
        </p:nvGraphicFramePr>
        <p:xfrm>
          <a:off x="324000" y="549360"/>
          <a:ext cx="828036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280360" cy="568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45:48Z</dcterms:created>
  <dc:creator>Wanderley Xavier</dc:creator>
  <dc:description/>
  <dc:language>en-US</dc:language>
  <cp:lastModifiedBy>Sbccp</cp:lastModifiedBy>
  <dcterms:modified xsi:type="dcterms:W3CDTF">2008-09-11T15:42:27Z</dcterms:modified>
  <cp:revision>2</cp:revision>
  <dc:subject/>
  <dc:title>Slide 1</dc:title>
</cp:coreProperties>
</file>