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Con%20Te%20Partiro-%20Richard%20Clayderman.wav" ContentType="audio/x-wav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0F42-7189-45EE-8463-D7D80976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87B-5CC8-48D3-8D10-B1269578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9B9B-C7AF-470E-86D7-DD3DCE54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C449-ABEF-44EA-AA50-BBC1CF83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514C-BF4C-4F44-90E9-161B204C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4C70-0F5E-4057-BAED-0637CF10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2647-77E0-4F0D-B1E5-FDE82AB0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A501-D195-48AE-A483-F1B991B6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AA36-4B7B-4244-A114-319728EC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7AA4-E51D-4860-98D1-336DED61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2679-53EA-4133-87C6-EDCDF36A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27E-219A-4E2B-AF1B-726FE589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2826-7F11-44F7-8167-55A28F90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5F3E-4B7C-4D36-9681-402152AC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D571-6FA3-4E99-84FD-79235187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217D-97C6-4669-93E1-1AFABFAB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2376-3124-48C8-AE28-14F8EAD7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F0D8-B869-4B87-9149-57E019F2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854-C2B6-4460-888F-3306FFA6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AF2-E0FC-4DC8-804A-9F574551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6A52-E0AA-4A71-B47A-44DDEC4C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4E69-F1BE-485C-803F-6CE71A9A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1FA-73D2-4147-A98C-0E1C2D0B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9D3-5B92-49F1-809D-E0136FDE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680" y="6480"/>
            <a:ext cx="17543520" cy="13690440"/>
            <a:chOff x="-8410680" y="6480"/>
            <a:chExt cx="1754352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90840"/>
              <a:ext cx="3744720" cy="5260680"/>
            </a:xfr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680" y="6480"/>
              <a:ext cx="16821360" cy="13690440"/>
            </a:xfrm>
            <a:custGeom>
              <a:avLst/>
              <a:gdLst>
                <a:gd name="textAreaLeft" fmla="*/ 8409960 w 16821360"/>
                <a:gd name="textAreaRight" fmla="*/ 16820640 w 16821360"/>
                <a:gd name="textAreaTop" fmla="*/ 0 h 13690440"/>
                <a:gd name="textAreaBottom" fmla="*/ 6844680 h 136904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5352FD-3CF7-46A0-AA99-B0FF9476233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52600"/>
            <a:ext cx="16905240" cy="10785600"/>
            <a:chOff x="-7761240" y="1452600"/>
            <a:chExt cx="16905240" cy="10785600"/>
          </a:xfrm>
        </p:grpSpPr>
        <p:sp>
          <p:nvSpPr>
            <p:cNvPr id="45" name=""/>
            <p:cNvSpPr/>
            <p:nvPr/>
          </p:nvSpPr>
          <p:spPr>
            <a:xfrm>
              <a:off x="3271680" y="2697120"/>
              <a:ext cx="5872320" cy="4148280"/>
            </a:xfr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52600"/>
              <a:ext cx="13452480" cy="10785600"/>
            </a:xfrm>
            <a:custGeom>
              <a:avLst/>
              <a:gdLst>
                <a:gd name="textAreaLeft" fmla="*/ 6725520 w 13452480"/>
                <a:gd name="textAreaRight" fmla="*/ 13452120 w 13452480"/>
                <a:gd name="textAreaTop" fmla="*/ 86760 h 10785600"/>
                <a:gd name="textAreaBottom" fmla="*/ 5392440 h 107856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0"/>
                </a:path>
              </a:pathLst>
            </a:cu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47124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BB54F9D-62E9-4CC6-A564-AD637656D40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audio" Target="../media/Con%20Te%20Partiro-%20Richard%20Clayderman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1.gi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0880" y="114480"/>
            <a:ext cx="8763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Quatro velas estavam queimando calmam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O ambiente estava tão silencioso que podia-se ouvir o diálogo entre el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662472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488960" y="1619280"/>
            <a:ext cx="4091040" cy="360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959280" y="179280"/>
            <a:ext cx="521964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ta vela foi acesa em 25 de julho de 2009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lguém que tem esperança, amor, fé e deseja muito a paz, está lhe enviando e está mantendo-a acesa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vie-a a seus amigo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ti, desejo que a vela da esperança, do  amor, da fé, da paz e da AMIZADE  nunca se apague em sua vida!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" y="5400720"/>
            <a:ext cx="450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3419640"/>
            <a:ext cx="3240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ma vela não perde sua chama acendendo outra”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r favor, envie-a a seus amigos, e faça com que a vela deles também permaneça acesa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80000" y="5657760"/>
            <a:ext cx="360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m grande abraço e que DEUS te ABENÇOE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79280" y="1079640"/>
            <a:ext cx="288000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6642000" y="2357280"/>
            <a:ext cx="2340000" cy="126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0"/>
            <a:ext cx="8736120" cy="33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"/>
              </a:rPr>
              <a:t>...............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GB" sz="3000" spc="-1" strike="noStrike">
                <a:solidFill>
                  <a:srgbClr val="ffffcc"/>
                </a:solidFill>
                <a:latin typeface="Arial"/>
              </a:rPr>
              <a:t>primeira</a:t>
            </a: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 disse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Eu sou a </a:t>
            </a:r>
            <a:r>
              <a:rPr b="0" lang="en-GB" sz="3000" spc="-1" strike="noStrike">
                <a:solidFill>
                  <a:srgbClr val="ff9933"/>
                </a:solidFill>
                <a:latin typeface="Arial"/>
              </a:rPr>
              <a:t>Paz</a:t>
            </a: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, e apesar da minha luz, as pessoa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não conseguem manter-me acesa. Em seguida,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a sua chama, devagarzinho, se </a:t>
            </a:r>
            <a:r>
              <a:rPr b="0" lang="en-GB" sz="3000" spc="-1" strike="noStrike">
                <a:solidFill>
                  <a:srgbClr val="ffffcc"/>
                </a:solidFill>
                <a:latin typeface="Arial"/>
              </a:rPr>
              <a:t>apagou</a:t>
            </a: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 totalment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"/>
              </a:rPr>
              <a:t>...................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6659640" y="2340000"/>
            <a:ext cx="2212920" cy="12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60720" y="1079640"/>
            <a:ext cx="287964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920" y="69840"/>
            <a:ext cx="891072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"/>
              </a:rPr>
              <a:t>...................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egunda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disse: - Eu me chamo </a:t>
            </a: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Fé!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Infelizmente sou supérflua para as pessoas. Elas não querem saber de Deus, por isso não faz senti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ntinuar queiman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o terminar sua fala, um vento bateu levemente sobre ela, e a cham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e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pago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0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dur="indefinite" fill="hold">
                            <p:stCondLst>
                              <p:cond delay="5800"/>
                            </p:stCondLst>
                            <p:childTnLst>
                              <p:par>
                                <p:cTn id="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534000" y="2340000"/>
            <a:ext cx="2465640" cy="1260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319640" y="1079640"/>
            <a:ext cx="287964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28600"/>
            <a:ext cx="891540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Baixinho e triste a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erceira vela</a:t>
            </a: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 se manifestou: - Eu sou o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mor!</a:t>
            </a: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Não tenho mais forças para queim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As pessoas me deixam de lado, porque só conseguem enxergar elas mesmas, esquecem até daqueles que estão 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sua volta. E também se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pago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0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dur="indefinite" fill="hold">
                            <p:stCondLst>
                              <p:cond delay="6800"/>
                            </p:stCondLst>
                            <p:childTnLst>
                              <p:par>
                                <p:cTn id="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65120" y="101520"/>
            <a:ext cx="853452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De repente, chegou uma criança e viu as três velas </a:t>
            </a:r>
            <a:r>
              <a:rPr b="0" lang="en-GB" sz="3200" spc="-1" strike="noStrike">
                <a:solidFill>
                  <a:srgbClr val="ffffcc"/>
                </a:solidFill>
                <a:latin typeface="Arial Black"/>
              </a:rPr>
              <a:t>apagadas ...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- Que é isto? Vocês devem ficar </a:t>
            </a:r>
            <a:r>
              <a:rPr b="0" lang="en-GB" sz="3200" spc="-1" strike="noStrike">
                <a:solidFill>
                  <a:srgbClr val="ff6600"/>
                </a:solidFill>
                <a:latin typeface="Arial Black"/>
              </a:rPr>
              <a:t>acesa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e queimar até o fi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6567480" y="2340000"/>
            <a:ext cx="243216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0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160720" y="360360"/>
            <a:ext cx="41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ntão a </a:t>
            </a:r>
            <a:r>
              <a:rPr b="0" lang="en-GB" sz="2400" spc="-1" strike="noStrike">
                <a:solidFill>
                  <a:srgbClr val="339933"/>
                </a:solidFill>
                <a:latin typeface="Arial"/>
              </a:rPr>
              <a:t>quarta vela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alou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- Não tenhas medo, criança. Enquanto eu estiver acesa,  poderemos 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cender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as outras ve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659640" y="2340000"/>
            <a:ext cx="2340000" cy="1260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80960" y="3200400"/>
            <a:ext cx="52786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 u="sng">
                <a:solidFill>
                  <a:srgbClr val="ff0000"/>
                </a:solidFill>
                <a:uFillTx/>
                <a:latin typeface="Arial"/>
              </a:rPr>
              <a:t>Pausa para reflexã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7c80"/>
                </a:solidFill>
                <a:latin typeface="Arial"/>
              </a:rPr>
              <a:t>Quando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pagamos</a:t>
            </a:r>
            <a:r>
              <a:rPr b="0" lang="en-GB" sz="2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ff7c80"/>
                </a:solidFill>
                <a:latin typeface="Arial"/>
              </a:rPr>
              <a:t>a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7c80"/>
                </a:solidFill>
                <a:latin typeface="Arial"/>
              </a:rPr>
              <a:t>chamas da</a:t>
            </a:r>
            <a:r>
              <a:rPr b="0" lang="en-GB" sz="2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ffff00"/>
                </a:solidFill>
                <a:latin typeface="Arial"/>
              </a:rPr>
              <a:t>Paz, Fé </a:t>
            </a:r>
            <a:r>
              <a:rPr b="0" lang="en-GB" sz="2600" spc="-1" strike="noStrike">
                <a:solidFill>
                  <a:srgbClr val="ff7c80"/>
                </a:solidFill>
                <a:latin typeface="Arial"/>
              </a:rPr>
              <a:t>e</a:t>
            </a:r>
            <a:r>
              <a:rPr b="0" lang="en-GB" sz="2600" spc="-1" strike="noStrike">
                <a:solidFill>
                  <a:srgbClr val="ffff00"/>
                </a:solidFill>
                <a:latin typeface="Arial"/>
              </a:rPr>
              <a:t> Amor</a:t>
            </a:r>
            <a:r>
              <a:rPr b="0" lang="en-GB" sz="2600" spc="-1" strike="noStrike">
                <a:solidFill>
                  <a:srgbClr val="ff9933"/>
                </a:solidFill>
                <a:latin typeface="Arial"/>
              </a:rPr>
              <a:t>, </a:t>
            </a:r>
            <a:r>
              <a:rPr b="0" lang="en-GB" sz="2600" spc="-1" strike="noStrike">
                <a:solidFill>
                  <a:srgbClr val="ff7c80"/>
                </a:solidFill>
                <a:latin typeface="Arial"/>
              </a:rPr>
              <a:t>ainda assim, nem tudo está perdido ... Alguma coisa há de ter restado dentro da gente. E isto tem que ser preservado, acima de tudo .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0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00000" y="0"/>
            <a:ext cx="76201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Arial Black"/>
              </a:rPr>
              <a:t>Então a criança pegou a vela da </a:t>
            </a:r>
            <a:r>
              <a:rPr b="0" lang="en-GB" sz="4000" spc="-1" strike="noStrike">
                <a:solidFill>
                  <a:srgbClr val="008000"/>
                </a:solidFill>
                <a:latin typeface="Arial Black"/>
              </a:rPr>
              <a:t>Esperança</a:t>
            </a:r>
            <a:r>
              <a:rPr b="0" lang="en-GB" sz="3600" spc="-1" strike="noStrike">
                <a:solidFill>
                  <a:srgbClr val="009900"/>
                </a:solidFill>
                <a:latin typeface="Arial Black"/>
              </a:rPr>
              <a:t> e </a:t>
            </a:r>
            <a:r>
              <a:rPr b="0" lang="en-GB" sz="3600" spc="-1" strike="noStrike">
                <a:solidFill>
                  <a:srgbClr val="ff6600"/>
                </a:solidFill>
                <a:latin typeface="Arial Black"/>
              </a:rPr>
              <a:t>acendeu</a:t>
            </a:r>
            <a:r>
              <a:rPr b="0" lang="en-GB" sz="3600" spc="-1" strike="noStrike">
                <a:solidFill>
                  <a:srgbClr val="009900"/>
                </a:solidFill>
                <a:latin typeface="Arial Black"/>
              </a:rPr>
              <a:t>  novamente as qu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Arial Black"/>
              </a:rPr>
              <a:t>estavam </a:t>
            </a:r>
            <a:r>
              <a:rPr b="0" lang="en-GB" sz="3600" spc="-1" strike="noStrike">
                <a:solidFill>
                  <a:srgbClr val="ffffcc"/>
                </a:solidFill>
                <a:latin typeface="Arial Black"/>
              </a:rPr>
              <a:t>apagad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6550200" y="2340000"/>
            <a:ext cx="2449440" cy="1260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0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dur="indefinite" fill="hold">
                            <p:stCondLst>
                              <p:cond delay="6600"/>
                            </p:stCondLst>
                            <p:childTnLst>
                              <p:par>
                                <p:cTn id="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9600"/>
                            </p:stCondLst>
                            <p:childTnLst>
                              <p:par>
                                <p:cTn id="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fill="hold">
                            <p:stCondLst>
                              <p:cond delay="12600"/>
                            </p:stCondLst>
                            <p:childTnLst>
                              <p:par>
                                <p:cTn id="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61800" y="17928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6699ff"/>
                </a:solidFill>
                <a:latin typeface="Arial"/>
              </a:rPr>
              <a:t>Que a vela da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Esperança</a:t>
            </a:r>
            <a:r>
              <a:rPr b="1" lang="en-GB" sz="2800" spc="-1" strike="noStrike">
                <a:solidFill>
                  <a:srgbClr val="6699ff"/>
                </a:solidFill>
                <a:latin typeface="Arial"/>
              </a:rPr>
              <a:t> nunca se </a:t>
            </a: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apague</a:t>
            </a:r>
            <a:r>
              <a:rPr b="1" lang="en-GB" sz="2800" spc="-1" strike="noStrike">
                <a:solidFill>
                  <a:srgbClr val="6699ff"/>
                </a:solidFill>
                <a:latin typeface="Arial"/>
              </a:rPr>
              <a:t> dentro de você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6699ff"/>
                </a:solidFill>
                <a:latin typeface="Arial"/>
              </a:rPr>
              <a:t>Ela é a nossa luz no fim do tún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6699ff"/>
                </a:solidFill>
                <a:latin typeface="Arial"/>
              </a:rPr>
              <a:t>O caminho da felicidade precisa, antes, ser pavimentado com </a:t>
            </a:r>
            <a:r>
              <a:rPr b="1" lang="en-GB" sz="2800" spc="-1" strike="noStrike">
                <a:solidFill>
                  <a:srgbClr val="339933"/>
                </a:solidFill>
                <a:latin typeface="Arial"/>
              </a:rPr>
              <a:t>esperança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27080" y="595944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a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19640" y="5959440"/>
            <a:ext cx="50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b8ff"/>
                </a:solidFill>
                <a:latin typeface="Arial"/>
              </a:rPr>
              <a:t>f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9240" y="601992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m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597060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espe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6534000" y="2340000"/>
            <a:ext cx="246564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0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dur="indefinite" fill="hold">
                            <p:stCondLst>
                              <p:cond delay="3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75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5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dur="indefinite" fill="hold">
                            <p:stCondLst>
                              <p:cond delay="524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dur="indefinite" fill="hold">
                            <p:stCondLst>
                              <p:cond delay="899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7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39640" y="16812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 felicidade nem semp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bate à nossa porta. Par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ê-la é preciso uma busca incessante, e ao encontrá-la ter a coragem de trazê-l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para dentro de nó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594036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a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9640" y="5959440"/>
            <a:ext cx="50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b8ff"/>
                </a:solidFill>
                <a:latin typeface="Arial"/>
              </a:rPr>
              <a:t>f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59240" y="601992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m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34320" y="597060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espe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6534000" y="2340000"/>
            <a:ext cx="246564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dur="indefinite" fill="hold">
                      <p:stCondLst>
                        <p:cond delay="0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IR</dc:creator>
  <dc:description>07/10/1999, 11:08:01, João Henrique Carvalho
</dc:description>
  <dc:language>en-US</dc:language>
  <cp:lastModifiedBy/>
  <cp:revision>0</cp:revision>
  <dc:subject/>
  <dc:title>Esperança... o que seria de nós sem ela?</dc:title>
</cp:coreProperties>
</file>