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ndre%20%20Rieu%20_Barcarole%20(Offenback)%201%5B1%5D.38%20cu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769-AF74-4A97-95AC-5C6703BE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742-C0E2-4BD1-BBEA-1E4A49B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8F5-2B40-461F-B1AD-C4D7BFCE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D35-1AA9-4A20-AC69-548EA054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202-2436-4515-BE69-D1F78D5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970-81F0-420D-B64B-64838D3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009-67D4-489B-BD6A-DE20B0D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3C4-EA8E-4DB7-8C24-266F9A97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482-1F98-48F4-8A4A-F438045B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0B8-8D5E-4902-89D7-2CB4229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2F7-2FBE-44FE-B234-D8E25667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886-A7B2-477C-8B4B-0FC0E5E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7C16-57E3-4A06-A163-8606A5D70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%20Rieu%20_Barcarole%20(Offenback)%201%5B1%5D.38%20cu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dálias%20laranja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1600200"/>
            <a:ext cx="3733560" cy="3733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1600200"/>
            <a:ext cx="303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Pens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em lhe env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flores em s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de amizad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Mas as flore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de um  jeito difer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Espero que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5"/>
                </a:solidFill>
                <a:latin typeface="Monotype Corsiva"/>
              </a:rPr>
              <a:t>gos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leidoscópio%20tulipa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osa%20vermelha-1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risântem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aleidoscópio%204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11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osa%20com%20geada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actus%20branc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1828800"/>
            <a:ext cx="607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129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93000" y="2133720"/>
            <a:ext cx="370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99"/>
                </a:solidFill>
                <a:latin typeface="Monotype Corsiva"/>
              </a:rPr>
              <a:t>Música:André Rie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99"/>
                </a:solidFill>
                <a:latin typeface="Monotype Corsiva"/>
              </a:rPr>
              <a:t>Barca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99"/>
                </a:solidFill>
                <a:latin typeface="Monotype Corsiva"/>
              </a:rPr>
              <a:t>Formatação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99"/>
                </a:solidFill>
                <a:latin typeface="Monotype Corsiva"/>
              </a:rPr>
              <a:t>efeitos nas image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99"/>
                </a:solidFill>
                <a:latin typeface="Monotype Corsiva"/>
              </a:rPr>
              <a:t>Cl@u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796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THER%20-%20copos%20de%20leite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ctus%20amarel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leidoscópio-38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poulas-lindo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ctus%20laranj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lor%20de%20cactus%20branca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lor%20de%20pessego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leidoscópio%205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2:25:03Z</dcterms:created>
  <dc:creator>Cl@u</dc:creator>
  <dc:description/>
  <dc:language>en-US</dc:language>
  <cp:lastModifiedBy>Cl@u</cp:lastModifiedBy>
  <dcterms:modified xsi:type="dcterms:W3CDTF">2006-07-19T00:21:29Z</dcterms:modified>
  <cp:revision>37</cp:revision>
  <dc:subject/>
  <dc:title>Apresentação do PowerPoint</dc:title>
</cp:coreProperties>
</file>