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AMENO%20ERA.wav" ContentType="audio/x-wav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9640" y="476280"/>
            <a:ext cx="806472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4360" y="620640"/>
            <a:ext cx="777528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6597720"/>
            <a:ext cx="85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Arial"/>
              </a:rPr>
              <a:t>Formatação: Liliane Freire                                                                                  liliane@freire@hot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50920" y="189000"/>
            <a:ext cx="8642160" cy="6480000"/>
          </a:xfrm>
          <a:custGeom>
            <a:avLst/>
            <a:gdLst>
              <a:gd name="textAreaLeft" fmla="*/ 0 w 8642160"/>
              <a:gd name="textAreaRight" fmla="*/ 8642520 w 8642160"/>
              <a:gd name="textAreaTop" fmla="*/ 839880 h 6480000"/>
              <a:gd name="textAreaBottom" fmla="*/ 564012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43280" y="1628640"/>
            <a:ext cx="4178520" cy="4969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audio" Target="../media/AMENO%20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mailto:liliane_freire@hotmail.com" TargetMode="External"/><Relationship Id="rId4" Type="http://schemas.openxmlformats.org/officeDocument/2006/relationships/hyperlink" Target="mailto:rosagreco@terra.com.br" TargetMode="External"/><Relationship Id="rId5" Type="http://schemas.openxmlformats.org/officeDocument/2006/relationships/hyperlink" Target="http://geocities.yahoo.com.br/lilianefreire05" TargetMode="External"/><Relationship Id="rId6" Type="http://schemas.openxmlformats.org/officeDocument/2006/relationships/hyperlink" Target="http://www.lagodecristal.blogspot.com/" TargetMode="External"/><Relationship Id="rId7" Type="http://schemas.openxmlformats.org/officeDocument/2006/relationships/hyperlink" Target="http://www.lagodecristal.blogspot.com/" TargetMode="External"/><Relationship Id="rId8" Type="http://schemas.openxmlformats.org/officeDocument/2006/relationships/hyperlink" Target="http://www.lagodecristal.blogspot.com/" TargetMode="External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4360" y="1628640"/>
            <a:ext cx="2950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grégora</a:t>
            </a:r>
            <a:endParaRPr b="1" lang="en-US" sz="1800" spc="1" strike="noStrike">
              <a:ln w="9360">
                <a:solidFill>
                  <a:srgbClr val="cc99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4788000" y="1700280"/>
            <a:ext cx="3887640" cy="4824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8520" y="909000"/>
            <a:ext cx="3644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Egrégora (do grego “Egregorien”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que significa “velar”, “cuidar”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É a atmosfera cole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plasmada espiritu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num certo ambiente, decorr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do somatório dos pensamen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sentimentos e energ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de um grupo de pesso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voltado para a produ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de climas virtuosos no mundo. </a:t>
            </a:r>
            <a:br>
              <a:rPr sz="1800"/>
            </a:b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É a atmosfera psíquica result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da reunião de grup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voltados para trabalh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e estudos baseados na LU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88000" y="1700280"/>
            <a:ext cx="3887640" cy="4824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1760" y="902880"/>
            <a:ext cx="4641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Pode-se dizer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toda reunião de pesso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para a prática do Bem e da Virt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(independente de linha espirit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forma uma egrégora específi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uma verdadeira entidade coletiva lumino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a qual se agreg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várias outras consciências extrafís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alinhadas com aquela sintonia espiri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para um trabalho interdimensional. </a:t>
            </a:r>
            <a:br>
              <a:rPr sz="1800"/>
            </a:b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Provavelmente foi por is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que Jesus ensinou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"Onde houver dois ou m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em meu nome, aí eu estarei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1700280"/>
            <a:ext cx="3887640" cy="4824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00320" y="1238760"/>
            <a:ext cx="431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O trabalho Ritual regular, constan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harmônico som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aos interesses superi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de seus praticantes é a fonte gerad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de um nível vibratório elevad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alimentador constante de uma Egrég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capaz de gerar paz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evolução espiri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e conheci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aos que dela usufru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1700280"/>
            <a:ext cx="3887640" cy="4824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960" y="1212480"/>
            <a:ext cx="4405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Todos os agrupamentos huma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possuem suas egrégoras característic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todas as empres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clubes, religiões, famílias, partidos, etc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Muitos dizem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não se deve misturar egrégo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de trabalhos diferentes, poré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quando o Amor se manifes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desaparece qualqu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ideologia doutrinár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e só fica o que interessa: a LUZ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1700280"/>
            <a:ext cx="3887640" cy="4824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9600" y="926640"/>
            <a:ext cx="4074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Egrégora é como um filho coletiv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produzido pela interação "genética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das diferentes pessoas envolvi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Se a egrégora é produz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por grupos de pesso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basta você se aproxim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e freqüen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as pessoas cert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gente feliz, descomplicad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saudável, de bom caráter, boa índo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Mas também com fibra, dinamis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e capacidade de realizaçã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sem vícios nem mentir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sem preguiça ou morbide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1700280"/>
            <a:ext cx="3887640" cy="4824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0120" y="752760"/>
            <a:ext cx="5264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Uma vez obtido o grupo ide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todas as egrégoras ger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ou nas quais você penetre, vão induzi-lo à saú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ao sucesso, à harmonia e à felicidade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O dia em que os homens desperta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para climas mais universalis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e cosmoét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com certeza, esse mu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será melhor de viver. </a:t>
            </a:r>
            <a:br>
              <a:rPr sz="1800"/>
            </a:b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Viva a LUZ, pouco importa o no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o grupo ou a doutrina que fale de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E viva os mentores espiritu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que ajudam a to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independente de cred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raça ou cultura esposad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1700280"/>
            <a:ext cx="3887640" cy="4824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788000" y="1700280"/>
            <a:ext cx="3887640" cy="4824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882720"/>
            <a:ext cx="43192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Arial"/>
              </a:rPr>
              <a:t>Crédi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Arial"/>
              </a:rPr>
              <a:t>Texto: Egrég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Arial"/>
              </a:rPr>
              <a:t>Adaptação dos textos de Wagner Borges e do Instituto de Pesquisas Psíquicas Imag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Arial"/>
              </a:rPr>
              <a:t>Imagens da 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6633"/>
                </a:solidFill>
                <a:latin typeface="Arial"/>
              </a:rPr>
              <a:t>Música: Ameno - 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9480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6633"/>
                </a:solidFill>
                <a:latin typeface="Arial"/>
              </a:rPr>
              <a:t>Formatação: Liliane Fre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500280"/>
            <a:ext cx="273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6633"/>
                </a:solidFill>
                <a:latin typeface="Arial"/>
              </a:rPr>
              <a:t>Contato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liane_freire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osagreco@terra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4437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ITE LAGO DE CRI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6633"/>
                </a:solidFill>
                <a:latin typeface="Arial"/>
              </a:rPr>
              <a:t>       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log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Lago de 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ri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900000" y="573408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9900"/>
                </a:solidFill>
                <a:latin typeface="Arial"/>
              </a:rPr>
              <a:t>Iní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endshow"/>
          </p:cNvPr>
          <p:cNvSpPr/>
          <p:nvPr/>
        </p:nvSpPr>
        <p:spPr>
          <a:xfrm>
            <a:off x="1979640" y="573408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9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9" y="20200"/>
                </a:lnTo>
                <a:lnTo>
                  <a:pt x="41779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9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9900"/>
                </a:solidFill>
                <a:latin typeface="Arial"/>
              </a:rPr>
              <a:t>S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3100"/>
                            </p:stCondLst>
                            <p:childTnLst>
                              <p:par>
                                <p:cTn id="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6400"/>
                            </p:stCondLst>
                            <p:childTnLst>
                              <p:par>
                                <p:cTn id="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900"/>
                            </p:stCondLst>
                            <p:childTnLst>
                              <p:par>
                                <p:cTn id="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72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0:02:39Z</dcterms:created>
  <dc:creator>Liliane Freire</dc:creator>
  <dc:description/>
  <dc:language>en-US</dc:language>
  <cp:lastModifiedBy>Liliane Freire</cp:lastModifiedBy>
  <dcterms:modified xsi:type="dcterms:W3CDTF">2007-02-04T13:14:12Z</dcterms:modified>
  <cp:revision>2</cp:revision>
  <dc:subject/>
  <dc:title>Slide 1</dc:title>
</cp:coreProperties>
</file>