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Enia%20(If%20I%20Could%20Be%20Where%20You)%20-%20OK.wav" ContentType="audio/x-wav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E01-6BE8-4353-BBF1-DD59E3E9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21E-17CB-49BC-BD8F-2AA62AF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CF8-5510-4D22-85F2-B5D6DEC4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B31-BBC1-4B8E-B869-7E049993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FED-BA5A-4E2C-B06F-9AE088B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D24-76A2-4A4E-A69A-7E2CAA1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CEB-02DD-4409-9053-F9B08CD2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8F6-3515-4AE1-B449-EF6F874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425-79D8-43AC-8F38-186CC82E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35B-743B-4D8F-B5E7-BED5BD8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3D9-871D-4E0B-BD9B-2459E07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87A-9CF3-4C79-B486-36E38E9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4DFE-3CEB-4442-8277-827A8306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nia%20(If%20I%20Could%20Be%20Where%20You)%20-%20OK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46920" cy="417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5373720"/>
            <a:ext cx="1368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J E F 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3236760"/>
            <a:ext cx="3240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Quanto tempo durará a viage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238640"/>
            <a:ext cx="3240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qual a duração de uma vida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120" y="5159520"/>
            <a:ext cx="324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quem o saberá...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58928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6680" y="3444840"/>
            <a:ext cx="3240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Da mesma forma que bela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7960" y="4411800"/>
            <a:ext cx="324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breve é a vida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58928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84360" y="4292640"/>
            <a:ext cx="1295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58928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27120" y="2916360"/>
            <a:ext cx="3513240" cy="23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A última estação,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a do desembarque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é a mesma para todos, e se chama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2320" y="4836960"/>
            <a:ext cx="3081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E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t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e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r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n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i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d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a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d</a:t>
            </a:r>
            <a:r>
              <a:rPr b="0" i="1" lang="en-US" sz="4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e..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14680" y="692280"/>
            <a:ext cx="4178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773360"/>
            <a:ext cx="41767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Estai preparad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pois não sabeis quando nem como sereis chamados a parti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573360"/>
            <a:ext cx="43560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Não penses estar pron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Não te iludas, po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infindável é a preparação.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589720"/>
            <a:ext cx="259272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29"/>
                </a:solidFill>
                <a:latin typeface="Verdana"/>
              </a:rPr>
              <a:t>Trigueiri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29"/>
                </a:solidFill>
                <a:latin typeface="Verdana"/>
              </a:rPr>
              <a:t>(1931 -      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4680" y="692280"/>
            <a:ext cx="4178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573360"/>
            <a:ext cx="351288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E um dia, não tão distante, chegará a nossa vez de desembarcar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14680" y="692280"/>
            <a:ext cx="4178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89440" y="5381640"/>
            <a:ext cx="1295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4680" y="692280"/>
            <a:ext cx="4178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4657680" cy="445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1341360"/>
            <a:ext cx="35128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ingresso na Eternidade é um   ato solitári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4657680" cy="445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971640"/>
            <a:ext cx="37450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Os jornais do mundo continuarão repletos                 de notícias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2920" y="2246400"/>
            <a:ext cx="453708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carros continuarão a    cruzar avenidas e estradas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192480"/>
            <a:ext cx="424836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mas, para aquele que adentra a Eternidade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61080" y="4137120"/>
            <a:ext cx="338436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já não terão a menor importância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4657680" cy="445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53040" y="1309680"/>
            <a:ext cx="4248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Familiares, - filhos, irmãos, pais... -, e amigos íntimos deixados para trá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8640" y="2805120"/>
            <a:ext cx="35128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ingresso na Eternidade é um   ato solitári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2200" y="1165320"/>
            <a:ext cx="5832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900" spc="-1" strike="noStrike">
                <a:solidFill>
                  <a:srgbClr val="ffff29"/>
                </a:solidFill>
                <a:latin typeface="Verdana"/>
              </a:rPr>
              <a:t>Felizes são aqueles                   que levam consigo uma      parte das dores do mund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30800" y="4726080"/>
            <a:ext cx="25923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29"/>
                </a:solidFill>
                <a:latin typeface="Verdana"/>
              </a:rPr>
              <a:t>frase atribuída a                Jesus Cris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06640"/>
            <a:ext cx="7632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29"/>
                </a:solidFill>
                <a:latin typeface="Verdana"/>
              </a:rPr>
              <a:t>Durante a longa caminhada, eles saberão mais coisas sobre a felicidade do que aqueles que a evitam.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4657680" cy="4451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67280" y="1484280"/>
            <a:ext cx="446400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Bens materiais, conta bancária, chaves e senhas ficaram para trás,         perdendo o valor que aparentavam ter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4657680" cy="4451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67280" y="1197000"/>
            <a:ext cx="4248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Desta existência terrena levaremos apenas           aquilo que trazemos            no co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32280" y="3187800"/>
            <a:ext cx="453708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Todo o resto não nos pertence de fato, sendo  nos confiado por um breve intervalo de temp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56360" y="5445000"/>
            <a:ext cx="1295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465768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00720" y="3284640"/>
            <a:ext cx="4248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Na hora da morte, teremos plena consciência do real valor de cada ato que praticam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73068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0480" y="3305160"/>
            <a:ext cx="345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Colheremos aquilo que plantam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120" y="422424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ações têm conseqüênci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74984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89480" y="2708280"/>
            <a:ext cx="417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corpo físico se assemelha a uma gaiol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0760" y="3645000"/>
            <a:ext cx="417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e a alma, a uma ave   que nela hab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64176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356000" y="2492280"/>
            <a:ext cx="4176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Na hora derradeira,        a Morte, - sempre atenta, sempre justa -, estende a sua mão e diz para a ave da al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64176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284720" y="2781360"/>
            <a:ext cx="4464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É chegada a hora da tua partida, de deixar para trás esta gaiola mortal, e  seguir livre a tua jornada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64176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2997360"/>
            <a:ext cx="352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Deixa para trás esta gaiola efêmera,        e voa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817880" cy="321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7640" y="2349360"/>
            <a:ext cx="446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Estará a ave do espírito apta a voar nesta                   hora decisiv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3574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4581360"/>
            <a:ext cx="41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29"/>
                </a:solidFill>
                <a:latin typeface="Verdana"/>
              </a:rPr>
              <a:t>- Matéria e Espírito 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27640" y="1989000"/>
            <a:ext cx="446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Estarão as suas asas suficientemente for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068640"/>
            <a:ext cx="446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Estarão as nossas asas suficientemente limp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3574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76720" y="2205000"/>
            <a:ext cx="2881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Cuidar das asas      significa cuidar                       do espírito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3574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0920" y="4124160"/>
            <a:ext cx="46087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Cuidar do espírito significa cuidar dos valores                       que dão rumo à nossa caminhada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944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76360" y="4145040"/>
            <a:ext cx="583416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...e alimentar significações que                           enchem de sentido a nossa vi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5076720"/>
            <a:ext cx="50403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e que levaremos conosco até                                                     o fim de nossa existência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944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73320" y="4118040"/>
            <a:ext cx="59752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Cuidar do espírito demanda acender a brasa interior da contemplação e da oração diuturna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71520" y="5487840"/>
            <a:ext cx="597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para que nunca se apagu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944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4119480"/>
            <a:ext cx="790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Significa, especialmente, cuidar da espiritualidad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480" y="461952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que é a capacidade de sentir Deus a partir do coraçã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5094360"/>
            <a:ext cx="57596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e de vê-Lo nascer a cada momento                                   no outro que está à minha frent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40560" y="6051600"/>
            <a:ext cx="25923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29"/>
                </a:solidFill>
                <a:latin typeface="Verdana"/>
              </a:rPr>
              <a:t>Leonardo B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29"/>
                </a:solidFill>
                <a:latin typeface="Verdana"/>
              </a:rPr>
              <a:t>(1938 -      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944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221440" y="3213000"/>
            <a:ext cx="1295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944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3292560"/>
            <a:ext cx="3887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29"/>
                </a:solidFill>
                <a:latin typeface="Verdana"/>
              </a:rPr>
              <a:t>Amar os hom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6680" y="3965400"/>
            <a:ext cx="3887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29"/>
                </a:solidFill>
                <a:latin typeface="Verdana"/>
              </a:rPr>
              <a:t>é amar a Deu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46400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328000" cy="532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201080" cy="47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38560" y="3541680"/>
            <a:ext cx="543708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29"/>
                </a:solidFill>
                <a:latin typeface="Verdana"/>
              </a:rPr>
              <a:t>A música desta                       apresentação se chama                                                     “If I Could Be Where You Are”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4781520"/>
            <a:ext cx="543708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29"/>
                </a:solidFill>
                <a:latin typeface="Verdana"/>
              </a:rPr>
              <a:t>uma composição da                  cantora irlandesa Eny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2817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553440" cy="49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32720" cy="509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5520" y="2076480"/>
            <a:ext cx="29527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Muito se tem falado sobre os Direitos Humanos,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680" y="3402000"/>
            <a:ext cx="326556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já é hora de pensarmos em termos de    Deveres Humanos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30120" y="2279520"/>
            <a:ext cx="295272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O dever de ser solidário,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680" y="3228840"/>
            <a:ext cx="31050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de compartilhar   os bens e os dons com os quais fomos agraciados pela Vida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1120" y="1932120"/>
            <a:ext cx="29527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O dever de ampliar o nosso campo de visã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2920" y="3294000"/>
            <a:ext cx="33955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de modo a abranger não apenas a nossa família biológica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520" y="4637160"/>
            <a:ext cx="3105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mas a inteira família human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2608200"/>
            <a:ext cx="3241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dever de       amar e acol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573360"/>
            <a:ext cx="3241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órfã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idoso, o enfer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desampar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2421000"/>
            <a:ext cx="3241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dever de       socor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3354480"/>
            <a:ext cx="3241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pob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necessita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excluí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desabrig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717560"/>
            <a:ext cx="3241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Quem, pois, tiver bens do mundo, e, vendo o seu irmão necessitando, lhe fechar o coraç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3959280"/>
            <a:ext cx="324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como permanece nele o amor                   de Deu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5445000"/>
            <a:ext cx="187308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Verdana"/>
              </a:rPr>
              <a:t>I Jo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29"/>
                </a:solidFill>
                <a:latin typeface="Verdana"/>
              </a:rPr>
              <a:t>3,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48000" y="3429000"/>
            <a:ext cx="54370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Uma canção que fala da espera,  da procura, daquilo que completa  e que confere sentid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4809960"/>
            <a:ext cx="54370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A tradução da letra está               logo a seguir, na primeira parte desta apresentaçã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2817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93920" y="4973760"/>
            <a:ext cx="100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531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6200" y="2786040"/>
            <a:ext cx="3635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O que será que a menina de tanto destituída responderá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000" y="4124160"/>
            <a:ext cx="3635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no dia em que lhe for dirigida a seguinte pergu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260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6200" y="2817720"/>
            <a:ext cx="3635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Acaso encontraste, neste vasto mu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600" y="3733920"/>
            <a:ext cx="3635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alguém disposto a tentar amenizar                   a tua dor...?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260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71640" y="4797360"/>
            <a:ext cx="714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260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28680" y="4075200"/>
            <a:ext cx="3376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Se podes olhar, v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4640400"/>
            <a:ext cx="388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Se podes ver, repar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96880" y="5327640"/>
            <a:ext cx="2644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29"/>
                </a:solidFill>
                <a:latin typeface="Verdana"/>
              </a:rPr>
              <a:t>Livro dos Conse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260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771640" y="4797360"/>
            <a:ext cx="714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260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57942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543280" cy="5543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8000" y="4437000"/>
            <a:ext cx="3889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Existe a matéria..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003640" y="4437000"/>
            <a:ext cx="3600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e existe o espíri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1846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5208480" cy="5832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411800" y="2879640"/>
            <a:ext cx="388908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A matéria é limitada pelas leis do tempo               e do espaço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4032360"/>
            <a:ext cx="388944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pelo visível,                    pelo findável,               pelo finito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9236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9720" y="630360"/>
            <a:ext cx="3600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Where are You this moment?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Only in my dreams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You're missing,                               but You're always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a heartbeat from 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7560" y="2679840"/>
            <a:ext cx="360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'm lost now without You.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 don't know where You are.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 keep watching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 keep hoping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but time keeps us apar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3760" y="4327560"/>
            <a:ext cx="417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s there a way I can find You?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s there a sign I should know?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s there a road I could follow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to bring You back ho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6480" y="609480"/>
            <a:ext cx="4070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Onde estás neste momento?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Salvo nos meus sonhos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Estás ausente,                               mas sempre tão próximo de mim quanto um pulsar do co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49840" y="2768760"/>
            <a:ext cx="3816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Estou perdido agora sem             a Tua companhia.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Não sei onde estás.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Permaneço buscando,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Mantenho a esperança,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porém o tempo nos distanci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17840" y="4468680"/>
            <a:ext cx="478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Haverá uma maneira de encontrá-Lo?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Um sinal que eu deva saber?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Uma estrada por onde eu possa seguir,</a:t>
            </a:r>
            <a:br>
              <a:rPr sz="1800"/>
            </a:br>
            <a:r>
              <a:rPr b="0" i="1" lang="pt-BR" sz="1800" spc="-1" strike="noStrike">
                <a:solidFill>
                  <a:srgbClr val="ffff99"/>
                </a:solidFill>
                <a:latin typeface="Verdana"/>
              </a:rPr>
              <a:t>Para trazê-Lo de volta para casa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Enia%20(If%20I%20Could%20Be%20Where%20You)%20-%20OK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34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5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5734080" cy="5832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2708280"/>
            <a:ext cx="38894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O espírito pertence                a um mundo                    sem fronteiras                ou limitações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292640"/>
            <a:ext cx="4284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um mundo onde                          as aparências se desmancham, e as            essências são reveladas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18000" cy="4838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2924280"/>
            <a:ext cx="40100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Durante um breve    lapso de tempo,    espírito e matéria dividem o mesmo palco,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4581360"/>
            <a:ext cx="30243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findo tal prazo,                          cada qual segue                               o seu rumo..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18000" cy="4838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0920" y="3357720"/>
            <a:ext cx="3889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O corpo material,                   o necessário abrigo temporário do espírito,                  recolhe-se ao pó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18000" cy="483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3645000"/>
            <a:ext cx="3889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...enquanto que                    o espírito segue sua jornada pelos mundos invisíveis, eternos, celestiai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18000" cy="4838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1197000"/>
            <a:ext cx="38894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Purificar o coração, lapidar a alma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205000"/>
            <a:ext cx="3889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ser solidário, generoso, atento, desperto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13000"/>
            <a:ext cx="38894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   </a:t>
            </a: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de modo a estar apto a deixar o palco da vida terrena, quando a        hora final chegar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797360"/>
            <a:ext cx="40813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com a sensação de dever cumprido, com uma consciência tranqüila..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18000" cy="4838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645000"/>
            <a:ext cx="388944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O único objetivo da vida no mundo mater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5805360"/>
            <a:ext cx="2087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29"/>
                </a:solidFill>
                <a:latin typeface="Verdana"/>
              </a:rPr>
              <a:t>dos Escritos  da Fé Bahá’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08640"/>
            <a:ext cx="388944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29"/>
                </a:solidFill>
                <a:latin typeface="Verdana"/>
              </a:rPr>
              <a:t>é a entrada no mundo da Realidade..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18000" cy="4838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09760" y="5084640"/>
            <a:ext cx="714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5052960"/>
            <a:ext cx="763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29"/>
                </a:solidFill>
                <a:latin typeface="Verdana"/>
              </a:rPr>
              <a:t>Tema musical: “If I Could Be Where You Are”, Eny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2280" y="5591160"/>
            <a:ext cx="5895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Verdana"/>
              </a:rPr>
              <a:t>Formatação: um pereg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5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87280" y="1019160"/>
            <a:ext cx="5185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Ó Descendente do Pó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684440"/>
            <a:ext cx="770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    </a:t>
            </a: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Não te contentes com o ócio de um dia passageiro, privando-te do repouso eter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960" y="2828880"/>
            <a:ext cx="770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    </a:t>
            </a: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Não troques o jardim de infindável deleite pelo monte de pó que é o mundo mortal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720" y="3917880"/>
            <a:ext cx="7704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    </a:t>
            </a: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De tua prisão ascende aos gloriosos prados do além e, de tua gaiola mortal, alça teu vôo até o paraíso do Infinito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46680" y="5622840"/>
            <a:ext cx="259236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29"/>
                </a:solidFill>
                <a:latin typeface="Verdana"/>
              </a:rPr>
              <a:t>Bahá’u’llá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29"/>
                </a:solidFill>
                <a:latin typeface="Verdana"/>
              </a:rPr>
              <a:t>(1817 - 18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9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148360" y="3213000"/>
            <a:ext cx="3168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Outros prado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outras pradarias   nos esperam.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3000" y="882720"/>
            <a:ext cx="4248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Winter lies before me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Now You're so far away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n the darkness of my dreaming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The light of You will sta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4221000"/>
            <a:ext cx="424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s there a way I can find You?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s there a sign I should know?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s there a road I could follow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to bring You back home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679840"/>
            <a:ext cx="4248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f I could be close beside You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f I could be where You are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If I could reach out and touch You,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And bring You back hom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31036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…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to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920880"/>
            <a:ext cx="439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O inverno está diante de mim,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Enquanto Te encontras tão distante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Na escuridão do meu sonho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A Tua luz permanecerá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2679840"/>
            <a:ext cx="45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Se eu pudesse estar próximo de Ti,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Se pudesse estar onde Te encontras,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Se pudesse alcançá-Lo,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E trazê-Lo de volta para cas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076640"/>
            <a:ext cx="478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Haverá uma maneira de encontrá-Lo?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Um sinal que eu deva saber?</a:t>
            </a: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Uma estrada por onde eu possa seguir,</a:t>
            </a:r>
            <a:br>
              <a:rPr sz="1800"/>
            </a:br>
            <a:r>
              <a:rPr b="0" i="1" lang="pt-BR" sz="1800" spc="-1" strike="noStrike">
                <a:solidFill>
                  <a:srgbClr val="ffff99"/>
                </a:solidFill>
                <a:latin typeface="Verdana"/>
              </a:rPr>
              <a:t>Para trazê-Lo de volta para cas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5338800"/>
            <a:ext cx="21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…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para m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7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2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27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4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146560" y="3548160"/>
            <a:ext cx="3889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Mundos espirituais,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4173480"/>
            <a:ext cx="3168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onde a Justiça não fenece...,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219640" y="3213000"/>
            <a:ext cx="31687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...onde o Amor continuamente floresce,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4624560"/>
            <a:ext cx="3600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e onde a     Bondade perdu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219640" y="3284640"/>
            <a:ext cx="3168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Olhai os lírios  do campo…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060880" y="2997360"/>
            <a:ext cx="39243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Busc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o Reino de De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em primeiro lugar...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9160" y="4818240"/>
            <a:ext cx="208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Verdana"/>
              </a:rPr>
              <a:t>Jesus Cr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46920" cy="4173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51280" y="5373720"/>
            <a:ext cx="1368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J E F 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3213000"/>
            <a:ext cx="27018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Esta existência terrena se assemelha a uma viag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58928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3600" y="3132000"/>
            <a:ext cx="3313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29"/>
                </a:solidFill>
                <a:latin typeface="Verdana"/>
              </a:rPr>
              <a:t>A primeira estação, a do embarque,    é a mesma para todos, e se chama: Nasciment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58928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0:50:44Z</dcterms:created>
  <dc:creator>um_peregrino@hotmail.com</dc:creator>
  <dc:description/>
  <dc:language>en-US</dc:language>
  <cp:lastModifiedBy>Jefferson</cp:lastModifiedBy>
  <dcterms:modified xsi:type="dcterms:W3CDTF">2008-12-18T21:09:20Z</dcterms:modified>
  <cp:revision>169</cp:revision>
  <dc:subject>Reflexão</dc:subject>
  <dc:title>Matéria e Espírito</dc:title>
</cp:coreProperties>
</file>