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s/comment28.xml" ContentType="application/vnd.openxmlformats-officedocument.presentationml.comments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risa" initials="M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09-08-28T11:31:14.718000000" idx="3">
    <p:pos x="10" y="10"/>
    <p:text>Aqui Le Bon parece aproximar os seres humanos, inseridos em um grupo psicológico, a animais irracionais.</p:text>
  </p:cm>
</p:cmLst>
</file>

<file path=ppt/comments/comment23.xml><?xml version="1.0" encoding="utf-8"?>
<p:cmLst xmlns:p="http://schemas.openxmlformats.org/presentationml/2006/main">
  <p:cm authorId="0" dt="2009-08-28T11:41:40.343000000" idx="4">
    <p:pos x="10" y="10"/>
    <p:text>Podemos também chamá-lo de carisma.</p:text>
  </p:cm>
</p:cmLst>
</file>

<file path=ppt/comments/comment28.xml><?xml version="1.0" encoding="utf-8"?>
<p:cmLst xmlns:p="http://schemas.openxmlformats.org/presentationml/2006/main">
  <p:cm authorId="0" dt="2009-08-28T12:10:09.140000000" idx="5">
    <p:pos x="10" y="10"/>
    <p:text>é o contágio emocional de Le Bon. </p:text>
  </p:cm>
</p:cmLst>
</file>

<file path=ppt/comments/comment8.xml><?xml version="1.0" encoding="utf-8"?>
<p:cmLst xmlns:p="http://schemas.openxmlformats.org/presentationml/2006/main">
  <p:cm authorId="0" dt="2009-08-28T10:49:32.250000000" idx="1">
    <p:pos x="10" y="10"/>
    <p:text>Quem seria o substituo do hipnotizador num grupo?</p:text>
  </p:cm>
</p:cmLst>
</file>

<file path=ppt/comments/comment9.xml><?xml version="1.0" encoding="utf-8"?>
<p:cmLst xmlns:p="http://schemas.openxmlformats.org/presentationml/2006/main">
  <p:cm authorId="0" dt="2009-08-28T10:52:33.828000000" idx="2">
    <p:pos x="10" y="10"/>
    <p:text>o contágio parece ser uma manifestação da sugestionabilidade.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A88-5A77-4180-9ED8-96C3DFA5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E49-0633-4909-B136-A114E87F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7C0-B6FC-4A3C-91DD-6E270281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C1E-0AF1-4699-8308-C30FF4D6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3D6AE-FF84-4579-A86A-E0F69C8E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2FF28-B8FB-41B6-A803-53875182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CF307-2286-43D7-A538-67DF1F2A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69FF5-BFFF-44CF-9FCC-7EF3E050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196B9-57B8-44BF-AAEC-9C1E6764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BD4B3-7EB0-4F90-A8D5-2D2F1FD3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5F2C8-7E94-4292-A20F-717ECB77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D17-809D-4061-BDD8-E870B577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C57C5-CD29-4EA3-987D-1DCEB433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C6F0D-04C7-49DC-A33B-0219BB61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EAB8E-9FE9-4D30-A98F-CDD772F9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FDA1B-57A8-4141-9870-26073056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E59DA-D844-4407-B7B0-B37D245C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AA2-5801-4993-93B1-CB48EF86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3ED-CA1C-467F-89AD-8740981A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E78-870F-4E39-825B-42FFB9D6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8D0-9F06-4FB3-8973-D62FEA5A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EB0-8F5F-4592-BE91-5F7332C3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507-73E6-4071-BF4E-0C1F5E16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FE3-9D6F-47F8-9C19-E7DBE489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F725-2D14-40D3-9FCE-CA7C461424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7BAF-ABE8-4EE5-A6AB-6E5BEE5E15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SICOLOGIA DE GRUPO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ÃO PSICANALÍTICA FREUDI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o fazer parte de um grupo organizado, um homem desce vários degraus na escada da civilização. Isolado, pode ser um indivíduo culto; numa multidão, é um bárbaro, ou seja, uma criatura que age pelo instin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ui a espontaneidade, a violência, a ferocidade, o entusiasmo e o heroísmo dos seres primitiv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á uma redução da capacidade intelectual do indivíduo, ao se fundir num grup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nte grupal é semelhante à vida mental dos povos primitivos e à das crianç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al como uma criança, um grup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impulsivo, mutável e irritáve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levado, exclusivamente, pelo seu inconscient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bedece aos impulsos de acordo com as circunstânci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mpulsos esses tão imperiosos que ultrapassam os instintos de autopreservaç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ge sem premeditar seus at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incapaz de perseveranç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admite demora na realização de seus desej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ui sentimento de onipotência, ou seja o impossível não exist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 extremamente crédulo e aberto à influênc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ão acredita no improváve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sa por imagens que se ligam por meio de associações, cuja concordância não é conferida com a realidad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ui sentimentos simples e exagerad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ão conhece a dúvida nem a incertez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i diretamente a extremos (um traço de antipatia se transforma em ódio furios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ão possui dúvida quanto ao que é verdade ou err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 consciência de sua grande forç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 tão intolerante quanto obediente à autoridad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eita a força e julga a bondade uma fraqueza, embora às vezes possa se deixar levar por atos benévol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e força e violência de seus heró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 ser dirigido, oprimido e temer seus líder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 profundamente conservador e tem aversão à inovações e progress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eita as tradições  de maneira ilimit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inado como é a todos os extremos, um grupo só pode ser excitado por um estímulo excessivo. Quem quer que deseje produzir efeito sobre ele, não necessita de nenhuma ordem lógica em seus argumentos; deve pintar nas cores mais fortes, deve exagerar e repetir a mesma coisa diversas vez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esar de despertar instintos de destruição adormecidos, sob a influência da sugestão, os grupos também são capazes de elevadas realizações sob forma de abnegação, desprendimento e devoção a um ide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 grupo, ainda, está sujeito ao poder verdadeiramente mágico das palavras, que podem evocar as mais formidáveis tempestades na mente grupal, sendo também capazes de apaziguá-las. Elas são proferidas com solenidade na presença dos grupos e, assim que foram pronunciadas, uma expressão de respeito se torna visível em todos os semblantes e todas as cabeças se curvam. Por muitos, são consideradas como forças naturais ou como poderes sobrenatura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e, portanto, a identificação da mente grupal com a mente dos povos primitivos. Nos grupos, as idéias mais contraditórias podem existir lado a lado e tolerar-se mutuamente, sem que nenhum conflito surja da contradição lógica entre elas. Esse é também o caso da vida mental inconsciente dos indivíduos, das crianças e dos neurótic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 grupos nunca ansiaram pela verdade. Exigem ilusões e não podem passar sem elas. Constantemente dão ao que é irreal precedência sobre o real; são quase tão intensamente influenciados pelo que é falso quanto pelo que é verdadeiro. Possuem tendência evidente a não distinguir entre as duas coi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m que seres vivos se reúnem em certo número, sejam eles um rebanho de animais ou um conjunto de seres humanos, se colocam instintivamente sob a influência de um chefe. Um grupo é um rebanho obediente, que nunca poderia viver sem um senhor. Possui tal anseio de obediência, que se submete instintivamente a qualquer um que se indique a si próprio como che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UPO PSICOLÓGIC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b certa condição grupal o indivíduo sente, pensa e age de maneira completamente diferente daquela que se apresentaria se sentisse, pensasse e agisse se estivesse sozinh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sa condição o insere num grupo de pessoas que adquiriu as características de um “grupo psicológico”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al líder deve ajustar-se ao grupo em suas qualidades pessoa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ve ser fascinado por uma intensa fé (numa idéia), a fim de despertar a fé do grupo; tem de possuir vontade forte e imponente, para que o grupo, que não tem vontade própria, possa dele acei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e Bon acredita que os líderes se fazem notados por meio das idéias em que eles próprios acreditam fanaticamente. Atribui tanto às idéias quanto aos líderes um poder misterioso e irresistível, a que chama de ‘prestígio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prestígio, na concepção de Le B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É uma espécie de domínio exercido sobre nós por um indivíduo, um trabalho ou uma idé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alisa inteiramente nossas faculdades críticas e enche-nos de admiração e respei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ece que desperta um sentimento como o da ‘fascinação’ na hipno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tígio adquirido ou artific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liga às pessoas em virtude de seu nome, fortuna e reputação, e a opiniões, obras de arte etc. em virtude da tradição, ou seja, remonta ao pass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tígio pesso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a-se a umas poucas pessoas, que se tornam líderes por meio dele, e tem o efeito de fazer com que todos as obedeçam como se fosse pelo funcionamento de alguma magia magnética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enhuma das afirmativas desse autor apresentou algo de novo. Tudo o que diz em detrimento e depreciação das manifestações da mente grupal, já fora dito por outros antes dele, com igual nitidez e igual hostilidade,por pensadores, estadistas e escritores desde os primeiros períodos da literatu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s duas teses, que abrangem as mais importantes opiniões de Le Bon, são as que tocam na inibição coletiva do funcionamento intelectual e na elevação da afetividade nos grup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que resta de peculiar a Le Bon são as duas noções do inconsciente e da comparação com a vida mental dos povos primitivos, e mesmo estas já haviam sido mencionadas antes de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 ‘grupo’ não possui organização alguma, ou uma que mal merece esse no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eve um grupo dessa espécie como sendo uma ‘multidão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te, porém, que uma multidão de seres humanos dificilmente pode reunir-se sem possuir, pelo menos, os rudimentos de uma organizaç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 para que um grupo se forme é preciso que os indivíduos tenham algo em comum uns com os outros, um interesse comum num objeto, uma inclinação emocional semelhante numa situação ou noutra e certo grau de influência recípro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o mais alto o grau dessa ‘homogeneidade mental’, mais prontamente os indivíduos constituem um grupo psicológico e mais notáveis são as manifestações da mente grup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maneira pela qual os indivíduos são arrastados por um impulso comum é explicada por McDougall através do que chama de ‘princípio da indução direta da emoção por via da reação simpática primitiva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a ‘exaltação ou intensificação de emoção’ produzida em cada membro do grupo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ípio da indução direta da emoção por via da reação simpática primitiv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 grupo as emoções dos homens são excitadas até um grau que raramente ou nunca atingem sob outras condições, e essa entrega constitui experiência tão agradável para os interessados, que eles entregam-se às suas paixões, fundem-se, assim, num  grupo, e perdem o senso dos limites de sua individual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o mais grosseiros e simples são os impulsos emocionais, mais aptos se encontram a propagar-se através de um gru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UPO PSICOLÓGIC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artir disso podemos nos question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que é um “grupo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este grupo adquire a capacidade de exercer influência sobre a vida mental do indivídu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 a natureza da ação mental que essa influência força no indivídu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se mecanismo de intensificação da emoção é favorecido por algumas outras influências que emanam dos grup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 poder ilimita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 perigo insuperáve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rna-se o substituto de toda a sociedade human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riga o indivíduo a colocar sua antiga ‘consciência’ fora de ação e a entregar-se à atração do prazer aumenta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mentes de inteligência inferior fazem com que as de ordem mais elevada desçam a seu próprio níve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s últimas são obstruídas em sua atividade, porque a intensificação da emoção cria condições desfavoráveis para o trabalho intelectual correto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indivíduos são intimidados pelo grupo e sua atividade mental não se acha livr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á uma redução, em cada indivíduo, de seu senso de responsabilidade por seus próprios desempenh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acterísticas do grupo “não organizado” si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 excessivamente emocional, impulsivo, violento, inconstante, contraditório e extremado em sua açã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esenta apenas as emoções rudes e os sentimentos menos refinado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 extremamente sugestionável, descuidado nas deliberações, apressado nos julgamentos, incapaz de qualquer forma que não seja a mais simples e imperfeita das formas de raciocínio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mente influenciado e conduzid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sprovido de autoconsciência, despido de auto-respeito e de senso de responsabilidad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to a ser conduzido pela consciência de sua própria força, tendendo a produzir todas as manifestações esperadas de um  poder irresponsável e absoluto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u comportamento assemelha-se ao de uma criança indisciplinada ou de um selvagem passional e desassistido numa situação estranha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autor enumera cinco ‘condições principais’ para a elevação da vida mental coletiva a um nível mais al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ira e fundamental condição: tem de haver certo grau de continuidade de existência no grupo. Esta pode ser material ou forma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, se os mesmos indivíduos persistem no grupo por certo temp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l, se se desenvolveu dentro do grupo um sistema de posições fixas que são ocupadas por uma sucessão de indivídu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unda condição: em cada membro do grupo deve se formar uma idéia definida da natureza, composição, funções e capacidades do grupo, de maneira que, a partir disso, possa desenvolver uma relação emocional com o grupo como um t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ceira condição: o grupo deve ser colocado em interação (talvez sob a forma de rivalidade) com outros grupos semelhantes, mas que dele difiram em muitos asp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rta condição: o grupo deve possuir tradições, costumes e hábitos, tais que determinem a relação de seus membros uns com os ou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inta condição: o grupo deve ter estrutura definida, expressa na especialização e diferenciação das funções de seus constitui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A CONCEPÇÃO DE MENTE GRUPAL DE McDOUGAL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essas condições forem satisfeitas, afastam-se as desvantagens psicológicas das formações de grup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dução coletiva da capacidade intelectual é evitada retirando-se do grupo o desempenho das tarefas intelectuais e reservando-as para alguns membros de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FATO FUNDAMENTAL DA PSICOLOGIA DE GRUP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stitui as duas teses apresentadas por Le Bon e McDougall, relativas à intensificação das emoções e à inibição do intelecto nos grupos primitivos, encontradas nos grupos psicológ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s grupos se distinguem por sua especial sugestionabilidade, na realidade um fenômeno irredutível e primitivo, um fato fundamental na vida mental do hom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LGUMAS CONSIDERAÇÕES DE FREUD A RESPEITO DA PSICOLOGIA DE GRUPO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 parte da libido para explicar alguns aspectos próprios dos grup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 libido entende todo e qualquer amor, não só aquele que tem a união sexual como objetivo, mas aquele que abrange também o amor próprio, o amor pelos pais e pelos filhos, a amizade e o amor pela humanidade em geral, bem como a devoção a objetos concretos e a idéias abstrat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LGUMAS CONSIDERAÇÕES DE FREUD A RESPEITO DA PSICOLOGIA DE GRUPO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pesquisa psicanalítica postula que todas essas tendências constituem expressão dos mesmos impulsos instintuais da libi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as relações entre os sexos, esses impulsos forçam seu caminho no sentido da união sex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m outras circunstâncias, são desviados desse objetivo ou impedidos de atingi-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s relações amorosas constituem também a essência da mente grup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ão importa quem são os indivíduos que compõem um grupo psicológico, suas semelhanças ou dessemelhanças, eles formarão uma mente coletiva que os fará pensar, sentir e agir de maneira diferente daquela que pensariam, sentiriam e agiriam em isola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grupo psicológico é um ser provisório, formado por elementos diferentes entre si, mas que formam uma estrutura completamente diferente da estrutura de cada um de seus memb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o corpo humano, que é formado por células completamente diferentes entre si, mas que formam um todo, por sua vez diferente das células que o forma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LGUMAS CONSIDERAÇÕES DE FREUD A RESPEITO DA PSICOLOGIA DE GRUPO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sa última hipótese encontra apoio em duas reflexões de rotin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meiro, a de que um grupo é claramente mantido unido por um poder de alguma espécie; para Freud, essa façanha deve ser atribuída a Eros, que mantém unido tudo o que existe no mun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gundo, a de que, se um indivíduo abandona a sua distintividade num grupo e permite que seus outros membros o influenciem por sugestão, isso indica que o faz por sentir necessidade de estar em harmonia com eles, de preferência a estar em oposição a e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FERENTES TIPOS DE GRUPO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 possível distinguir tipos muito diferentes de grupos e linhas opostas em seu desenvolviment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êmer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adouro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ogêneos, constituídos pelos mesmos tipos de indivíduo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ão homogêneo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urai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ficiais, que exigem uma força externa para mantê-los reunido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mitiv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dos, com estrutura defini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upos com líderes; 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upos sem líde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NÁLISE DE DOIS GRUPOS ARTIFICIAIS E ALTAMENTE ORGANIZADOS  - IGREJA E EXÉRCITO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uma Igreja, bem como num exército, por mais diferentes que ambos possam ser em outros aspectos, prevalece a mesma ilusão de que há um cabeça — na Igreja Católica, Cristo; num exército, o comandante-chefe — que ama todos os indivíduos do grupo com um amor igu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esses dois grupos artificiais, cada indivíduo está ligado por laços libidinais por um lado ao líder (Cristo, o comandante-chefe) e por outro aos demais membros do grup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 IGREJ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 amor igual para todos foi expressamente enunciado por Crist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 se coloca, para cada membro do grupo, na relação de um bondoso irmão mais velho; é seu pai substitu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das as exigências feitas ao indivíduo derivam desse amor de Cris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 traço democrático perpassa pela Igreja, pela própria razão de que, perante Cristo, todos são iguais e todos possuem parte igual de seu am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á semelhança entre a comunidade cristã e uma família, e os crentes chamam-se a si mesmos de irmãos em Cristo, isto é, irmãos através do amor que Cristo tem por e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laço que une cada indivíduo a Cristo é também a causa do laço que os une uns aos ou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 EXÉRCI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omandante-chefe é um pai que ama todos os soldados igualmente e, por essa razão, eles são camaradas entre s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xército difere estruturalmente da Igreja por compor-se de uma série de tais grup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 capitão é o comandante-chefe e o pai de sua companhi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 oficial inferior o é de sua unid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RINCIPAL FENÔMENO DA PSICOLOGIA DE GRUP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alta de liberdade do indivíduo num gru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cada indivíduo está preso em duas direções por um laço emocional tão intenso, aí está a circunstância que provoca alteração e limitação que foram observadas em sua personalid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ÂNIC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sa palavra é utilizada para descrever qualquer medo coletivo, até mesmo o medo no indivíduo quando ele excede todos os limites, e, com freqüência, é reservada para os casos em que a irrupção do medo não é justificada pela ocasiã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pânico significa a desintegração de um grupo; ele envolve a cessação de todos os sentimentos de consideração que os membros do grupo, sob outros aspectos, mostram uns para com os ou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laços mútuos entre os membros do grupo via de regra desaparecem ao mesmo tempo que o laço com seu líd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erda do líder, num sentido ou noutro, o nascimento de suspeitas sobre ele, trazem a irrupção do pân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ESINTEGRAÇÃO DO GRUPO MENTA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e o pânico se um grupo desse tipo se desintegra. Suas características são a de que as ordens dadas pelos superiores não são mais atendidas e a de que cada indivíduo se preocupa apenas consigo próprio, sem qualquer consideração pelos outros. Os laços mútuos deixaram de existir e libera-se um medo gigantesco e insensa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medo tornou-se tão grande, a ponto de poder desprezar todos os laços e todos os sentimentos de consideração pelos ou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tence à própria essência do pânico não apresentar relação com o perigo que ameaça, e irromper freqüentemente nas ocasiões mais triviai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a Le Bon, as características comuns apresentadas por um indivíduo em isolamento somem num grupo, fazendo com que sua identidade se desfaç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 inconsciente racial emerge, inumeráveis características comuns, transmitidas de geração a geração, que constituem o gênio de uma raç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u seja, as características conscientes individuais dão lugar às funções inconscientes semelhantes em todos os indivídu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 grupo, o indivíduo apresenta novas características que não possuía antes. O autor concebe três motivos para is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º. Poder invencív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elo número de indivíduos que compõem tal grupo, e por ser um grupo anônimo, irresponsável, o sentimento de responsabilidade desaparece inteir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º. Contág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Num grupo, todo sentimento e todo ato são contagiosos, a tal ponto que o indivíduo imediatamente sacrifica seu interesse pessoal pelo interesse coletiv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º. Sugestã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ausa do contágio, determina nos indivíduos de um grupo características especiais que são às vezes inteiramente contrárias às apresentadas pelo indivíduo isola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ses três motivos são causados pela fascinação, fenômeno este similar aquele engendrado pelo hipnotizador. A personalidade consciente desaparece, a vontade e o discernimento se perderam. Todos os sentimentos e o pensamento inclinam-se na direção determinada pelo hipnotiza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ob a influência de uma sugestão, o grupo empreenderá a realização de certos atos com irresistível impetuosidade. Essa impetuosidade é ainda mais irresistível no caso dos grupos do que no do sujeito hipnotizado, porque, sendo a sugestão a mesma para todos os indivíduos do grupo, ela ganha força pela reciprocidade, ou seja, pelo feed back entre seus componentes, que o grupo favore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CEPÇÃO DE LE BON DA MENTE COLETIV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desaparecimento da personalidade consciente, a predominância da personalidade inconsciente, a modificação por meio da sugestão e do contágio de sentimentos e idéias numa direção idêntica, a tendência a transformar imediatamente as idéias sugeridas em atos, são as características principais do indivíduo que faz parte de um grupo. Ele não é mais ele mesmo, mas transformou-se num autômato que deixou de ser dirigido pela sua vontad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12:43:21Z</dcterms:created>
  <dc:creator>Marisa</dc:creator>
  <dc:description/>
  <dc:language>en-US</dc:language>
  <cp:lastModifiedBy>Marisa</cp:lastModifiedBy>
  <dcterms:modified xsi:type="dcterms:W3CDTF">2009-08-29T09:13:37Z</dcterms:modified>
  <cp:revision>14</cp:revision>
  <dc:subject/>
  <dc:title>PSICOLOGIA DE GRUPO</dc:title>
</cp:coreProperties>
</file>