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a%20Califfa%20Sarah%20Brightman%20-%20menor5112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E19-AA86-455D-B516-4B31D98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E28-94EE-4B7B-BFF4-3A08B15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E92-84F3-4ADE-A288-AF0BCF90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78E-EAE9-4F19-80BF-C8162A04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1D9-B387-4DB0-8A17-69B7D0B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D6C-5E30-4FEC-BE94-B59F7390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605-1C62-40E0-9E49-7514E61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4B3-C64F-4DF3-A1EA-99877686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6C4-CD20-48A6-803B-F14620F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4D1-FAD5-412C-96F2-0E0B18B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DA8-DA7D-44ED-A5E0-AD4A5B7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A59-FEB4-46CB-9CD4-BBEC4AC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B93-00D6-4700-B45A-A95F30E1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Califfa%20Sarah%20Brightman%20-%20menor51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28000" y="6524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2" name="La%20Califfa%20Sarah%20Brightman%20-%20menor511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mo poderiam existir duas toalhas tão parecidas? Imediatamente, o pastor entendeu o que tinha acontecido e disse: - Venha... eu vou levá-lo a um lugar que o senhor vai gostar muito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No caminho o velho contou a mesma história da mulher. Ele, antes de poder fugir, também havia sido preso e nunca mais pôde ver sua mulher e sua casa, por 35 anos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620640"/>
            <a:ext cx="86374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Ao chegar à mesma casa onde deixara a mulher, três dias antes, ajudou o velho a subir os três lances de escadas e bateu na porta. Creio que não há necessidade de se contar o resto da história. Quem disse que Deus não trabalha de maneira misteriosa?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NADA ACONTECE POR ACASO!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76280"/>
            <a:ext cx="86374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Nas minhas orações de hoje estou pedindo a Deus que abençoe você... Guie...Proteja... O amor de Deus está sempre com você!!! Suas promessas são verdadeiras. Quando seu caminho parece difícil, lembre-se de entregar-se em Seus braços e Ele fará o resto. Quando encontrar alguém sem um sorriso, DÊ-LHE O SEU! Não lhe custa nada... mas, pode valer muito para este alguém!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A vida pode não ser a festa que gostaríamos que fosse, mas, enquanto estivermos por aqui, deve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SER E FAZER OS OUTROS FELIZ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ff33"/>
                </a:solidFill>
                <a:latin typeface="Comic Sans MS"/>
              </a:rPr>
              <a:t>DEUS TE ABENÇOE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...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Vale a pena !sandra m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6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00000" y="2276640"/>
            <a:ext cx="7345440" cy="21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OALHA DE M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exto recebido pela Internet informando ser uma “história real” e de autor desconh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magens Baixadas do Office Online da 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Musica: La Califfa - Sarah Bright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Um novo pastor, recentemente formado, e sua esposa, que foram encarregados de reabrir uma igreja no bairro de Brooklyn, NY chegaram no início de outubro, entusiasmados com a oportun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Quando viram a igreja, observaram que havia muitos estragos e um grande trabalho a ser feito. Sem se deixar abater, estabeleceram como meta deixar tudo pronto para o primeiro serviço: o culto de N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Trabalharam sem descanso, consertando o telhado... refazendo o piso... pintando... e, muito antes do Natal, em 18 de dezembro, tudo estava pronto! Mas... No dia seguinte, 19 de dezembro, desabou uma terrível tempestade que durou por dois dias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No dia 21, o pastor foi até a igreja. Seu coração doeu... viu que o telhado tinha quebrado e que uma grande área do revestimento de gesso decorado, da parede do santuário, logo atrás do púlpito, havia caído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O pastor, enquanto limpava o chão, pensava em como resolver a situação. No caminho de casa, pensando em adiar o culto de Natal, observava as vitrines, enfeitadas para a época, quando notou um bazar beneficente e parou por instantes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Uma linda toalha de mesa, de crochet, na cor marfim, com um crucifixo delicadamente bordado no centro chamou-lhe a atenção. Era do tamanho exato para cobrir o estrago atrás do púlpito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mprou-a e voltou para a igreja. Começou a nevar. Apressou seus passos e quando chegava à porta da igreja uma velha senhora vinha correndo em direção contrária tentando pegar o ônibus, o que não conseguiu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O pastor convidou-a a entrar para esperar pelo próximo que viria 45 minutos depois, abrigando-se do frio. Ela sentou-se num banco e nem prestava atenção no pastor que já providenciava a instalação da toalha de mesa na parede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009800"/>
            <a:ext cx="86374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Ao terminar afastou-se e pôde admirar o quanto a toalha era linda e servia perfeitamente para esconder o estrago. Então, o pastor notou a velha encaminhando-se para ele. Seu rosto estava lívido e perguntou: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Pastor, onde o senhor encontrou essa toalha de mesa?       O pastor contou a história. A mulher pediu-lhe que examinasse o canto direito inferior para encontrar as iniciais EBG, bordadas. O pastor fez o que a mulher pediu e,intrigado, confirmou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009800"/>
            <a:ext cx="863748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A mulher disse: - Essas são as minhas iniciais. Ela havia feito essa toalha de mesa há 35 anos, na Áustria. Contou que, antes da guerra, ela e seu marido estavam            "bem-de-vida"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Quando os nazistas invadiram seu país combinaram fugir; ela iria antes e seu marido a seguiria uma semana depois. Ela foi capturada, trancada numa prisão e nunca mais viu seu marido e sua casa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009800"/>
            <a:ext cx="863748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O pastor ofereceu a toalha, mas, ela recusou, dizendo que estava num lugar muito apropriado. Insistindo, ofereceu-se para levá-la até sua casa; era o mínimo que poderia fazer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Ela morava em Staten Island e tinha passado o dia no Brooklin para um serviço de faxina. No dia de Natal a igreja estava quase cheia. Foi um lindo trabalho.</a:t>
            </a:r>
            <a:r>
              <a:rPr b="0" lang="pt-BR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81000"/>
            <a:ext cx="863748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Ao final, o pastor e sua esposa cumprimentaram os fiéis um a um à porta e muitos diziam que retornariam. Um velho homem, que o pastor reconheceu pela vizinhança, permaneceu sentado, atônito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O pastor aproximou-se e, antes que dissesse palavra, o velho perguntou:  Onde o senhor conseguiu a toalha de mesa da parede? Ela é idêntica à uma que minha mulher fez, muitos anos atrás, quando vivíamos na Áustria, antes da guerra.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8:02:45Z</dcterms:created>
  <dc:creator>Instalador</dc:creator>
  <dc:description/>
  <dc:language>en-US</dc:language>
  <cp:lastModifiedBy>Cliente</cp:lastModifiedBy>
  <dcterms:modified xsi:type="dcterms:W3CDTF">2009-08-09T22:28:53Z</dcterms:modified>
  <cp:revision>4</cp:revision>
  <dc:subject/>
  <dc:title>Slide 1</dc:title>
</cp:coreProperties>
</file>