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he%20Scientis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2FF-7033-4DD6-B6C4-8E384921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6E9-4C22-4D28-9093-A0FFCBEB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C54-E759-4A5D-95C3-405A324C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7D1-238F-415A-9C40-8B40A053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16C-9312-404B-8A10-E59B305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1CD-4346-432B-A2DC-0AB2115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427-0417-4DC4-A233-99F43116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2CB-3D6B-422D-BB6A-E96472E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95B-367F-4CD0-87DE-4CF4A3E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441-2E45-4E2C-9334-F5E49DA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A38-3763-4CD6-A2E9-7A33AC3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4F9-96DB-489B-837C-678693C4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750-EA33-4033-A628-195DECFC1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Scientis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4267080"/>
            <a:ext cx="5410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91d"/>
                </a:solidFill>
                <a:latin typeface="Comic Sans MS"/>
              </a:rPr>
              <a:t>A  CADERNETA  VERMEL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685800"/>
            <a:ext cx="533376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funeral: o sabiá cantando, o sol se po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le ficou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em casa com a mãe até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 noite, beijou-a e prometeu que voltaria trazendo netos e esposa par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onhecê-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gora, ele poderia voltar à casa, porqu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quele que não o amava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não estava mais lá para dar-l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onselhos ácidos nem 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riticá-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90720"/>
            <a:ext cx="5105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a hora da despedida a mãe colocou-lhe algo pequeno e retangular na m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Há mais tempo você poderia ter recebido isto - disse. 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Mas, infelizmente só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pois que ele se foi eu encontrei entre os guardados mais importantes...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295280"/>
            <a:ext cx="58672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Foi um gesto mecânico que, minutos depois de começar a viagem, meteu a mã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no bolso e sentiu o pres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foco mortiço da luz d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bagageiro, revelou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uma pequena caderneta de ca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vermelh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briu-a curios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838080"/>
            <a:ext cx="53337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Páginas amare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Na primeira, no alto, reconheceu a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caligrafia firme do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pa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"Nasceu hoje o José Rober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Quase quatro quilos!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O meu primeiro filho,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um garotã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Estou orgulhoso de ser o pai daque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que será a minha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continuação na Terra!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4648320"/>
            <a:ext cx="815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À medida que folheava, devorando cada anotação, sentia um aperto na boca do estomago, mistura de dor e perplexida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pois as imagens do passado ressurgiram firmes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atrevidas como se acabassem de acontec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5800"/>
            <a:ext cx="63244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Hoje, meu filho foi para es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stá um homenzinho!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Quando eu vi ele de uniforme, fiqu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mocionado e desejei-lhe um futur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heio de sabed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 vida dele será diferente da minh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e não pude estudar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or ter sid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brigado a ajudar meu p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Mas para meu filho desejo o melh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ão permitirei que a vida o castigue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990720"/>
            <a:ext cx="4724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utra pág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Roberto me pediu uma bicicleta, meu salário não dá, mas el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merece porque é estudioso e esforç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Fiz um empréstimo que espero pagar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om horas extras".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295280"/>
            <a:ext cx="4952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osé Roberto mordeu os láb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Lembrava-se da sua intolerânc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as brigas feitas para ganha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onhada bicic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e todos o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migos ricos tinham uma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or que ele também não pod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ter a sua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90720"/>
            <a:ext cx="52578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É duro para um pai castigar um fi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 bem sei que ele poderá me odi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or iss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ntretanto, devo educá-lo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eu próprio bem."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Foi assim que aprendi a ser 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homem honrado e esse é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 único modo que sei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 ensiná-lo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962520"/>
            <a:ext cx="5486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osé Roberto fechou os olhos e viu toda a cena quando por causa de um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bebedeira, tinha ido para a cadeia e naquela noite, se o pai não tivess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parecido para impedi-lo de ir ao baile com os amig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91440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O carteiro entregou o tele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José Roberto não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agradeceu e enquanto abria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o envelope, uma profunda ruga sulcou-lhe a te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Uma expressão mais de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surpresa do que de dor tomou-lhe conta do ro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Palavras breves e inci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- Seu pai faleceu. Enterro 18horas. Mamã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4952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Lembrava-se apenas do automóvel retorcido e manchado 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sangue que tinh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batido contra uma árvor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arecia ouvir sinos, o choro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idade inteira enquanto quatro caixões seguiam lugubremente para 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emitér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95280"/>
            <a:ext cx="5257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s páginas se sucediam com ora curtas, ora longas anotaçõ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heias das respostas que revelam o quanto, em silêncio e amargura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 pai o havia amad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"velho" escrevia de madrug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609480"/>
            <a:ext cx="54864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Momento da solidão, num grito de silêncio, porque era desse jeito que ele e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inguém o havia ensinado a chorar e a dividir suas dor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mundo esperava que fosse dur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ara que não o julgassem nem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fraco e nem covarde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, no entanto, agora José Roberto estava tendo a prova que, debaixo daquel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fachada de fortaleza havia um coração tão terno e cheio de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563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 última pág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quela do dia em que ele havi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artido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- "Deus, o que fiz de errado para meu filho me odiar tant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or que sou considerado culpa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e nada fiz, senão tentar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transformá-lo em um homem 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bem?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057400"/>
            <a:ext cx="55627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Meu Deus, não permita que esta injustiça me atormente para s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e um dia ele possa me compreender e perdoar por eu não ter sabido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pai que ele merecia ter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80880"/>
            <a:ext cx="56386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epois não havia mais anotações e as folhas em branco davam a idéia de que 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ai tinha morrido naquele momen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osé Roberto fechou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pressa a caderneta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 peito do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coração parecia haver crescido tanto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que lutava para escapar pela b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em viu o ônibus entrar n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rodoviária, levantou aflito 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saiu quase correndo porque precis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e ar puro para respi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457200"/>
            <a:ext cx="54100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 aurora rompia no céu e mais um dia começava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"Honre seu pai para que os dias de sua velhice sejam tranqüilos!" - cert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ez ele tinha ouvido essa frase e jamais havia refletido o na profundida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que ela contin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m sua egocêntrica cegueira 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dolescente, jamais havi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arado para pensar em verdades mais profun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990720"/>
            <a:ext cx="5715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ara ele, os pais eram descartáveis e sem valor como as embalagens que sã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tiradas ao lix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final, naqueles dias de pouca reflex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tudo era juventude, saúde, belez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musica, cor, alegria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spreocupação, va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ão era ele um semide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600200"/>
            <a:ext cx="510552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Agora, porém, o tempo o havia envelhecido, fatigado e também tornado pai aquele falso heró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De rep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No jogo da vida, ele era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o pai e seus atuais contest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838080"/>
            <a:ext cx="525780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omo não havi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ensado nisso ante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ertamente por não ter tempo, pois andava muito ocupad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om os negóc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 luta pela sobrevivência, a s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e passar fins 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semana longe da cida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grande, a vontade de mergulhar no silêncio sem precisar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ialogar com o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fil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362320"/>
            <a:ext cx="48769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ose Roberto continuou parado, olhando para o vaz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enhuma lágrima lh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eio aos olhos nenhum aperto no c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a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85800"/>
            <a:ext cx="53337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le jamais tivera a idéia de comprar uma cadernetinha de capa vermel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ara anotar uma frase so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eus herdeiros, jamais lh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havia passado pela cabeça escre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e tinha orgulho daqu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e continuam o seu nom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ustamente ele, que se considerava o mais completo pai da Ter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828800"/>
            <a:ext cx="53337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Uma onda de vergonha quase o prostrou por terra numa derradeira lição 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humil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is gritar, erguer procurando agarrar 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elho para sacudi-lo 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braçá-lo, encontrou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vaz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838080"/>
            <a:ext cx="55623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Havia uma raquítica rosa vermelha num galho no jardim de uma casa, o sol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cabava de nasc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ntão, José Roberto acariciou a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étalas e lembrou-se d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mãozona do pai podando, adubando e cuidando com am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or que nunca tinh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ercebido tudo aquilo a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80880"/>
            <a:ext cx="54864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Uma lágrima brotou como o orvalho, e erguendo os olho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ara o céu dourado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 repente, sorriu e desabafou-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uma confissão aliviado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Se Deus me mandasse escol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u juro que não queria ter tid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utro pai que não foss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ocê velh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buClr>
                <a:srgbClr val="3a391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brigado por tanto amor, e me perdoe por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haver sido tão cego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066680"/>
            <a:ext cx="51818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"FALE, CURTA, ABRACE, BEIJ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SINTA E AME TODAS A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ESSOAS COM QUE VOCÊ POD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ER E TOCAR"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PROVEITE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14400"/>
            <a:ext cx="56386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ra como se houvesse morrido um estra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Por que nad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sentia pela morte d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vel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Com um turbilhão de pensamentos confundido-o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avisou a esposa, tomou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o ônibus e se foi, vencendo os silenciosos quilômetro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de estrada enquanto 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abeça girava a m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752480"/>
            <a:ext cx="6400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No íntimo, não queria ir ao funeral e, se estava indo era apenas para que 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mãe não ficasse mais amarg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la sabia que pai e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filho não se davam b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609480"/>
            <a:ext cx="53341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A coisa havia chegado ao final no dia em que, depois de mais uma chu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de acusações, José Roberto havia f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as malas e partido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prometendo nunca mais</a:t>
            </a:r>
            <a:br>
              <a:rPr sz="2000"/>
            </a:b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botar os pés naquela ca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457200"/>
            <a:ext cx="47242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Um emprego razoável, casamento, telefonemas à mãe pelo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Natal, Ano Novo ou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áscoa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le havia se desligado da família, não pensava no pai e a última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oisa na vida que desejava n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ra ser parecido com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O velório: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poucas pesso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90720"/>
            <a:ext cx="56386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A mãe está lá, pálida, gelada, choro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Quando reviu o filho, as lágrimas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correram silenciosas, foi um abraço de desesperado silên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epois, ele viu o corpo se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nvolto por um lençol de rosas vermelho,</a:t>
            </a:r>
            <a:br>
              <a:rPr sz="2000"/>
            </a:b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  como as que o pai gost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de cultiv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609480"/>
            <a:ext cx="5562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José Roberto não verteu uma única lágrima, o coração não p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a391d"/>
                </a:solidFill>
                <a:latin typeface="Comic Sans MS"/>
              </a:rPr>
              <a:t>Era como estar diante de um desconhecido um estranho, u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0:41:19Z</dcterms:created>
  <dc:creator>Leila</dc:creator>
  <dc:description/>
  <dc:language>en-US</dc:language>
  <cp:lastModifiedBy>Adilson</cp:lastModifiedBy>
  <dcterms:modified xsi:type="dcterms:W3CDTF">2004-10-06T14:17:49Z</dcterms:modified>
  <cp:revision>5</cp:revision>
  <dc:subject/>
  <dc:title>Apresentação do PowerPoint</dc:title>
</cp:coreProperties>
</file>