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andre_rieu_-_Amazing_Grace.wav" ContentType="audio/x-wav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D03-D6B2-4AF5-A1E0-16F70702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627B-7AFE-47B4-8D1B-43B46EFD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E52-A329-4110-A24A-27A9E2DE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13C-92F0-4505-9A88-E257B310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74D0-F766-4D5F-83BE-ECA8CDD3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F769-4DB8-4B95-9243-CBCDA916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9B9-2365-4429-ADD1-0445A473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2F3C-9A01-4857-8688-262D9890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8FB-BC82-43B5-8152-2A8BD1F7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0F89-A12E-4B7D-991B-8BEFBD9E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28DD-233E-40B8-9B46-1ACFC18F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2E68-B36A-4CE8-8E5A-B886AD69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C5F0-2F2D-4221-969A-2B9D5E130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ndre_rieu_-_Amazing_Grac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bethnorling@globo.com" TargetMode="External"/><Relationship Id="rId2" Type="http://schemas.openxmlformats.org/officeDocument/2006/relationships/hyperlink" Target="http://www.geocities.yahoo.com.br/sintoniaelevada" TargetMode="External"/><Relationship Id="rId3" Type="http://schemas.openxmlformats.org/officeDocument/2006/relationships/hyperlink" Target="mailto:sintonia_elevada-subscribe@yahoogrupos.com.br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7" name=""/>
          <p:cNvSpPr txBox="1"/>
          <p:nvPr/>
        </p:nvSpPr>
        <p:spPr>
          <a:xfrm>
            <a:off x="1042920" y="1197000"/>
            <a:ext cx="43434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SVIO DE ROTA</a:t>
            </a:r>
            <a:endParaRPr b="0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867280" y="5445000"/>
            <a:ext cx="239076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ilvia Schmidt</a:t>
            </a:r>
            <a:endParaRPr b="0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11359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900000" y="3716280"/>
            <a:ext cx="741708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 você não vê a possibilidade de exerc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penas o trabalho de que realmente gosta, encontre tempo para conciliar as coisas e para dividir com o mundo os seus reais e potenciais tal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i para isso que você nasceu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10035" r="0" b="0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826920" y="2565360"/>
            <a:ext cx="756144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ocê merece desfrutar da felicidade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ambém ter nascido para favorecer a humanidade com os talentos que lhe foram confiados pela Providência Div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elizes e abençoados são aqueles que n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brem não do destino e da vontade do seu espír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inguém – nem você – veio ao mundo para ser apenas mais um na multid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2000">
    <p:wheel spokes="8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50760" y="1546200"/>
            <a:ext cx="7077240" cy="35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xto: Silvia Schmidt – Desvio de r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úsica: André Rieu – Amazing grac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1"/>
              </a:rPr>
              <a:t>bethnorling@globo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GRUPO SINTONIA ELEV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2"/>
              </a:rPr>
              <a:t>Clique aqui para visitar nosso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3"/>
              </a:rPr>
              <a:t>Clique aqui para receber novas mensagens gratuit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10094" r="0" b="0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755640" y="3645000"/>
            <a:ext cx="756144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ão permita que nada nem ningué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faste você do seu camin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ara todos nós a Providência Divina crio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ma rua que tem o nosso nome, e é por essa rua que devemos caminhar com passos largos e sempre à frente de tudo e de todos que tentem nos desviar de nossa ro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8000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16892" r="0" b="0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2484360" y="1413000"/>
            <a:ext cx="5832720" cy="235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ão há ninguém que não tenha um dom, um talento para desenvolver, ainda que pareçam muito simples ou muito complic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Quando você está infeliz você está fora do seu camin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wheel spokes="8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10094" r="0" b="0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826920" y="3933720"/>
            <a:ext cx="734544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á donas de casa que desempenh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u trabalho e cantam enquanto o fazem, e outras se cansam, se irritam com as ma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mples taref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tas últimas estão fora do próprio camin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826920" y="2276640"/>
            <a:ext cx="7561440" cy="31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á grandes homens de negócios que ao fi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o dia estão plenos, inteiros e ansiosos por mais um dia de trabal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á outros que, por menor que ten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do o movimento, se sentem cansad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nfadados e preferem dormir eternamente a repetir mais um dia de l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te últimos também estão fora do próprio camin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2000">
    <p:wheel spokes="8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8023" r="0" b="0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900000" y="3500280"/>
            <a:ext cx="748836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sim como eles e em diferentes tipos de atividades há milhões de pessoas que não conseguem se sentir realizados com as funções que exerc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quela insatisfação que muitos sentem com o que fazem só tem a ver com seu “desvio de rot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wheel spokes="8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8572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826920" y="4005360"/>
            <a:ext cx="756144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 você gosta de pintar, dançar, escrev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ventar, ou tantas outras coisas mais, não se limite nem se conforme com o que você faz, imaginando que esse é o seu desti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á tempo para tudo quando sabemos gerenciá-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10094" r="0" b="0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684360" y="3068640"/>
            <a:ext cx="777528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s campos das artes, das ciências, 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portes há muita gente que exerce paralelamente duas funçõ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quela que lhe dá sustento e aquela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m a ver com o que realmente gosta de faz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a é a receita para que sejamos imu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o tédio e à 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0">
    <p:wheel spokes="8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9664" r="0" b="0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900000" y="3284640"/>
            <a:ext cx="734400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ocê pode ser um grande dançarino atr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 um balcão de loja, um grande cientista num escritório de contabilidade, um gra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antor em roupa de garçom, um grande poeta em meio a processos jurídicos, um 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intor atrás de um guichê bancário, um grande escultor coberto por um uniforme de policial, e assim por di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4000">
    <p:wheel spokes="8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8:08:23Z</dcterms:created>
  <dc:creator>Beth Norling</dc:creator>
  <dc:description/>
  <dc:language>en-US</dc:language>
  <cp:lastModifiedBy>Beth Norling</cp:lastModifiedBy>
  <dcterms:modified xsi:type="dcterms:W3CDTF">2007-06-27T13:39:30Z</dcterms:modified>
  <cp:revision>12</cp:revision>
  <dc:subject/>
  <dc:title>Desvio de Rota</dc:title>
</cp:coreProperties>
</file>