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13F-4F84-41B3-A193-3EE249A5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B17-BBDC-4BF3-AD1F-4A46501D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DC9-8675-4616-AF6C-C5154F30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C04-2964-46F4-8B40-E6F090E6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D66-5944-4C7D-AA7C-9B668934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B9E-FE24-42BF-BBE1-BC0DE67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229-D0A5-40DE-BAAA-AE38567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918-C81B-4494-8E8B-C02E1D42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751-E516-4DE3-B18A-918C5861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34A-4C7A-4879-A31D-B8A64EA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A83-9C09-44F5-B2D8-AE49693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253-E7A2-43B7-99F7-EC39FDC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2260-1796-4A55-8DF8-DB6C92C208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Estória dos Sapin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 o resultado fo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059280" y="1773360"/>
            <a:ext cx="608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Que o sapinho 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campeão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 era sur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450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A moral da estória 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Nunca dê ouvidos a pessoas com tendências negativas ou pessimistas, porque eles tiram de você seus sonhos e desejos mais maravilhosos: Aqueles que você tem no coraç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1692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Sempre lembra do poder das palavras, porque tudo que você ouvir e ler, irá afetar suas açõ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3357360"/>
            <a:ext cx="86043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Arial"/>
              </a:rPr>
              <a:t>Portanto, seja </a:t>
            </a:r>
            <a:r>
              <a:rPr b="1" lang="en-US" sz="7200" spc="-1" strike="noStrike">
                <a:solidFill>
                  <a:srgbClr val="99ff33"/>
                </a:solidFill>
                <a:latin typeface="Arial"/>
              </a:rPr>
              <a:t>sempre</a:t>
            </a:r>
            <a:r>
              <a:rPr b="1" lang="en-US" sz="6000" spc="-1" strike="noStrike">
                <a:solidFill>
                  <a:srgbClr val="99ff33"/>
                </a:solidFill>
                <a:latin typeface="Arial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34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Arial"/>
              </a:rPr>
              <a:t>POSITIV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321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E acima de tudo, seja surdo quando as pessoas dizem que você não pode realizar seus sonh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52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Sempre pense:</a:t>
            </a:r>
            <a:br>
              <a:rPr sz="4400"/>
            </a:b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Eu posso fazer is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365360"/>
            <a:ext cx="651348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fb7d"/>
                </a:solidFill>
                <a:latin typeface="Arial"/>
              </a:rPr>
              <a:t>Mande essa mensagem para os outros “sapinhos” de quem você g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fb7d"/>
                </a:solidFill>
                <a:latin typeface="Arial"/>
              </a:rPr>
              <a:t>Dá a eles motivaçã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53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Era uma vez, um grupo de sapinhos, que organizaram uma competi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17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6320" y="6165360"/>
            <a:ext cx="206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apos2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2879640" cy="2387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538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O objetivo era alcançar o topo de uma torre muito a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33116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Uma  multidão se juntou em volta da torre para ver a corrida e animar os competido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A corrida começ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apos2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54" name="sapos2" descr=""/>
          <p:cNvPicPr/>
          <p:nvPr/>
        </p:nvPicPr>
        <p:blipFill>
          <a:blip r:embed="rId2"/>
          <a:stretch/>
        </p:blipFill>
        <p:spPr>
          <a:xfrm>
            <a:off x="457200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55" name="sapos2" descr=""/>
          <p:cNvPicPr/>
          <p:nvPr/>
        </p:nvPicPr>
        <p:blipFill>
          <a:blip r:embed="rId3"/>
          <a:stretch/>
        </p:blipFill>
        <p:spPr>
          <a:xfrm>
            <a:off x="543564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56" name="sapos2" descr=""/>
          <p:cNvPicPr/>
          <p:nvPr/>
        </p:nvPicPr>
        <p:blipFill>
          <a:blip r:embed="rId4"/>
          <a:stretch/>
        </p:blipFill>
        <p:spPr>
          <a:xfrm>
            <a:off x="838836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57" name="sapos2" descr=""/>
          <p:cNvPicPr/>
          <p:nvPr/>
        </p:nvPicPr>
        <p:blipFill>
          <a:blip r:embed="rId5"/>
          <a:stretch/>
        </p:blipFill>
        <p:spPr>
          <a:xfrm>
            <a:off x="774072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58" name="sapos2" descr=""/>
          <p:cNvPicPr/>
          <p:nvPr/>
        </p:nvPicPr>
        <p:blipFill>
          <a:blip r:embed="rId6"/>
          <a:stretch/>
        </p:blipFill>
        <p:spPr>
          <a:xfrm>
            <a:off x="694836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59" name="sapos2" descr=""/>
          <p:cNvPicPr/>
          <p:nvPr/>
        </p:nvPicPr>
        <p:blipFill>
          <a:blip r:embed="rId7"/>
          <a:stretch/>
        </p:blipFill>
        <p:spPr>
          <a:xfrm>
            <a:off x="622764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60" name="sapos2" descr=""/>
          <p:cNvPicPr/>
          <p:nvPr/>
        </p:nvPicPr>
        <p:blipFill>
          <a:blip r:embed="rId8"/>
          <a:stretch/>
        </p:blipFill>
        <p:spPr>
          <a:xfrm>
            <a:off x="370836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61" name="sapos2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62" name="sapos2" descr=""/>
          <p:cNvPicPr/>
          <p:nvPr/>
        </p:nvPicPr>
        <p:blipFill>
          <a:blip r:embed="rId10"/>
          <a:stretch/>
        </p:blipFill>
        <p:spPr>
          <a:xfrm>
            <a:off x="1692360" y="4653000"/>
            <a:ext cx="390600" cy="32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301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Sincer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Ninguém naquela multidão toda acreditava que sapinhos tão pequenos pudessem chegar ao topo da to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Eles diziam coisa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Oh... É difícil demais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Eles nunca vão chegar ao top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Eles não tem nenhuma chance de sucederem, a torre é muito alt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Os sapinhos começaram a cair um por um... Só alguns continuaram a subir mais e mais alto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A multidão continuava a gri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É muito difícil!!! Ninguém vai conseguir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879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Outros sapinhos se cansaram e desistiram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...Mas um continuou a subir e subir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Este não desisti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8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No final, todos os sapinhos tinham desistido de subir a torre.</a:t>
            </a:r>
            <a:br>
              <a:rPr sz="4000"/>
            </a:b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om exceção do sapinho que, depois de um grande esforço, foi o único a atingir o top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64000" y="44370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Naturalmente, os outros sapinhos queriam saber como ele conseguiu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Um dos sapinhos, perguntou ao campeão, como ele conseguiu forças para atingir seu objetiv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9640" y="5443560"/>
            <a:ext cx="2484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04:18:15Z</dcterms:created>
  <dc:creator>Caroline</dc:creator>
  <dc:description/>
  <dc:language>en-US</dc:language>
  <cp:lastModifiedBy>LIDER TECNOLOGIA</cp:lastModifiedBy>
  <dcterms:modified xsi:type="dcterms:W3CDTF">2008-04-21T23:59:48Z</dcterms:modified>
  <cp:revision>2</cp:revision>
  <dc:subject/>
  <dc:title>Estória dos Sapinhos</dc:title>
</cp:coreProperties>
</file>