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4C5-C2DD-4803-95CC-38655A50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678-9D59-4395-8C0B-7F0AC400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AB7-44D4-4B03-91ED-E9A49707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135-044A-49C5-AB76-ACEACE23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855-BCB5-432F-8E12-C7F57E9F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2C0-D274-481A-8075-6D9AB94D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DEE-42DE-4049-BEE7-0A5C17E8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57C-C4FC-43CC-AC8F-9AB7A8B1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ACB-7378-4219-94A6-1D0423D6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B53-12B3-44BD-8046-558D471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364-FAE0-4FBD-9F4D-0E94222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DD3-55AB-42DF-B6AB-38E1018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09D1-F374-4606-A81D-98327A7D97E2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cript MT Bold"/>
              </a:rPr>
              <a:t>As mulheres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cript MT Bold"/>
              </a:rPr>
              <a:t>são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cript MT Bold"/>
              </a:rPr>
              <a:t>mesm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cript MT Bold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cript MT Bold"/>
              </a:rPr>
              <a:t>complicada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72600" y="455400"/>
            <a:ext cx="8555400" cy="6115320"/>
            <a:chOff x="372600" y="455400"/>
            <a:chExt cx="8555400" cy="6115320"/>
          </a:xfrm>
        </p:grpSpPr>
        <p:pic>
          <p:nvPicPr>
            <p:cNvPr id="43" name="an01251_" descr=""/>
            <p:cNvPicPr/>
            <p:nvPr/>
          </p:nvPicPr>
          <p:blipFill>
            <a:blip r:embed="rId1"/>
            <a:stretch/>
          </p:blipFill>
          <p:spPr>
            <a:xfrm>
              <a:off x="6732720" y="4581360"/>
              <a:ext cx="2195280" cy="19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372600" y="455400"/>
              <a:ext cx="2133000" cy="5227920"/>
              <a:chOff x="372600" y="455400"/>
              <a:chExt cx="2133000" cy="5227920"/>
            </a:xfrm>
          </p:grpSpPr>
          <p:pic>
            <p:nvPicPr>
              <p:cNvPr id="45" name="na00806_" descr=""/>
              <p:cNvPicPr/>
              <p:nvPr/>
            </p:nvPicPr>
            <p:blipFill>
              <a:blip r:embed="rId2"/>
              <a:stretch/>
            </p:blipFill>
            <p:spPr>
              <a:xfrm rot="1008600">
                <a:off x="1618920" y="2781360"/>
                <a:ext cx="792000" cy="77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na00806_" descr=""/>
              <p:cNvPicPr/>
              <p:nvPr/>
            </p:nvPicPr>
            <p:blipFill>
              <a:blip r:embed="rId3"/>
              <a:stretch/>
            </p:blipFill>
            <p:spPr>
              <a:xfrm rot="20572200">
                <a:off x="468360" y="1773000"/>
                <a:ext cx="792000" cy="76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na00806_" descr=""/>
              <p:cNvPicPr/>
              <p:nvPr/>
            </p:nvPicPr>
            <p:blipFill>
              <a:blip r:embed="rId4"/>
              <a:stretch/>
            </p:blipFill>
            <p:spPr>
              <a:xfrm rot="20648400">
                <a:off x="1547640" y="549000"/>
                <a:ext cx="792360" cy="76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na00806_" descr=""/>
              <p:cNvPicPr/>
              <p:nvPr/>
            </p:nvPicPr>
            <p:blipFill>
              <a:blip r:embed="rId5"/>
              <a:stretch/>
            </p:blipFill>
            <p:spPr>
              <a:xfrm rot="412800">
                <a:off x="900000" y="4869000"/>
                <a:ext cx="792360" cy="76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17080" cy="6337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25600" y="1268280"/>
            <a:ext cx="483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cc0000"/>
                </a:solidFill>
                <a:latin typeface="Berlin Sans FB Demi"/>
              </a:rPr>
              <a:t>E   ai   vem   nos   dizer   que   não   dão   o   cú   porque     dói?!?!?!!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cc0000"/>
                </a:solidFill>
                <a:latin typeface="Berlin Sans FB Demi"/>
              </a:rPr>
              <a:t>Fala   sério   né!?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456000" cy="3330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45560" y="1773360"/>
            <a:ext cx="392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doni MT Black"/>
              </a:rPr>
              <a:t>FICO CHATEADO.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doni MT Black"/>
              </a:rPr>
              <a:t>COM CERT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doni MT Black"/>
              </a:rPr>
              <a:t>QUE F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doni MT Black"/>
              </a:rPr>
              <a:t>CHATEADO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42280" y="64911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Script MT Bold"/>
              </a:rPr>
              <a:t>By: Bia Mig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5003640" y="6534000"/>
            <a:ext cx="168444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42920" y="1557360"/>
            <a:ext cx="489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As mulheres põem piercin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e fu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as orelha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2916360" cy="311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2879640" cy="30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1916280"/>
            <a:ext cx="31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Fazem tatuagen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3638880" cy="331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28432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2016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Liftings e </a:t>
            </a:r>
            <a:br>
              <a:rPr sz="2400"/>
            </a:br>
            <a:br>
              <a:rPr sz="2400"/>
            </a:b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limpezas </a:t>
            </a:r>
            <a:br>
              <a:rPr sz="2400"/>
            </a:br>
            <a:br>
              <a:rPr sz="2400"/>
            </a:b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de pel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00720" y="3573360"/>
            <a:ext cx="21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...Faz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lipo-aspi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e impl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cript MT Bold"/>
              </a:rPr>
              <a:t>de silicone...</a:t>
            </a:r>
            <a:r>
              <a:rPr b="0" lang="pt-PT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2376360" cy="266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24360" y="692280"/>
            <a:ext cx="237636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24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2360" y="1268280"/>
            <a:ext cx="3025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êm partos e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cesarian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51280" y="3573360"/>
            <a:ext cx="3816360" cy="2859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816360" cy="28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4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84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35290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ornam os lábios mai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carnu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4797360"/>
            <a:ext cx="23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...e encurtam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intestino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3024360" cy="266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331344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"/>
                            </p:stCondLst>
                            <p:childTnLst>
                              <p:par>
                                <p:cTn id="107" nodeType="afterEffect" fill="hold" presetClass="entr" presetID="5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88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6720" y="765000"/>
            <a:ext cx="2890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Depilam-se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com cera a ferver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456000" cy="246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816360" cy="2281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465300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...e arrancam 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sobrancelha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6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6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8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453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Corrigem os maxilar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e tiram costelas para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reduzir a cintur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6000" y="836640"/>
            <a:ext cx="2817720" cy="374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4392720" cy="21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4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19280" y="3428640"/>
            <a:ext cx="26751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Usam sapat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d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número abaix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3679920" cy="266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3679920" cy="281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40"/>
                            </p:stCondLst>
                            <p:childTnLst>
                              <p:par>
                                <p:cTn id="1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440"/>
                            </p:stCondLst>
                            <p:childTnLst>
                              <p:par>
                                <p:cTn id="185" nodeType="afterEffect" fill="hold" presetClass="entr" presetID="3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2:15:03Z</dcterms:created>
  <dc:creator>Sofia Miguel</dc:creator>
  <dc:description/>
  <dc:language>en-US</dc:language>
  <cp:lastModifiedBy>Henrique Mohri</cp:lastModifiedBy>
  <dcterms:modified xsi:type="dcterms:W3CDTF">2006-10-31T00:12:54Z</dcterms:modified>
  <cp:revision>6</cp:revision>
  <dc:subject/>
  <dc:title>Diapositivo 1</dc:title>
</cp:coreProperties>
</file>