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labut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FE3-5316-4FD3-9581-3AAFF357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704-B9AD-4D7E-BFBA-A0AB7B71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D0D-91A0-42F6-A0D1-AEA23119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6DB-573A-451E-8645-6D65A399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3A57-3E16-4F43-A8AC-92478C60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05E-E20C-4B45-9978-E5D44021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E3C-402F-48E5-9D2E-E3004B28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020A-4D3A-482D-A9D5-9D9C47F6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A07-E612-4BCB-A8B0-6D73C910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6E3-73F2-49BB-B1F3-572D2130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59D-699B-4B28-8E67-ADB03E2A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77A-E602-40F6-BCA8-62DC50A2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5FD3-4F82-48EA-89CF-9EDAA815E259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bu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C:\Documents and Settings\Humberto\Meus documentos\10-Sistema (Geral)\0-TOP 20 JUN 10\14.06.2010\Ivvavik Nemzeti Park, Kanada_PB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ixaDeTexto 9"/>
          <p:cNvSpPr/>
          <p:nvPr/>
        </p:nvSpPr>
        <p:spPr>
          <a:xfrm>
            <a:off x="755640" y="620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Lucida Handwriting"/>
              </a:rPr>
              <a:t>As  4  Leis  da  Espiritu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ixaDeTexto 10"/>
          <p:cNvSpPr/>
          <p:nvPr/>
        </p:nvSpPr>
        <p:spPr>
          <a:xfrm>
            <a:off x="1987560" y="1116000"/>
            <a:ext cx="46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Handwriting"/>
              </a:rPr>
              <a:t>(Ensinadas  na  Ín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ixaDeTexto 11"/>
          <p:cNvSpPr/>
          <p:nvPr/>
        </p:nvSpPr>
        <p:spPr>
          <a:xfrm>
            <a:off x="826920" y="521964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Handwriting"/>
              </a:rPr>
              <a:t>Aumente  o  Som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Handwriting"/>
              </a:rPr>
              <a:t>Use  o  mouse  p/ avançar  os  Sli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zoom dir="out"/>
    <p:sndAc>
      <p:stSnd>
        <p:snd r:embed="rId2" name="labu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Humberto\Meus documentos\10-Sistema (Geral)\05.07.2009-Campos Floridos\viragmezo-110_PB.JPG"/>
          <p:cNvPicPr/>
          <p:nvPr/>
        </p:nvPicPr>
        <p:blipFill>
          <a:blip r:embed="rId1"/>
          <a:stretch/>
        </p:blipFill>
        <p:spPr>
          <a:xfrm>
            <a:off x="-3636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CaixaDeTexto 2"/>
          <p:cNvSpPr/>
          <p:nvPr/>
        </p:nvSpPr>
        <p:spPr>
          <a:xfrm>
            <a:off x="1619280" y="90792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Handwriting"/>
              </a:rPr>
              <a:t>“</a:t>
            </a:r>
            <a:r>
              <a:rPr b="0" lang="pt-BR" sz="2000" spc="-1" strike="noStrike">
                <a:solidFill>
                  <a:srgbClr val="ffffff"/>
                </a:solidFill>
                <a:latin typeface="Lucida Handwriting"/>
              </a:rPr>
              <a:t>A pessoa  que  vem  é  a  pessoa  cert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ixaDeTexto 4"/>
          <p:cNvSpPr/>
          <p:nvPr/>
        </p:nvSpPr>
        <p:spPr>
          <a:xfrm>
            <a:off x="611280" y="249228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Significa que ninguém está em nossa vida por acaso. Todas as pessoas ao nosso redor estão interagindo conosco.  Há sempre algo que nos faz aprender  e avançar em cada situ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ângulo de cantos arredondados 5"/>
          <p:cNvSpPr/>
          <p:nvPr/>
        </p:nvSpPr>
        <p:spPr>
          <a:xfrm>
            <a:off x="684360" y="907920"/>
            <a:ext cx="9349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ª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Humberto\Meus documentos\10-Sistema (Geral)\05.07.2009-Campos Floridos\viragmezo-118_PB.JPG"/>
          <p:cNvPicPr/>
          <p:nvPr/>
        </p:nvPicPr>
        <p:blipFill>
          <a:blip r:embed="rId1"/>
          <a:stretch/>
        </p:blipFill>
        <p:spPr>
          <a:xfrm>
            <a:off x="0" y="0"/>
            <a:ext cx="9212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CaixaDeTexto 2"/>
          <p:cNvSpPr/>
          <p:nvPr/>
        </p:nvSpPr>
        <p:spPr>
          <a:xfrm>
            <a:off x="1763640" y="105264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Handwriting"/>
              </a:rPr>
              <a:t>“</a:t>
            </a:r>
            <a:r>
              <a:rPr b="0" lang="pt-BR" sz="2000" spc="-1" strike="noStrike">
                <a:solidFill>
                  <a:srgbClr val="ffffff"/>
                </a:solidFill>
                <a:latin typeface="Lucida Handwriting"/>
              </a:rPr>
              <a:t>Aconteceu  a  única  coisa  que  poderia  ter  acontecid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3"/>
          <p:cNvSpPr/>
          <p:nvPr/>
        </p:nvSpPr>
        <p:spPr>
          <a:xfrm>
            <a:off x="611280" y="264960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Nada, nada, absolutamente nada do que acontece em nossas vidas poderia ter sido de outra forma. Mesmo o menor detalhe.  Não há nenhum “se eu tivesse feito tal coisa..., aconteceu que um outro...”.  O que aconteceu foi tudo o que poderia ter acontecido, e foi para aprendermos alguma lição e seguirmos em frente.  Todas e cada uma das situações que acontecem em nossas vidas são perfeit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ângulo de cantos arredondados 4"/>
          <p:cNvSpPr/>
          <p:nvPr/>
        </p:nvSpPr>
        <p:spPr>
          <a:xfrm>
            <a:off x="684360" y="1052640"/>
            <a:ext cx="9349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ª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Documents and Settings\Humberto\Meus documentos\10-Sistema (Geral)\05.07.2009-Campos Floridos\viragmezo-082_PB.JPG"/>
          <p:cNvPicPr/>
          <p:nvPr/>
        </p:nvPicPr>
        <p:blipFill>
          <a:blip r:embed="rId1"/>
          <a:stretch/>
        </p:blipFill>
        <p:spPr>
          <a:xfrm>
            <a:off x="0" y="0"/>
            <a:ext cx="92124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CaixaDeTexto 5"/>
          <p:cNvSpPr/>
          <p:nvPr/>
        </p:nvSpPr>
        <p:spPr>
          <a:xfrm>
            <a:off x="1763640" y="105264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Handwriting"/>
              </a:rPr>
              <a:t>“</a:t>
            </a:r>
            <a:r>
              <a:rPr b="0" lang="pt-BR" sz="2000" spc="-1" strike="noStrike">
                <a:solidFill>
                  <a:srgbClr val="ffffff"/>
                </a:solidFill>
                <a:latin typeface="Lucida Handwriting"/>
              </a:rPr>
              <a:t>Toda vez que você iniciar é o momento cert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ixaDeTexto 6"/>
          <p:cNvSpPr/>
          <p:nvPr/>
        </p:nvSpPr>
        <p:spPr>
          <a:xfrm>
            <a:off x="611280" y="275436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Tudo começa na hora certa: nem antes, nem depois.  Quando estamos prontos para iniciar algo novo em nossas vidas, é o momento em que as coisas acontec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ângulo de cantos arredondados 4"/>
          <p:cNvSpPr/>
          <p:nvPr/>
        </p:nvSpPr>
        <p:spPr>
          <a:xfrm>
            <a:off x="755640" y="1052640"/>
            <a:ext cx="9367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3ª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Humberto\Meus documentos\10-Sistema (Geral)\05.07.2009-Campos Floridos\viragmezo-079_PB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CaixaDeTexto 2"/>
          <p:cNvSpPr/>
          <p:nvPr/>
        </p:nvSpPr>
        <p:spPr>
          <a:xfrm>
            <a:off x="1619280" y="22766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Handwriting"/>
              </a:rPr>
              <a:t>“</a:t>
            </a:r>
            <a:r>
              <a:rPr b="0" lang="pt-BR" sz="2000" spc="-1" strike="noStrike">
                <a:solidFill>
                  <a:srgbClr val="ffffff"/>
                </a:solidFill>
                <a:latin typeface="Lucida Handwriting"/>
              </a:rPr>
              <a:t>Quando algo termina, acaba realment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ixaDeTexto 3"/>
          <p:cNvSpPr/>
          <p:nvPr/>
        </p:nvSpPr>
        <p:spPr>
          <a:xfrm>
            <a:off x="611280" y="357336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Simplesmente assim.  Se algo acabou em nossas vidas foi para a nossa evolução, por isso, é melhor seguirmos em frente e nos enriquecermos com cada experiê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tângulo de cantos arredondados 4"/>
          <p:cNvSpPr/>
          <p:nvPr/>
        </p:nvSpPr>
        <p:spPr>
          <a:xfrm>
            <a:off x="684360" y="2349360"/>
            <a:ext cx="93492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4ª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Humberto\Meus documentos\10-Sistema (Geral)\05.07.2009-Campos Floridos\viragmezo-084_PB.JPG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CaixaDeTexto 2"/>
          <p:cNvSpPr/>
          <p:nvPr/>
        </p:nvSpPr>
        <p:spPr>
          <a:xfrm>
            <a:off x="395280" y="184464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Se um dia você tiver que escolher entre o mundo e o amor, lembre-se:  Se escolher o mundo ficará sem amor, mas se você escolher o amor, com ele conquistará o mund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http://www.historyconfidential.com/wp-content/uploads/2009/01/albert_einstein.jpg"/>
          <p:cNvPicPr/>
          <p:nvPr/>
        </p:nvPicPr>
        <p:blipFill>
          <a:blip r:embed="rId2"/>
          <a:stretch/>
        </p:blipFill>
        <p:spPr>
          <a:xfrm>
            <a:off x="6842160" y="871560"/>
            <a:ext cx="1474920" cy="1836720"/>
          </a:xfrm>
          <a:prstGeom prst="rect">
            <a:avLst/>
          </a:prstGeom>
          <a:ln w="0">
            <a:noFill/>
          </a:ln>
        </p:spPr>
      </p:pic>
      <p:sp>
        <p:nvSpPr>
          <p:cNvPr id="64" name="CaixaDeTexto 5"/>
          <p:cNvSpPr/>
          <p:nvPr/>
        </p:nvSpPr>
        <p:spPr>
          <a:xfrm>
            <a:off x="468360" y="3213000"/>
            <a:ext cx="21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ALBERT  EI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C:\Documents and Settings\Humberto\Meus documentos\10-Sistema (Geral)\05.07.2009-Campos Floridos\BRETAG~1_PB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CaixaDeTexto 2"/>
          <p:cNvSpPr/>
          <p:nvPr/>
        </p:nvSpPr>
        <p:spPr>
          <a:xfrm>
            <a:off x="826920" y="549360"/>
            <a:ext cx="71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Handwriting"/>
              </a:rPr>
              <a:t>Tenha  um  excelente  dia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ixaDeTexto 3"/>
          <p:cNvSpPr/>
          <p:nvPr/>
        </p:nvSpPr>
        <p:spPr>
          <a:xfrm>
            <a:off x="900000" y="5516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 Narrow"/>
              </a:rPr>
              <a:t>Formatado por:</a:t>
            </a:r>
            <a:r>
              <a:rPr b="0" lang="pt-BR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humberto@hpqualtech.com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00:15:31Z</dcterms:created>
  <dc:creator>Humberto A. Silva</dc:creator>
  <dc:description/>
  <cp:keywords>prezentace v power pointu</cp:keywords>
  <dc:language>en-US</dc:language>
  <cp:lastModifiedBy>Humberto A. Silva</cp:lastModifiedBy>
  <dcterms:modified xsi:type="dcterms:W3CDTF">2010-06-16T00:41:09Z</dcterms:modified>
  <cp:revision>10</cp:revision>
  <dc:subject/>
  <dc:title>Slide 1</dc:title>
</cp:coreProperties>
</file>