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iano%20Andre%20Gagnon%20-%20Nocturne.wav" ContentType="audio/x-wav"/>
  <Override PartName="/ppt/media/image3.jpeg" ContentType="image/jpeg"/>
  <Override PartName="/ppt/media/image2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AA2-CF72-49CD-A5AB-9589D4B6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824-E685-40BF-9715-555D2D6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2A6-267A-4C48-9A6D-012F466D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B0D-185D-4A01-839B-C6989805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5B8-67BE-4C4A-86D6-302E80D2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603-84F5-4BCF-82FB-D9519A90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30B-722E-4C65-9690-6369B8CF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0B5-F692-46EC-8563-01574AE3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CB8-C1D6-4A0A-A652-1C4F794A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6DE-FCFE-4F6F-BB66-6358113E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A55-4D05-4410-B4D2-6D0D66AD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DC8-E1B1-4ED2-BE9A-8563C34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D35B-7D8A-40B9-8EDA-5E4170C67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iano%20Andre%20Gagnon%20-%20Nocturn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zoom dir="out"/>
    <p:sndAc>
      <p:stSnd>
        <p:snd r:embed="rId2" name="piano%20Andre%20Gagnon%20-%20Nocturn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omento em que acord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qual dos lados  respira  melhor , ou   mais?                     Direito ou esquer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for o esquerdo você se sentirá can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ão, feche a narina esquerda e use a direita para respirar, você se sentirá aliviado rapid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o pode e  deve ser ensinado às crianças, mas é mais efectivo quando praticado por adult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u amigo costumava ter fortes dores de cabeça e sempre ia ao méd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ve um tempo em que sofria de dores de cabeça literalmente todas as noites, ficando incapacitado para est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 tomava analgésicos , mas  não funcionav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 decidiu tentar esta terapia de respiração: fechava a narina direita e respirava pela esquer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menos de uma semana sua dor de cabeça foi-se. Continuou o exercício por um mê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a terapia alternativa natural, sem medicamentos é algo                  em que ele tem experiênci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ão, porque não ten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27520" y="1700280"/>
            <a:ext cx="29462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" PRANAYAM "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m como funciona a energia no corpo emocional e no físico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spiração é fundamental para a máquina elaborar o processo de oxigen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equilíbrio e início e preparo para uma medi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boa semana para to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-396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ariz tem um lado  direito e um esquerdo; usamos ambos para inspirar e expi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verdade eles são diferentes: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 direito represent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 S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 esquerd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 Lu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nte uma dor de cabeç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ente fechar a narina direita e usar a esquerda para respi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tro de cerca de cinco minutos a dor de cabeça deve ir emb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você se sente cans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aço o contrário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che a narina esquerda e respire pela direi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 instante sentirá sua mente alivi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lado direito pertence                           </a:t>
            </a:r>
            <a:r>
              <a:rPr b="1" lang="en-US" sz="4400" spc="-1" strike="noStrike">
                <a:solidFill>
                  <a:srgbClr val="d22800"/>
                </a:solidFill>
                <a:latin typeface="Arial"/>
              </a:rPr>
              <a:t>ao "quente" (Sol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por isso esquenta rapidamente,       o esquerdo pertence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o "frio"(Lu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ior par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mulh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pira com o lado esquerdo do nariz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ão se resfriam rapi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ioria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 hom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pira pela narina dire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isso os influenc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0:51:15Z</dcterms:created>
  <dc:creator>user</dc:creator>
  <dc:description/>
  <dc:language>en-US</dc:language>
  <cp:lastModifiedBy>javelino</cp:lastModifiedBy>
  <dcterms:modified xsi:type="dcterms:W3CDTF">2010-08-11T14:52:19Z</dcterms:modified>
  <cp:revision>8</cp:revision>
  <dc:subject/>
  <dc:title>" PRANAYAM " </dc:title>
</cp:coreProperties>
</file>