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6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39.jpeg" ContentType="image/jpeg"/>
  <Override PartName="/ppt/media/image82.png" ContentType="image/pn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38.jpeg" ContentType="image/jpeg"/>
  <Override PartName="/ppt/media/image49.jpeg" ContentType="image/jpeg"/>
  <Override PartName="/ppt/media/image76.jpeg" ContentType="image/jpeg"/>
  <Override PartName="/ppt/media/image7.jpeg" ContentType="image/jpeg"/>
  <Override PartName="/ppt/media/image16.png" ContentType="image/png"/>
  <Override PartName="/ppt/media/image20.jpeg" ContentType="image/jpeg"/>
  <Override PartName="/ppt/media/image23.jpeg" ContentType="image/jpeg"/>
  <Override PartName="/ppt/media/image1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Enya%20-%20Amarantine%20c_.wav" ContentType="audio/x-wav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5.jpeg" ContentType="image/jpeg"/>
  <Override PartName="/ppt/media/image59.jpeg" ContentType="image/jpeg"/>
  <Override PartName="/ppt/media/image42.jpeg" ContentType="image/jpeg"/>
  <Override PartName="/ppt/media/image19.jpeg" ContentType="image/jpeg"/>
  <Override PartName="/ppt/media/image67.jpeg" ContentType="image/jpeg"/>
  <Override PartName="/ppt/media/image64.jpeg" ContentType="image/jpeg"/>
  <Override PartName="/ppt/media/image63.jpeg" ContentType="image/jpeg"/>
  <Override PartName="/ppt/media/image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81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2.png" ContentType="image/png"/>
  <Override PartName="/ppt/media/image72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87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7508-60D4-4656-9B1F-CB20AD610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57CF-8ABB-4879-8BF5-DDCB4015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4D0E-F074-43EA-BEE5-C767BE9C9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BBC3-9B27-4155-A358-04E3F2FC0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BEC3-094D-4CA4-8383-64366994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A544-2A81-45D5-9F87-86EECFEB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AE99-802D-47F8-A2E9-7CCA94FD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2A32-25AA-4B80-80E6-DC75B1BA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226E-39C7-4BC0-B30E-0DD6F7F4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995A-6E86-4EF4-8CFA-B58C3288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8774-D6F0-4082-9A13-DF052399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A080-EDA7-4150-8998-C3000F79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8923-15C8-4918-86CD-926C0556E943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nya%20-%20Amarantine%20c_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71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905120" y="990720"/>
            <a:ext cx="5703840" cy="46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-31680" y="762120"/>
            <a:ext cx="9175680" cy="531468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6104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71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71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71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853416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68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674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044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71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18:00:29Z</dcterms:created>
  <dc:creator>juan armas</dc:creator>
  <dc:description/>
  <dc:language>en-US</dc:language>
  <cp:lastModifiedBy>Usuario</cp:lastModifiedBy>
  <dcterms:modified xsi:type="dcterms:W3CDTF">2009-04-10T15:00:06Z</dcterms:modified>
  <cp:revision>11</cp:revision>
  <dc:subject/>
  <dc:title>Diapositiva 1</dc:title>
</cp:coreProperties>
</file>