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Andrea%20Bocelli%20-%20Ave%20Maria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F23-DFA6-49A9-9602-352B4EE8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BC8-B125-441B-859C-4123ACE5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CE3-29FE-445A-BBBB-78C668A1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FC0-85CF-4171-8877-CCB5AED0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B43-6F3D-4205-AA56-B170CE72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781-5AF7-4923-8BE2-233BCE24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40A-842C-4865-8D46-071DC5A4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84F-E454-4612-842D-B106CCA4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1BF-7FEC-400B-ABDE-7047087E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768-2C3F-4337-8D1F-0B9243DF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1EB-445F-4859-96A3-20B619E1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FE1-85FB-4EE7-8F69-BF8D9B7F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B0A6-AA91-494D-AA29-F6250A74D2A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a%20Bocelli%20-%20Ave%20Mari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erivelto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183280" y="4724280"/>
            <a:ext cx="396072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Herivelto Mart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(Composi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003280" y="259920"/>
            <a:ext cx="31640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pt-BR" sz="4800" spc="-1" strike="noStrike">
                <a:solidFill>
                  <a:srgbClr val="ffff00"/>
                </a:solidFill>
                <a:latin typeface="Arial"/>
              </a:rPr>
              <a:t>Ave Maria  no Morro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6143760" y="6215040"/>
            <a:ext cx="2214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VANCE AUTOM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26" descr="050524-pavarotti"/>
          <p:cNvPicPr/>
          <p:nvPr/>
        </p:nvPicPr>
        <p:blipFill>
          <a:blip r:embed="rId1"/>
          <a:stretch/>
        </p:blipFill>
        <p:spPr>
          <a:xfrm>
            <a:off x="2987640" y="27000"/>
            <a:ext cx="62420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11280" y="112536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Ave M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393372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Av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M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r94231_283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5651640" y="549360"/>
            <a:ext cx="313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Quando il giorno mu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219640" y="4005360"/>
            <a:ext cx="34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anta un canto d'a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80880" y="45720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000000"/>
                </a:solidFill>
                <a:latin typeface="Arial"/>
              </a:rPr>
              <a:t>Ave M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8600" y="533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Ave M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4 Imagen" descr="medallamila.jpg"/>
          <p:cNvPicPr/>
          <p:nvPr/>
        </p:nvPicPr>
        <p:blipFill>
          <a:blip r:embed="rId2"/>
          <a:stretch/>
        </p:blipFill>
        <p:spPr>
          <a:xfrm>
            <a:off x="421488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slide0016_image029"/>
          <p:cNvPicPr/>
          <p:nvPr/>
        </p:nvPicPr>
        <p:blipFill>
          <a:blip r:embed="rId2"/>
          <a:stretch/>
        </p:blipFill>
        <p:spPr>
          <a:xfrm>
            <a:off x="-36360" y="-2700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5508720" y="333360"/>
            <a:ext cx="345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E nell'aria sembra ud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580000" y="3500280"/>
            <a:ext cx="334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he una campana suoni lass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slide0010_image032"/>
          <p:cNvPicPr/>
          <p:nvPr/>
        </p:nvPicPr>
        <p:blipFill>
          <a:blip r:embed="rId1"/>
          <a:stretch/>
        </p:blipFill>
        <p:spPr>
          <a:xfrm>
            <a:off x="-36360" y="-27000"/>
            <a:ext cx="6913440" cy="6913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4716360" y="549360"/>
            <a:ext cx="4105440" cy="228744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000000"/>
                </a:solidFill>
                <a:latin typeface="Arial"/>
              </a:rPr>
              <a:t>L'ora fatata della preghi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43280" y="2924280"/>
            <a:ext cx="4105440" cy="374976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000000"/>
                </a:solidFill>
                <a:latin typeface="Arial"/>
              </a:rPr>
              <a:t>che vien dal bosco io la conos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000000"/>
                </a:solidFill>
                <a:latin typeface="Arial"/>
              </a:rPr>
              <a:t>Scende dal ci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slide0017_image033"/>
          <p:cNvPicPr/>
          <p:nvPr/>
        </p:nvPicPr>
        <p:blipFill>
          <a:blip r:embed="rId1"/>
          <a:stretch/>
        </p:blipFill>
        <p:spPr>
          <a:xfrm>
            <a:off x="1332000" y="1000080"/>
            <a:ext cx="6624720" cy="4589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ome un incanto un'armo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57150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Ave M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859280" y="5734080"/>
            <a:ext cx="380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Ave M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slide0013_image036"/>
          <p:cNvPicPr/>
          <p:nvPr/>
        </p:nvPicPr>
        <p:blipFill>
          <a:blip r:embed="rId1"/>
          <a:stretch/>
        </p:blipFill>
        <p:spPr>
          <a:xfrm>
            <a:off x="108000" y="0"/>
            <a:ext cx="51940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419720" y="2714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Quando il giorno mu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95280" y="5229360"/>
            <a:ext cx="3816360" cy="15721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uciano Pavaro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ació el 12 OCT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rió el 6 SEP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067280" y="198900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anta un canto d'a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500720" y="3645000"/>
            <a:ext cx="43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Ave Maria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580000" y="436572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Maria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012000" y="522936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Maria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248292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024360" y="1217520"/>
            <a:ext cx="30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157480" y="4140360"/>
            <a:ext cx="48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895480" y="452124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758960" y="5367240"/>
            <a:ext cx="59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09880" y="57992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8 Rectángulo" descr=""/>
          <p:cNvPicPr/>
          <p:nvPr/>
        </p:nvPicPr>
        <p:blipFill>
          <a:blip r:embed="rId1"/>
          <a:stretch/>
        </p:blipFill>
        <p:spPr>
          <a:xfrm>
            <a:off x="-171360" y="1298520"/>
            <a:ext cx="962640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9 Rectángulo" descr=""/>
          <p:cNvPicPr/>
          <p:nvPr/>
        </p:nvPicPr>
        <p:blipFill>
          <a:blip r:embed="rId2"/>
          <a:stretch/>
        </p:blipFill>
        <p:spPr>
          <a:xfrm>
            <a:off x="353880" y="2762280"/>
            <a:ext cx="8332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440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3492360" y="5734080"/>
            <a:ext cx="266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PRE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916360" y="189000"/>
            <a:ext cx="2952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OMPAÑ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Bocelli1"/>
          <p:cNvPicPr/>
          <p:nvPr/>
        </p:nvPicPr>
        <p:blipFill>
          <a:blip r:embed="rId2"/>
          <a:stretch/>
        </p:blipFill>
        <p:spPr>
          <a:xfrm>
            <a:off x="76320" y="2387520"/>
            <a:ext cx="3200400" cy="392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slide0011_image026"/>
          <p:cNvPicPr/>
          <p:nvPr/>
        </p:nvPicPr>
        <p:blipFill>
          <a:blip r:embed="rId3"/>
          <a:stretch/>
        </p:blipFill>
        <p:spPr>
          <a:xfrm>
            <a:off x="6353280" y="2421000"/>
            <a:ext cx="2790720" cy="399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0" y="6156360"/>
            <a:ext cx="92901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Andrea Bocelli  y Luciano Pavaro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slide0001_image012"/>
          <p:cNvPicPr/>
          <p:nvPr/>
        </p:nvPicPr>
        <p:blipFill>
          <a:blip r:embed="rId1"/>
          <a:stretch/>
        </p:blipFill>
        <p:spPr>
          <a:xfrm>
            <a:off x="-36360" y="-27000"/>
            <a:ext cx="6912000" cy="6912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06920" y="3213000"/>
            <a:ext cx="45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un minuscolo pae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148360" y="549360"/>
            <a:ext cx="3671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'è lass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fra i bosch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975280" y="54450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osì b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501336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ndrea Bocelli nació con glaucoma congénito y se quedó completamente ciego a los 12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Andrea Bocell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24000" y="260280"/>
            <a:ext cx="367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he nel mondo non ce n'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slide0006_image015"/>
          <p:cNvPicPr/>
          <p:nvPr/>
        </p:nvPicPr>
        <p:blipFill>
          <a:blip r:embed="rId1"/>
          <a:stretch/>
        </p:blipFill>
        <p:spPr>
          <a:xfrm>
            <a:off x="-36360" y="7920"/>
            <a:ext cx="6984720" cy="6853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995640" y="26028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Vive felice come estasi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356000" y="2637000"/>
            <a:ext cx="4788000" cy="825120"/>
          </a:xfrm>
          <a:prstGeom prst="rect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ome incant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19280" y="4292640"/>
            <a:ext cx="8424720" cy="155628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Non possiede un campan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ome nella grande citt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slide0007_image018"/>
          <p:cNvPicPr/>
          <p:nvPr/>
        </p:nvPicPr>
        <p:blipFill>
          <a:blip r:embed="rId1"/>
          <a:stretch/>
        </p:blipFill>
        <p:spPr>
          <a:xfrm>
            <a:off x="3835440" y="0"/>
            <a:ext cx="54165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79280" y="5589720"/>
            <a:ext cx="73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e nell'aria sembra ud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0" y="26028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ma nel tramo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79280" y="2492280"/>
            <a:ext cx="40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l'arcobaleno risplende in ci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slide0008_image019"/>
          <p:cNvPicPr/>
          <p:nvPr/>
        </p:nvPicPr>
        <p:blipFill>
          <a:blip r:embed="rId1"/>
          <a:stretch/>
        </p:blipFill>
        <p:spPr>
          <a:xfrm>
            <a:off x="-36360" y="-2700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5508720" y="260280"/>
            <a:ext cx="3419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he una campana suoni lass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148360" y="4076640"/>
            <a:ext cx="374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l'ora fatata della preghi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251532~Andrea-Bocelli-Post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95280" y="2997360"/>
            <a:ext cx="820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he vien dal bosco io la conosc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Scende dal ci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26920" y="530208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Arial"/>
              </a:rPr>
              <a:t>come un incanto un'armo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5:42:30Z</dcterms:created>
  <dc:creator>Wiliam</dc:creator>
  <dc:description/>
  <dc:language>en-US</dc:language>
  <cp:lastModifiedBy>Paco</cp:lastModifiedBy>
  <dcterms:modified xsi:type="dcterms:W3CDTF">2008-04-11T15:12:48Z</dcterms:modified>
  <cp:revision>68</cp:revision>
  <dc:subject/>
  <dc:title>Ave Maria  no Morro</dc:title>
</cp:coreProperties>
</file>