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6.gif" ContentType="image/gif"/>
  <Override PartName="/ppt/media/image8.png" ContentType="image/png"/>
  <Override PartName="/ppt/media/image14.jpeg" ContentType="image/jpeg"/>
  <Override PartName="/ppt/media/image7.png" ContentType="image/png"/>
  <Override PartName="/ppt/media/image11.gif" ContentType="image/gif"/>
  <Override PartName="/ppt/media/image19.jpeg" ContentType="image/jpeg"/>
  <Override PartName="/ppt/media/image18.png" ContentType="image/png"/>
  <Override PartName="/ppt/media/image17.gif" ContentType="image/gif"/>
  <Override PartName="/ppt/media/image16.gif" ContentType="image/gif"/>
  <Override PartName="/ppt/media/image13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2.gif" ContentType="image/gif"/>
  <Override PartName="/ppt/media/image15.png" ContentType="image/png"/>
  <Override PartName="/ppt/media/image3.jpeg" ContentType="image/jpeg"/>
  <Override PartName="/ppt/media/coral_greg_katan26.wav" ContentType="audio/x-wav"/>
  <Override PartName="/ppt/media/image1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9EFC-E024-49ED-940C-B95CB4B3A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C762-9B93-4488-8031-5569E593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DAE3-2147-43C1-B82A-3A16BDD4E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B551-C488-45C0-A226-F45640077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357B-8833-4AE2-932F-D60BFC95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D87C-7FA3-4E20-9457-8ACA642D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23DE-246D-46F2-9ABB-BF0F2DBF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C838-AF68-487B-AC69-7FDEDBDA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8FAE-4D8A-4768-AE7A-34E4A03C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F69A-8A17-4DEA-B4D8-3ED47A56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EA91-E3E5-434D-A06A-77493FD5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5771-0814-497E-8EE8-C36FA316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9B5C-F68E-4BA0-84F2-1C187A7D5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audio" Target="../media/coral_greg_katan26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765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8735ff"/>
                </a:solidFill>
                <a:latin typeface="Trebuchet MS"/>
              </a:rPr>
              <a:t>O SINAL DA CRUZ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272360" y="5649840"/>
            <a:ext cx="1871640" cy="1208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flipH="1">
            <a:off x="6516720" y="5734080"/>
            <a:ext cx="792000" cy="74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32000" y="4005360"/>
            <a:ext cx="69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O SIGNIFICADO MÍSTICO DO </a:t>
            </a: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“PELO SINAL DA SANTA CRUZ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419640" y="1484280"/>
            <a:ext cx="2255760" cy="2500200"/>
          </a:xfrm>
          <a:prstGeom prst="rect">
            <a:avLst/>
          </a:prstGeom>
          <a:ln w="9360">
            <a:solidFill>
              <a:srgbClr val="cc9900"/>
            </a:solidFill>
            <a:miter/>
          </a:ln>
        </p:spPr>
      </p:pic>
    </p:spTree>
  </p:cSld>
  <p:transition spd="slow">
    <p:randomBar dir="vert"/>
    <p:sndAc>
      <p:stSnd>
        <p:snd r:embed="rId4" name="coral_greg_katan26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72720" cy="7554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284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905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56244E-006 L 0.38385 0.34367 E">
                                      <p:cBhvr>
                                        <p:cTn id="141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147840" y="1523880"/>
            <a:ext cx="2848320" cy="3810240"/>
          </a:xfrm>
          <a:prstGeom prst="rect">
            <a:avLst/>
          </a:prstGeom>
          <a:ln w="0">
            <a:noFill/>
          </a:ln>
        </p:spPr>
      </p:pic>
      <p:pic>
        <p:nvPicPr>
          <p:cNvPr id="90" name="1 Rectángulo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8442360" cy="515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5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1280" y="2565360"/>
            <a:ext cx="691920" cy="1449360"/>
          </a:xfrm>
          <a:prstGeom prst="rect">
            <a:avLst/>
          </a:prstGeom>
          <a:ln w="9360">
            <a:solidFill>
              <a:srgbClr val="00ffcc"/>
            </a:solidFill>
            <a:miter/>
          </a:ln>
          <a:effectLst>
            <a:outerShdw dist="107932" dir="2700000" blurRad="0" rotWithShape="0">
              <a:srgbClr val="463416">
                <a:alpha val="50000"/>
              </a:srgbClr>
            </a:outerShdw>
          </a:effectLst>
        </p:spPr>
      </p:pic>
      <p:sp>
        <p:nvSpPr>
          <p:cNvPr id="95" name=""/>
          <p:cNvSpPr/>
          <p:nvPr/>
        </p:nvSpPr>
        <p:spPr>
          <a:xfrm>
            <a:off x="3035160" y="1916280"/>
            <a:ext cx="307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 R É D I T O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885080" y="2565360"/>
            <a:ext cx="692280" cy="1449360"/>
          </a:xfrm>
          <a:prstGeom prst="rect">
            <a:avLst/>
          </a:prstGeom>
          <a:ln w="9360">
            <a:solidFill>
              <a:srgbClr val="00ffcc"/>
            </a:solidFill>
            <a:miter/>
          </a:ln>
          <a:effectLst>
            <a:outerShdw dist="107932" dir="2700000" blurRad="0" rotWithShape="0">
              <a:srgbClr val="463416">
                <a:alpha val="50000"/>
              </a:srgbClr>
            </a:outerShdw>
          </a:effectLst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995640" y="476280"/>
            <a:ext cx="1150920" cy="1054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 flipH="1">
            <a:off x="3995280" y="5589720"/>
            <a:ext cx="792360" cy="5713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050920" y="3130560"/>
            <a:ext cx="5113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ORMATAÇÃO: MENSAGEIRO DA PA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EXTO: Pe. Marcelo Ros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MÚSICA: Convento de S. Antô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DATA: 06-08-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67640" y="5516640"/>
            <a:ext cx="1200240" cy="7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Lucida Handwriting"/>
              </a:rPr>
              <a:t>FIM</a:t>
            </a:r>
            <a:endParaRPr b="1" lang="en-US" sz="4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Lucida Handwriting"/>
              <a:ea typeface="Lucida Handwriting"/>
            </a:endParaRPr>
          </a:p>
        </p:txBody>
      </p:sp>
      <p:sp>
        <p:nvSpPr>
          <p:cNvPr id="101" name=""/>
          <p:cNvSpPr/>
          <p:nvPr/>
        </p:nvSpPr>
        <p:spPr>
          <a:xfrm>
            <a:off x="2916360" y="6453360"/>
            <a:ext cx="45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© favor manter os créditos, sem alter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1908000" y="5877000"/>
            <a:ext cx="80496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95640" y="260280"/>
            <a:ext cx="4694040" cy="5543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908000" y="5013360"/>
            <a:ext cx="5040360" cy="1130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6760" y="5218200"/>
            <a:ext cx="88772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9900"/>
                </a:solidFill>
                <a:latin typeface="Comic Sans MS"/>
              </a:rPr>
              <a:t>A oração talvez não mude as coisas para você, mas, com certeza, mudará você para as coisas.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9900"/>
                </a:solidFill>
                <a:latin typeface="Comic Sans MS"/>
              </a:rPr>
              <a:t>                                       </a:t>
            </a:r>
            <a:r>
              <a:rPr b="1" i="1" lang="pt-BR" sz="2400" spc="-1" strike="noStrike">
                <a:solidFill>
                  <a:srgbClr val="cc9900"/>
                </a:solidFill>
                <a:latin typeface="Comic Sans MS"/>
              </a:rPr>
              <a:t>Samuel M. Dhoe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5120" y="250920"/>
            <a:ext cx="89488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gundo o padre Marcelo Rossi:</a:t>
            </a:r>
            <a:r>
              <a:rPr b="1" lang="en-US" sz="36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bbe0e3"/>
                </a:solidFill>
                <a:latin typeface="Arial"/>
              </a:rPr>
              <a:t>O Sinal da Cruz é uma oração importante que deve ser rezada logo que acordamos, como a nossa primeira oração, para que Deus, pelos méritos da Cruz de Seu Divino Filho, nos proteja durante todo o d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rial"/>
              </a:rPr>
              <a:t>Com este Sinal, que é o sinal do cristão, nós </a:t>
            </a:r>
            <a:r>
              <a:rPr b="1" lang="en-US" sz="3600" spc="-1" strike="noStrike" u="sng">
                <a:solidFill>
                  <a:srgbClr val="bbe0e3"/>
                </a:solidFill>
                <a:uFillTx/>
                <a:latin typeface="Arial"/>
              </a:rPr>
              <a:t>pedimos proteção contra os nossos inimigos</a:t>
            </a:r>
            <a:r>
              <a:rPr b="1" lang="en-US" sz="3600" spc="-1" strike="noStrike">
                <a:solidFill>
                  <a:srgbClr val="bbe0e3"/>
                </a:solidFill>
                <a:latin typeface="Arial"/>
              </a:rPr>
              <a:t>. </a:t>
            </a:r>
            <a:r>
              <a:rPr b="1" lang="en-US" sz="3600" spc="-1" strike="noStrike">
                <a:solidFill>
                  <a:srgbClr val="cc9900"/>
                </a:solidFill>
                <a:latin typeface="Arial"/>
              </a:rPr>
              <a:t>Que inimigos?</a:t>
            </a:r>
            <a:r>
              <a:rPr b="1" lang="en-US" sz="3600" spc="-1" strike="noStrike">
                <a:solidFill>
                  <a:srgbClr val="bbe0e3"/>
                </a:solidFill>
                <a:latin typeface="Arial"/>
              </a:rPr>
              <a:t>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m 3" descr="arcnj_miguel_1.jpg"/>
          <p:cNvPicPr/>
          <p:nvPr/>
        </p:nvPicPr>
        <p:blipFill>
          <a:blip r:embed="rId1"/>
          <a:stretch/>
        </p:blipFill>
        <p:spPr>
          <a:xfrm>
            <a:off x="2627280" y="0"/>
            <a:ext cx="3713040" cy="939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780000" y="1052640"/>
            <a:ext cx="502920" cy="503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780000" y="1989000"/>
            <a:ext cx="502920" cy="503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851280" y="328464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427640" y="111456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(†) Pelo sinal da Santa Cru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14760" y="2060640"/>
            <a:ext cx="444996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(†) livrai-nos Deus,</a:t>
            </a: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 Nosso Sen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2130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(†) dos nossos inimi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468360" y="981000"/>
            <a:ext cx="12398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1239840" cy="244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35120" y="476280"/>
            <a:ext cx="6357960" cy="2837160"/>
          </a:xfrm>
          <a:prstGeom prst="rect">
            <a:avLst/>
          </a:prstGeom>
          <a:noFill/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omic Sans MS"/>
              </a:rPr>
              <a:t>ESTA SERIA A POSIÇÃO CORRETA, COM QUE OS ANTIGOS CRISTÃOS USAVAM SE PERSIGN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omic Sans MS"/>
              </a:rPr>
              <a:t>Um </a:t>
            </a:r>
            <a:r>
              <a:rPr b="1" lang="pt-BR" sz="3600" spc="-1" strike="noStrike">
                <a:solidFill>
                  <a:srgbClr val="bbe0e3"/>
                </a:solidFill>
                <a:latin typeface="Comic Sans MS"/>
              </a:rPr>
              <a:t>mudrä</a:t>
            </a:r>
            <a:r>
              <a:rPr b="1" lang="pt-BR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1120" y="4354560"/>
            <a:ext cx="8553600" cy="2239920"/>
          </a:xfrm>
          <a:prstGeom prst="rect">
            <a:avLst/>
          </a:prstGeom>
          <a:noFill/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Arial"/>
              </a:rPr>
              <a:t>PERSIGNAR-SE: o ato de fazer o sinal da CRUZ ou de benzer-se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cc9900"/>
                </a:solidFill>
                <a:latin typeface="Arial"/>
              </a:rPr>
              <a:t>Pelo Sinal da Cruz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m 3" descr="arcnj_miguel_1.jpg"/>
          <p:cNvPicPr/>
          <p:nvPr/>
        </p:nvPicPr>
        <p:blipFill>
          <a:blip r:embed="rId1"/>
          <a:stretch/>
        </p:blipFill>
        <p:spPr>
          <a:xfrm>
            <a:off x="2627280" y="0"/>
            <a:ext cx="3713040" cy="9394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780000" y="1052640"/>
            <a:ext cx="502920" cy="503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851280" y="328464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643280" y="2565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2916360" y="256536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427640" y="11145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(†) em nome do Pa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14760" y="3490920"/>
            <a:ext cx="444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(†) </a:t>
            </a: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do Filh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00560" y="2584440"/>
            <a:ext cx="35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do Espírito Sa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19280" y="24400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Am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395280" y="4005360"/>
            <a:ext cx="13827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500"/>
                            </p:stCondLst>
                            <p:childTnLst>
                              <p:par>
                                <p:cTn id="6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magem 3" descr="arcnj_miguel_1.jpg"/>
          <p:cNvPicPr/>
          <p:nvPr/>
        </p:nvPicPr>
        <p:blipFill>
          <a:blip r:embed="rId1"/>
          <a:stretch/>
        </p:blipFill>
        <p:spPr>
          <a:xfrm>
            <a:off x="2627280" y="0"/>
            <a:ext cx="3713040" cy="9394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780000" y="1052640"/>
            <a:ext cx="502920" cy="503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427640" y="111456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(†) Pelo sinal da Santa Cru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68360" y="981000"/>
            <a:ext cx="1239840" cy="244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4941720"/>
            <a:ext cx="91440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(†)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elo sinal da Santa Cruz</a:t>
            </a: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: ao traçarmos a primeira cruz em nossa </a:t>
            </a:r>
            <a:r>
              <a:rPr b="1" lang="en-US" sz="2400" spc="-1" strike="noStrike" u="sng">
                <a:solidFill>
                  <a:srgbClr val="cc9900"/>
                </a:solidFill>
                <a:uFillTx/>
                <a:latin typeface="Arial"/>
              </a:rPr>
              <a:t>testa</a:t>
            </a: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, nós estamos pedindo a Deus que </a:t>
            </a:r>
            <a:r>
              <a:rPr b="1" lang="en-US" sz="2400" spc="-1" strike="noStrike" u="sng">
                <a:solidFill>
                  <a:srgbClr val="cc9900"/>
                </a:solidFill>
                <a:uFillTx/>
                <a:latin typeface="Arial"/>
              </a:rPr>
              <a:t>proteja a nossa mente</a:t>
            </a: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 dos maus pensamentos, das ideologias malsãs e das heresias, que tanto nos tentam nos dias de hoje e mantendo a nossa inteligência alerta contra todos os embustes e ciladas do demôn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m 3" descr="arcnj_miguel_1.jpg"/>
          <p:cNvPicPr/>
          <p:nvPr/>
        </p:nvPicPr>
        <p:blipFill>
          <a:blip r:embed="rId1"/>
          <a:stretch/>
        </p:blipFill>
        <p:spPr>
          <a:xfrm>
            <a:off x="2627280" y="0"/>
            <a:ext cx="3713040" cy="9394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780000" y="1989000"/>
            <a:ext cx="502920" cy="503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14760" y="2060640"/>
            <a:ext cx="444996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(†) livrai-nos Deus,</a:t>
            </a: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 Nosso Sen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68360" y="981000"/>
            <a:ext cx="1239840" cy="244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4859280"/>
            <a:ext cx="914400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(†)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ivrai-nos Deus, Nosso Senhor</a:t>
            </a: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: com esta segunda cruz sobre os </a:t>
            </a:r>
            <a:r>
              <a:rPr b="1" lang="en-US" sz="2400" spc="-1" strike="noStrike" u="sng">
                <a:solidFill>
                  <a:srgbClr val="cc9900"/>
                </a:solidFill>
                <a:uFillTx/>
                <a:latin typeface="Arial"/>
              </a:rPr>
              <a:t>lábios</a:t>
            </a: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, estamos pedindo para que de nossa </a:t>
            </a:r>
            <a:r>
              <a:rPr b="1" lang="en-US" sz="2400" spc="-1" strike="noStrike" u="sng">
                <a:solidFill>
                  <a:srgbClr val="cc9900"/>
                </a:solidFill>
                <a:uFillTx/>
                <a:latin typeface="Arial"/>
              </a:rPr>
              <a:t>boca só saiam palavras de louvor</a:t>
            </a: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: louvor a Deus, louvor aos Seus Santos e aos Seus Anjos; de agradecimento a Deus, pois tudo o que somos e temos são frutos da Sua misericórdia e do Seu amor e não dos nossos méritos; que as nossas palavras </a:t>
            </a:r>
            <a:r>
              <a:rPr b="1" lang="en-US" sz="2400" spc="-1" strike="noStrike" u="sng">
                <a:solidFill>
                  <a:srgbClr val="cc9900"/>
                </a:solidFill>
                <a:uFillTx/>
                <a:latin typeface="Arial"/>
              </a:rPr>
              <a:t>jamais sejam ditas para ofender o nosso irmão</a:t>
            </a: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Imagem 3" descr="arcnj_miguel_1.jpg"/>
          <p:cNvPicPr/>
          <p:nvPr/>
        </p:nvPicPr>
        <p:blipFill>
          <a:blip r:embed="rId1"/>
          <a:stretch/>
        </p:blipFill>
        <p:spPr>
          <a:xfrm>
            <a:off x="2627280" y="0"/>
            <a:ext cx="3713040" cy="9394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851280" y="328464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572000" y="32130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(†) dos nossos inimi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68360" y="981000"/>
            <a:ext cx="1239840" cy="244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-3240" y="4869000"/>
            <a:ext cx="91472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(†)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os nossos inimigos</a:t>
            </a: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: a terceira cruz tem como objetivo proteger o nosso </a:t>
            </a:r>
            <a:r>
              <a:rPr b="1" lang="en-US" sz="2400" spc="-1" strike="noStrike" u="sng">
                <a:solidFill>
                  <a:srgbClr val="cc9900"/>
                </a:solidFill>
                <a:uFillTx/>
                <a:latin typeface="Arial"/>
              </a:rPr>
              <a:t>coração</a:t>
            </a: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 contra os </a:t>
            </a:r>
            <a:r>
              <a:rPr b="1" lang="en-US" sz="2400" spc="-1" strike="noStrike" u="sng">
                <a:solidFill>
                  <a:srgbClr val="cc9900"/>
                </a:solidFill>
                <a:uFillTx/>
                <a:latin typeface="Arial"/>
              </a:rPr>
              <a:t>maus sentimentos</a:t>
            </a: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: contra o ódio, a vaidade, a inveja, a luxúria e outros vícios; fazer dele uma fonte inesgotável de amor a Deus, a nós mesmos e ao nosso próximo; um coração doce, como o de Maria e manso e humilde como o de Jesus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5T16:03:10Z</dcterms:created>
  <dc:creator>Proprietario</dc:creator>
  <dc:description/>
  <dc:language>en-US</dc:language>
  <cp:lastModifiedBy>Proprietario</cp:lastModifiedBy>
  <dcterms:modified xsi:type="dcterms:W3CDTF">2010-08-06T15:13:38Z</dcterms:modified>
  <cp:revision>63</cp:revision>
  <dc:subject/>
  <dc:title>O SINAL DA CRUZ </dc:title>
</cp:coreProperties>
</file>