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1BF2-6D94-45F0-9F15-F1E76BBF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ECFA-FE4C-4346-8BB0-E48BD424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2369-B161-4DC7-ABE7-F4998BE1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8A93-BC8C-4123-AB0B-965E945C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957C-F536-440C-ABB9-D5B6DA20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DA79-88F7-4D36-80D7-680FF12E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EE66-B525-41A6-A7A2-6A757833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95ED-98AF-4002-A4C1-21410051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7AE2-172D-4E04-9D41-59416C97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92EA-CF75-403D-B76E-D31DF546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B468-EC34-4A95-AFC2-5CF57145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E76B-1ADF-448B-ACC6-095BFAD8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879E-E223-4B31-8922-24AD2869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B4AC-F3C9-4998-AD92-505CA38D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5430-5D0E-471B-A524-EE1E8686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9CCE-949E-415D-9C2A-284DE3E2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DF4D-81C2-45E1-ACCD-9770F663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CC32-863B-4CFC-8017-3F0789C4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7EB8-C5D0-482C-8AA4-6AA7B282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A326-2CC9-478A-9C64-B2A5B5D6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DD04-7137-4610-8EA8-51345F46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2495-1999-48DD-A5B3-F12FDAA7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90BB-B7D2-4822-A149-437D4DBC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2606-BC50-4363-B7CC-6187F20E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503D-EB5B-4173-AAC4-35805E4DE75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6E2C-C90B-4E15-8151-EBFAF5EFE50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je lembrei de você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384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cc00"/>
                </a:solidFill>
                <a:latin typeface="Arial Black"/>
              </a:rPr>
              <a:t>Às vezes, nos perguntamos por que nossos amigos encaminham "e-mails" sem escrever uma só palavra de ordem pessoal, só dão "reply".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alvez isso possa explicar: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Quando você está muito ocupado, mas quer manter contato, adivinhe o que faz?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Você encaminha "e-mails"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</a:t>
            </a: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Quando você não tem nada a dizer, mas quer dizer "oi" ? 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Você encaminha "e-mails".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Quando você tem alguma coisa pra falar, mas não sabe o que, nem sabe como...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Você encaminha "e-mail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penas para dizer: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" Você ainda é lembrado, você ainda é importante, você ainda é amado,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inda me preocupo com você, você ainda é querido. "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Então, meu amigo, da próxima vez, não pense que apenas lhe mandei mais um "e-mail", e sim, que hoje eu pensei em você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00"/>
                </a:solidFill>
                <a:latin typeface="Kristen ITC"/>
              </a:rPr>
              <a:t>Tenha um Ano Novo com muita saúde,paz,harmonia em sua vida,seu lar,que Deus encaminhe seus anjos para derramarem muitas bençaos em sua vida nesse ano de 2011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00"/>
                </a:solidFill>
                <a:latin typeface="Kristen ITC"/>
              </a:rPr>
              <a:t>Um abraço fraterno a você e toda sua família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00"/>
                </a:solidFill>
                <a:latin typeface="Baskerville Old Face"/>
              </a:rPr>
              <a:t>Sandra Melo    27/12/10</a:t>
            </a:r>
            <a:r>
              <a:rPr b="0" lang="pt-BR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01:38:19Z</dcterms:created>
  <dc:creator>XP</dc:creator>
  <dc:description/>
  <dc:language>en-US</dc:language>
  <cp:lastModifiedBy>XP</cp:lastModifiedBy>
  <dcterms:modified xsi:type="dcterms:W3CDTF">2010-12-28T01:56:07Z</dcterms:modified>
  <cp:revision>2</cp:revision>
  <dc:subject/>
  <dc:title>Hoje lembrei de você!</dc:title>
</cp:coreProperties>
</file>