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%20am%20alive_03,28.00.wav" ContentType="audio/x-wav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28.png" ContentType="image/png"/>
  <Override PartName="/ppt/media/image7.gif" ContentType="image/gif"/>
  <Override PartName="/ppt/media/image29.jpeg" ContentType="image/jpeg"/>
  <Override PartName="/ppt/media/image8.jpeg" ContentType="image/jpeg"/>
  <Override PartName="/ppt/media/image13.png" ContentType="image/png"/>
  <Override PartName="/ppt/media/image10.gif" ContentType="image/gif"/>
  <Override PartName="/ppt/media/image31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1FA-E813-4AC8-A0C2-C1EC749C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CCF-AE56-4249-BF84-B709D58A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B2E-EADD-4F30-8990-265EDFD0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7A0-A8B2-4045-997D-5C1D81B0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73B-63A1-4235-ACE1-B7A7910E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8F8-5ECC-45D1-9466-AF5D341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F431-9D7C-4FE7-8886-813B0D7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FCC-1A24-4613-8F5E-D20B27C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FF27-3DB0-44BC-9DE4-55D13AF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18CF-0D06-411D-A59F-F9DE4E3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4950-71C5-4962-93CB-53C8BFB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8E0-4013-4B99-B103-FB7D8CE4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4BB-8F02-4269-B71A-8EC978F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EC00-F55E-421A-B23A-A678C90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5DC8-04ED-44B3-9061-13A1AF5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849A-9A37-4E74-9692-B0B39EF2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151-9809-465F-BFD1-8D1BEF4C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284-A4CC-4D77-BAB8-90BB8F9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4E8-EDCF-4D03-9932-2CA6316B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164-95E8-484F-88A7-2B3269F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973-B426-45FF-A250-672334D9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AB8-CBB7-416A-B122-465E8DD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24C-1207-4FE2-A18C-76A3D33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BCC-F8F9-4444-9C3E-A0420A8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64F-41DD-4565-82ED-936FEAA377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CCB-95CD-4240-8A8F-72E0FD9BB6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I%20am%20alive_03,28.00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br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4" descr="mulher autoconhecimento.jpg"/>
          <p:cNvPicPr/>
          <p:nvPr/>
        </p:nvPicPr>
        <p:blipFill>
          <a:blip r:embed="rId1"/>
          <a:stretch/>
        </p:blipFill>
        <p:spPr>
          <a:xfrm>
            <a:off x="3990960" y="0"/>
            <a:ext cx="5153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Retângulo 11" descr=""/>
          <p:cNvPicPr/>
          <p:nvPr/>
        </p:nvPicPr>
        <p:blipFill>
          <a:blip r:embed="rId2"/>
          <a:stretch/>
        </p:blipFill>
        <p:spPr>
          <a:xfrm>
            <a:off x="0" y="231840"/>
            <a:ext cx="541332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turismocarioca.com/blog/wp-content/uploads/2008/01/sorris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1" name="Retângulo 1" descr=""/>
          <p:cNvPicPr/>
          <p:nvPr/>
        </p:nvPicPr>
        <p:blipFill>
          <a:blip r:embed="rId2"/>
          <a:stretch/>
        </p:blipFill>
        <p:spPr>
          <a:xfrm>
            <a:off x="-79200" y="5450040"/>
            <a:ext cx="936936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algarvedigital.pt/algarve/parameters/algarvedigital/files/Image/Temas%20Regionais/solidariedade%20socia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Retângulo 1" descr=""/>
          <p:cNvPicPr/>
          <p:nvPr/>
        </p:nvPicPr>
        <p:blipFill>
          <a:blip r:embed="rId2"/>
          <a:stretch/>
        </p:blipFill>
        <p:spPr>
          <a:xfrm>
            <a:off x="-212760" y="-115920"/>
            <a:ext cx="9655200" cy="13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2" descr="olhos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05" name="Retângulo 1" descr=""/>
          <p:cNvPicPr/>
          <p:nvPr/>
        </p:nvPicPr>
        <p:blipFill>
          <a:blip r:embed="rId2"/>
          <a:stretch/>
        </p:blipFill>
        <p:spPr>
          <a:xfrm>
            <a:off x="-79200" y="-165240"/>
            <a:ext cx="938844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2" descr="entusiasmo.jpg"/>
          <p:cNvPicPr/>
          <p:nvPr/>
        </p:nvPicPr>
        <p:blipFill>
          <a:blip r:embed="rId1"/>
          <a:srcRect l="7503" t="11282" r="81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tângulo 1"/>
          <p:cNvSpPr/>
          <p:nvPr/>
        </p:nvSpPr>
        <p:spPr>
          <a:xfrm>
            <a:off x="0" y="5286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Eras Bold ITC"/>
              </a:rPr>
              <a:t>Realize um implante de entusiasmo e atitude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images.google.com/url?q=http://bacaninha.uol.com.br/home/mensagens/fotos/2005/07/sandalias_da_humildade/bacaninha_sandalias_da_humildade.jpg&amp;usg=AFQjCNFNAsprmsZ8omL6aDQTF2vgCN37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09" name="Retângulo 1" descr=""/>
          <p:cNvPicPr/>
          <p:nvPr/>
        </p:nvPicPr>
        <p:blipFill>
          <a:blip r:embed="rId2"/>
          <a:stretch/>
        </p:blipFill>
        <p:spPr>
          <a:xfrm>
            <a:off x="-6480" y="-92160"/>
            <a:ext cx="915696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2" descr="crianca orando 6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" descr=""/>
          <p:cNvPicPr/>
          <p:nvPr/>
        </p:nvPicPr>
        <p:blipFill>
          <a:blip r:embed="rId2"/>
          <a:stretch/>
        </p:blipFill>
        <p:spPr>
          <a:xfrm>
            <a:off x="-208080" y="-109440"/>
            <a:ext cx="965700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daniladanila.blog.uol.com.br/images/dormin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" descr=""/>
          <p:cNvPicPr/>
          <p:nvPr/>
        </p:nvPicPr>
        <p:blipFill>
          <a:blip r:embed="rId2"/>
          <a:stretch/>
        </p:blipFill>
        <p:spPr>
          <a:xfrm>
            <a:off x="-6480" y="5541840"/>
            <a:ext cx="9169560" cy="12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www.coracaodemaria.org.br/images/90_anos/dizimo_interno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" descr=""/>
          <p:cNvPicPr/>
          <p:nvPr/>
        </p:nvPicPr>
        <p:blipFill>
          <a:blip r:embed="rId2"/>
          <a:stretch/>
        </p:blipFill>
        <p:spPr>
          <a:xfrm>
            <a:off x="463680" y="4486320"/>
            <a:ext cx="850896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2" descr="mulher autoconhecimento.jpg"/>
          <p:cNvPicPr/>
          <p:nvPr/>
        </p:nvPicPr>
        <p:blipFill>
          <a:blip r:embed="rId1"/>
          <a:stretch/>
        </p:blipFill>
        <p:spPr>
          <a:xfrm>
            <a:off x="3990960" y="0"/>
            <a:ext cx="51530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" descr=""/>
          <p:cNvPicPr/>
          <p:nvPr/>
        </p:nvPicPr>
        <p:blipFill>
          <a:blip r:embed="rId2"/>
          <a:stretch/>
        </p:blipFill>
        <p:spPr>
          <a:xfrm>
            <a:off x="-158760" y="493560"/>
            <a:ext cx="5376960" cy="26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2" descr="felicidade 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19" name="Retângulo 1" descr=""/>
          <p:cNvPicPr/>
          <p:nvPr/>
        </p:nvPicPr>
        <p:blipFill>
          <a:blip r:embed="rId2"/>
          <a:stretch/>
        </p:blipFill>
        <p:spPr>
          <a:xfrm>
            <a:off x="-255600" y="-152280"/>
            <a:ext cx="7259760" cy="70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imagem.vilamulher.com.br/temp/cirurgia-plastica-210108.jpg"/>
          <p:cNvPicPr/>
          <p:nvPr/>
        </p:nvPicPr>
        <p:blipFill>
          <a:blip r:embed="rId1"/>
          <a:stretch/>
        </p:blipFill>
        <p:spPr>
          <a:xfrm>
            <a:off x="0" y="0"/>
            <a:ext cx="70722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tângulo 1" descr=""/>
          <p:cNvPicPr/>
          <p:nvPr/>
        </p:nvPicPr>
        <p:blipFill>
          <a:blip r:embed="rId2"/>
          <a:stretch/>
        </p:blipFill>
        <p:spPr>
          <a:xfrm>
            <a:off x="4863960" y="487440"/>
            <a:ext cx="43102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1"/>
          <p:cNvSpPr/>
          <p:nvPr/>
        </p:nvSpPr>
        <p:spPr>
          <a:xfrm>
            <a:off x="0" y="2703600"/>
            <a:ext cx="69292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Lucida Calligraphy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Receita para a beleza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Lucida Calligraphy"/>
              </a:rPr>
              <a:t>A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Adilson 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Lucida Calligraphy"/>
              </a:rPr>
              <a:t>Forma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Adilson 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Lucida Calligraphy"/>
              </a:rPr>
              <a:t>Im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Lucida Calligraphy"/>
                <a:hlinkClick r:id="rId1"/>
              </a:rPr>
              <a:t>www.google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Lucida Calligraphy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Calligraphy"/>
              </a:rPr>
              <a:t>A day without rain (Eny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2" descr="orgulh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Retângulo 1" descr=""/>
          <p:cNvPicPr/>
          <p:nvPr/>
        </p:nvPicPr>
        <p:blipFill>
          <a:blip r:embed="rId2"/>
          <a:stretch/>
        </p:blipFill>
        <p:spPr>
          <a:xfrm>
            <a:off x="-158760" y="4906800"/>
            <a:ext cx="9309240" cy="10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dinnoviel.files.wordpress.com/2007/11/anim_fofocaanjo.gif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tângulo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Eras Bold ITC"/>
              </a:rPr>
              <a:t>outra na correção da língua venenosa e ardilos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agualisa5.blogs.sapo.pt/arquivo/labi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Retângulo 1" descr=""/>
          <p:cNvPicPr/>
          <p:nvPr/>
        </p:nvPicPr>
        <p:blipFill>
          <a:blip r:embed="rId2"/>
          <a:stretch/>
        </p:blipFill>
        <p:spPr>
          <a:xfrm>
            <a:off x="-6480" y="5479920"/>
            <a:ext cx="91569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s246.photobucket.com/albums/gg111/meusrecadoscom/tristeza/0002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326360"/>
          </a:xfrm>
          <a:prstGeom prst="rect">
            <a:avLst/>
          </a:prstGeom>
          <a:ln w="0">
            <a:noFill/>
          </a:ln>
        </p:spPr>
      </p:pic>
      <p:pic>
        <p:nvPicPr>
          <p:cNvPr id="93" name="Retângulo 1" descr=""/>
          <p:cNvPicPr/>
          <p:nvPr/>
        </p:nvPicPr>
        <p:blipFill>
          <a:blip r:embed="rId2"/>
          <a:stretch/>
        </p:blipFill>
        <p:spPr>
          <a:xfrm>
            <a:off x="55440" y="-109440"/>
            <a:ext cx="9259920" cy="11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www.vademecum.blogger.com.br/death2%20ev.jpg"/>
          <p:cNvPicPr/>
          <p:nvPr/>
        </p:nvPicPr>
        <p:blipFill>
          <a:blip r:embed="rId1"/>
          <a:srcRect l="4745" t="5868" r="5255" b="56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Retângulo 1" descr=""/>
          <p:cNvPicPr/>
          <p:nvPr/>
        </p:nvPicPr>
        <p:blipFill>
          <a:blip r:embed="rId2"/>
          <a:stretch/>
        </p:blipFill>
        <p:spPr>
          <a:xfrm>
            <a:off x="-225360" y="-133200"/>
            <a:ext cx="521820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2" descr="cicatrizes.jpg"/>
          <p:cNvPicPr/>
          <p:nvPr/>
        </p:nvPicPr>
        <p:blipFill>
          <a:blip r:embed="rId1"/>
          <a:srcRect l="0" t="0" r="0" b="142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Retângulo 1" descr=""/>
          <p:cNvPicPr/>
          <p:nvPr/>
        </p:nvPicPr>
        <p:blipFill>
          <a:blip r:embed="rId2"/>
          <a:stretch/>
        </p:blipFill>
        <p:spPr>
          <a:xfrm>
            <a:off x="-158760" y="-85680"/>
            <a:ext cx="93092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2" descr="gigante_pisando_smal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Retângulo 1" descr=""/>
          <p:cNvPicPr/>
          <p:nvPr/>
        </p:nvPicPr>
        <p:blipFill>
          <a:blip r:embed="rId2"/>
          <a:stretch/>
        </p:blipFill>
        <p:spPr>
          <a:xfrm>
            <a:off x="-6480" y="-115920"/>
            <a:ext cx="915696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41:25Z</dcterms:created>
  <dc:creator>Adilson Costa</dc:creator>
  <dc:description>Arrangement &amp; Ton: Dottore El Cidre</dc:description>
  <dc:language>en-US</dc:language>
  <cp:lastModifiedBy>Adilson Costa</cp:lastModifiedBy>
  <dcterms:modified xsi:type="dcterms:W3CDTF">2008-10-15T02:45:45Z</dcterms:modified>
  <cp:revision>1</cp:revision>
  <dc:subject>I am alive_03.28.00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rstellt von">
    <vt:lpwstr>Dottore El Cidre</vt:lpwstr>
  </property>
</Properties>
</file>