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My%20Way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4C4D-F72A-474F-A742-E7127F75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92F1-D611-481D-AA01-31B66C6C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F34B-BEEA-4949-B175-EFACA028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B4D7-6503-43EB-95A8-C06FDDA02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3CFA-40BC-46BB-90C4-0D1601E3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64E8-9011-460C-95B9-B0B8B04A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C420-7539-4ECA-A781-661AAA54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DF51-5407-49D1-A84F-DEF4DE83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4759-2C8F-4962-AF75-AC3B1AF1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DAAA-B36B-40BE-A72B-1B17E479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F8D1-AED5-49A2-967C-C1B88CDE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7349-14A7-4BDC-8E70-5340EEBD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2D49-76F2-470F-AA65-688CFFC4F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My%20Way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6920" y="826920"/>
            <a:ext cx="7490160" cy="5204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259"/>
            </a:avLst>
          </a:prstGeom>
          <a:gradFill rotWithShape="0">
            <a:gsLst>
              <a:gs pos="0">
                <a:srgbClr val="5b5bff">
                  <a:alpha val="97254"/>
                </a:srgbClr>
              </a:gs>
              <a:gs pos="50000">
                <a:srgbClr val="292975">
                  <a:alpha val="6274"/>
                </a:srgbClr>
              </a:gs>
              <a:gs pos="100000">
                <a:srgbClr val="5b5bff">
                  <a:alpha val="97254"/>
                </a:srgbClr>
              </a:gs>
            </a:gsLst>
            <a:lin ang="5400000"/>
          </a:gradFill>
          <a:ln w="0">
            <a:solidFill>
              <a:srgbClr val="212165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47640" y="1557360"/>
            <a:ext cx="66963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ESTRATÉGIAS  MENTAIS</a:t>
            </a: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(O que você deve fazer de dentro para fo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2" name="My%20Way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26920" y="826920"/>
            <a:ext cx="7490160" cy="5204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259"/>
            </a:avLst>
          </a:prstGeom>
          <a:gradFill rotWithShape="0">
            <a:gsLst>
              <a:gs pos="0">
                <a:srgbClr val="5b5bff">
                  <a:alpha val="97254"/>
                </a:srgbClr>
              </a:gs>
              <a:gs pos="50000">
                <a:srgbClr val="292975">
                  <a:alpha val="6274"/>
                </a:srgbClr>
              </a:gs>
              <a:gs pos="100000">
                <a:srgbClr val="5b5bff">
                  <a:alpha val="97254"/>
                </a:srgbClr>
              </a:gs>
            </a:gsLst>
            <a:lin ang="5400000"/>
          </a:gradFill>
          <a:ln w="0">
            <a:solidFill>
              <a:srgbClr val="212165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1268280"/>
            <a:ext cx="684072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aste mais horas realizando que sonhando, fazendo que planejando, vivendo que esperando, porqu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bora quem quase morre esteja vivo, quem quase vive já morreu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medo nos afasta das derrotas....mas das vitórias também!!!!!!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26920" y="826920"/>
            <a:ext cx="7490160" cy="5204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259"/>
            </a:avLst>
          </a:prstGeom>
          <a:gradFill rotWithShape="0">
            <a:gsLst>
              <a:gs pos="0">
                <a:srgbClr val="5b5bff">
                  <a:alpha val="97254"/>
                </a:srgbClr>
              </a:gs>
              <a:gs pos="50000">
                <a:srgbClr val="292975">
                  <a:alpha val="6274"/>
                </a:srgbClr>
              </a:gs>
              <a:gs pos="100000">
                <a:srgbClr val="5b5bff">
                  <a:alpha val="97254"/>
                </a:srgbClr>
              </a:gs>
            </a:gsLst>
            <a:lin ang="5400000"/>
          </a:gradFill>
          <a:ln w="0">
            <a:solidFill>
              <a:srgbClr val="212165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87280" y="1125360"/>
            <a:ext cx="676944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da essa mensagem he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a pode ficar ainda mais bonita quando aplicada nas nossas vidas. Vamos meditar sobre o assunto com muito carinh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nha um dia repleto de novas estratégias e muita confianç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26920" y="826920"/>
            <a:ext cx="7490160" cy="5204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259"/>
            </a:avLst>
          </a:prstGeom>
          <a:gradFill rotWithShape="0">
            <a:gsLst>
              <a:gs pos="0">
                <a:srgbClr val="5b5bff">
                  <a:alpha val="97254"/>
                </a:srgbClr>
              </a:gs>
              <a:gs pos="50000">
                <a:srgbClr val="292975">
                  <a:alpha val="6274"/>
                </a:srgbClr>
              </a:gs>
              <a:gs pos="100000">
                <a:srgbClr val="5b5bff">
                  <a:alpha val="97254"/>
                </a:srgbClr>
              </a:gs>
            </a:gsLst>
            <a:lin ang="5400000"/>
          </a:gradFill>
          <a:ln w="0">
            <a:solidFill>
              <a:srgbClr val="212165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03280" y="1628640"/>
            <a:ext cx="5977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r desconhec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03280" y="1916280"/>
            <a:ext cx="2951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Música: My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03280" y="2205000"/>
            <a:ext cx="4248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atação:  Moacir Maci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26920" y="826920"/>
            <a:ext cx="7490160" cy="5204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259"/>
            </a:avLst>
          </a:prstGeom>
          <a:gradFill rotWithShape="0">
            <a:gsLst>
              <a:gs pos="0">
                <a:srgbClr val="5b5bff">
                  <a:alpha val="97254"/>
                </a:srgbClr>
              </a:gs>
              <a:gs pos="50000">
                <a:srgbClr val="292975">
                  <a:alpha val="6274"/>
                </a:srgbClr>
              </a:gs>
              <a:gs pos="100000">
                <a:srgbClr val="5b5bff">
                  <a:alpha val="97254"/>
                </a:srgbClr>
              </a:gs>
            </a:gsLst>
            <a:lin ang="5400000"/>
          </a:gradFill>
          <a:ln w="0">
            <a:solidFill>
              <a:srgbClr val="212165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87280" y="1125360"/>
            <a:ext cx="6985080" cy="344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Pense sempre, de forma positiva. Toda vez que um pensamento negativo vier à sua cabeça, troque-o por outro! Para isso, é preciso muita disciplina mental. Você não adquire isso do dia para a noite; assim como um “atleta”, treine mui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Não tenha medo de nada e ninguém.                             O medo é uma das maiores causas de nossas perturbações interiores.                                               Tenha fé em você mesmo. Sentir medo é acreditar que os outros são poderosos. Não dê poder ao próx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6920" y="826920"/>
            <a:ext cx="7490160" cy="5204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259"/>
            </a:avLst>
          </a:prstGeom>
          <a:gradFill rotWithShape="0">
            <a:gsLst>
              <a:gs pos="0">
                <a:srgbClr val="5b5bff">
                  <a:alpha val="97254"/>
                </a:srgbClr>
              </a:gs>
              <a:gs pos="50000">
                <a:srgbClr val="292975">
                  <a:alpha val="6274"/>
                </a:srgbClr>
              </a:gs>
              <a:gs pos="100000">
                <a:srgbClr val="5b5bff">
                  <a:alpha val="97254"/>
                </a:srgbClr>
              </a:gs>
            </a:gsLst>
            <a:lin ang="5400000"/>
          </a:gradFill>
          <a:ln w="0">
            <a:solidFill>
              <a:srgbClr val="212165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16000" y="1197000"/>
            <a:ext cx="705636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Não se queixe. Quando você reclama, tal qual um ímã, você atrai para si toda a carga negativa de suas próprias palavras. A maioria das coisas que acabam dando errado, começa a se materializar quando nos lamenta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26920" y="826920"/>
            <a:ext cx="7490160" cy="5204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259"/>
            </a:avLst>
          </a:prstGeom>
          <a:gradFill rotWithShape="0">
            <a:gsLst>
              <a:gs pos="0">
                <a:srgbClr val="5b5bff">
                  <a:alpha val="97254"/>
                </a:srgbClr>
              </a:gs>
              <a:gs pos="50000">
                <a:srgbClr val="292975">
                  <a:alpha val="6274"/>
                </a:srgbClr>
              </a:gs>
              <a:gs pos="100000">
                <a:srgbClr val="5b5bff">
                  <a:alpha val="97254"/>
                </a:srgbClr>
              </a:gs>
            </a:gsLst>
            <a:lin ang="5400000"/>
          </a:gradFill>
          <a:ln w="0">
            <a:solidFill>
              <a:srgbClr val="212165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981000"/>
            <a:ext cx="7272360" cy="283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 Risque a palavra “culpa” do seu dicionário. Não se permita esta sensação, pois quando nos punimos, abrimos nossa retaguarda para espíritos opressores e agressores, que vibram com nossa melancolia. Ignore-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. Não deixe que interferências externas tumultuem o seu cotidiano. Livre-se de fofocas, comentários maldosos e gente deprimida. Isto é contagioso. Seja prestativo com quem presta. Sintonize com gente positiva e alto ast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26920" y="826920"/>
            <a:ext cx="7490160" cy="5204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259"/>
            </a:avLst>
          </a:prstGeom>
          <a:gradFill rotWithShape="0">
            <a:gsLst>
              <a:gs pos="0">
                <a:srgbClr val="5b5bff">
                  <a:alpha val="97254"/>
                </a:srgbClr>
              </a:gs>
              <a:gs pos="50000">
                <a:srgbClr val="292975">
                  <a:alpha val="6274"/>
                </a:srgbClr>
              </a:gs>
              <a:gs pos="100000">
                <a:srgbClr val="5b5bff">
                  <a:alpha val="97254"/>
                </a:srgbClr>
              </a:gs>
            </a:gsLst>
            <a:lin ang="5400000"/>
          </a:gradFill>
          <a:ln w="0">
            <a:solidFill>
              <a:srgbClr val="212165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7280" y="907920"/>
            <a:ext cx="6985080" cy="28360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. Não se aborreça com facilidade e nem dê importância às pequenas coisas. Quando nos irritamos, envenenamos nosso corpo e nossa mente.          Procure conviver com serenidade e quando tiver vontade de explodir, conte até de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. Viva o presente. O ansioso vive no futuro. O rancoroso, vive no passado. Aproveite o aqui e agora. Nada se repete, tudo passa. Faça o seu dia valer a pena. Não perca tempo com melindres e preocupações, pois só trazem doenç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26920" y="826920"/>
            <a:ext cx="7490160" cy="5204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259"/>
            </a:avLst>
          </a:prstGeom>
          <a:gradFill rotWithShape="0">
            <a:gsLst>
              <a:gs pos="0">
                <a:srgbClr val="5b5bff">
                  <a:alpha val="97254"/>
                </a:srgbClr>
              </a:gs>
              <a:gs pos="50000">
                <a:srgbClr val="292975">
                  <a:alpha val="6274"/>
                </a:srgbClr>
              </a:gs>
              <a:gs pos="100000">
                <a:srgbClr val="5b5bff">
                  <a:alpha val="97254"/>
                </a:srgbClr>
              </a:gs>
            </a:gsLst>
            <a:lin ang="5400000"/>
          </a:gradFill>
          <a:ln w="0">
            <a:solidFill>
              <a:srgbClr val="212165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03280" y="1844640"/>
            <a:ext cx="68407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RATÉGIAS  MENTAI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O que você deve fazer de fora para den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6920" y="826920"/>
            <a:ext cx="7490160" cy="5204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259"/>
            </a:avLst>
          </a:prstGeom>
          <a:gradFill rotWithShape="0">
            <a:gsLst>
              <a:gs pos="0">
                <a:srgbClr val="5b5bff">
                  <a:alpha val="97254"/>
                </a:srgbClr>
              </a:gs>
              <a:gs pos="50000">
                <a:srgbClr val="292975">
                  <a:alpha val="6274"/>
                </a:srgbClr>
              </a:gs>
              <a:gs pos="100000">
                <a:srgbClr val="5b5bff">
                  <a:alpha val="97254"/>
                </a:srgbClr>
              </a:gs>
            </a:gsLst>
            <a:lin ang="5400000"/>
          </a:gradFill>
          <a:ln w="0">
            <a:solidFill>
              <a:srgbClr val="212165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981000"/>
            <a:ext cx="6985080" cy="299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A água purifica. Sempre que puder vá a praia, rio ou cachoeira. Em casa, enquanto toma banho, embaixo do chuveiro, de olhos fechados, imagine seu cansaço físico e mental e que toda a carga negativa está indo embora por água abaix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Ande descalço quando puder, na terra de preferência. Em casa, massageie seus pés com um creme depois de um longo dia de trabalho. Os escalde em água mo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26920" y="826920"/>
            <a:ext cx="7490160" cy="5204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259"/>
            </a:avLst>
          </a:prstGeom>
          <a:gradFill rotWithShape="0">
            <a:gsLst>
              <a:gs pos="0">
                <a:srgbClr val="5b5bff">
                  <a:alpha val="97254"/>
                </a:srgbClr>
              </a:gs>
              <a:gs pos="50000">
                <a:srgbClr val="292975">
                  <a:alpha val="6274"/>
                </a:srgbClr>
              </a:gs>
              <a:gs pos="100000">
                <a:srgbClr val="5b5bff">
                  <a:alpha val="97254"/>
                </a:srgbClr>
              </a:gs>
            </a:gsLst>
            <a:lin ang="5400000"/>
          </a:gradFill>
          <a:ln w="0">
            <a:solidFill>
              <a:srgbClr val="212165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1052640"/>
            <a:ext cx="6985080" cy="26920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Mantenha contato com a natureza; tenha em casa um vaso de plantas pelo menos. Cuide dele com carinho. O amor que dedicamos às plantas e animais acalma o ser humano e funciona como relaxante na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 Ouça músicas que o façam cantar e dançar. Seja qual for o seu estilo preferido, a vibração de uma canção tem o poder de nos fazer sentir vivos , aflorando a nossa emoção e abrindo o nosso canal com aleg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26920" y="826920"/>
            <a:ext cx="7490160" cy="5204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259"/>
            </a:avLst>
          </a:prstGeom>
          <a:gradFill rotWithShape="0">
            <a:gsLst>
              <a:gs pos="0">
                <a:srgbClr val="5b5bff">
                  <a:alpha val="97254"/>
                </a:srgbClr>
              </a:gs>
              <a:gs pos="50000">
                <a:srgbClr val="292975">
                  <a:alpha val="6274"/>
                </a:srgbClr>
              </a:gs>
              <a:gs pos="100000">
                <a:srgbClr val="5b5bff">
                  <a:alpha val="97254"/>
                </a:srgbClr>
              </a:gs>
            </a:gsLst>
            <a:lin ang="5400000"/>
          </a:gradFill>
          <a:ln w="0">
            <a:solidFill>
              <a:srgbClr val="212165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1197000"/>
            <a:ext cx="6985080" cy="20516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ão deixe que a saudade sufoque, que a rotina acomode, que o medo o impeça de tent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berte-se!!! Sempre que puder livre-se da rotina e pegue 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rada, nem que seja por um único dia.              Conheça novos lugares e novas pessoas.                   Viva a Vida!!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17:41:42Z</dcterms:created>
  <dc:creator>ba</dc:creator>
  <dc:description/>
  <dc:language>en-US</dc:language>
  <cp:lastModifiedBy>ba</cp:lastModifiedBy>
  <dcterms:modified xsi:type="dcterms:W3CDTF">2008-07-14T17:46:58Z</dcterms:modified>
  <cp:revision>1</cp:revision>
  <dc:subject/>
  <dc:title>Slide 1</dc:title>
</cp:coreProperties>
</file>