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63FF-3F8E-4F3B-9AFA-C3C07724A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A1C4-E97D-4026-B3CF-4AF9192FA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EE2-FD24-4818-BA90-9A8A456F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F66-59AB-4775-90A9-02DE96FE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CBD-24FA-4FFD-B4D4-06A5EBD8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05B-C65C-4E72-AB14-BC99AFFC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121-2876-44E5-9C7A-603B731E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E24-3A1F-48BA-B565-14E6B918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68A-3EE0-4AED-A910-90D801C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781-974F-4C99-BE33-2AD1CF7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5E0-5887-4701-A772-5BD16B8B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28E-A980-450C-9420-7E9B6EF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EB1-0F5F-4E35-9237-5842DF2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ECC-01A7-4EA7-A864-8AF84BC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3B06-C327-4D46-AA1F-76FA150F6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. Cortazar - Eternal love affair.wav" descr=""/>
          <p:cNvPicPr/>
          <p:nvPr/>
        </p:nvPicPr>
        <p:blipFill>
          <a:blip r:embed="rId1"/>
          <a:stretch/>
        </p:blipFill>
        <p:spPr>
          <a:xfrm>
            <a:off x="-1523880" y="66135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71800" y="5562720"/>
            <a:ext cx="3333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LOPANDO A VIDA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324480"/>
            <a:ext cx="62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-slides de passagem automátic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11120" y="6019200"/>
            <a:ext cx="48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Envelhecer é melhor do que morrer jov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lus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5392800"/>
            <a:ext cx="714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Aceita por completo a tua presença na Terra e escolhe, a cada momento, a beleza, a bondade, a verdade e a vida, lembrando-te sempre de que tudo isto e Deus é a mesma cois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lus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21480" y="5714640"/>
            <a:ext cx="70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Não te armes em vítima e não te comportes como um salv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lus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120" y="6095160"/>
            <a:ext cx="79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Faz a paz com o teu passado, para que ele não estrague o teu pres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lus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50680" y="6247800"/>
            <a:ext cx="55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O que os outros pensam de ti não é da tua co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5943240"/>
            <a:ext cx="77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homem de bem exige tudo de si próprio; o homem medíocre espera tudo dos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7000" y="6019200"/>
            <a:ext cx="72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õe definitivamente de parte o hábito de querer mudar os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2560" y="6019200"/>
            <a:ext cx="87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ntém a cabeça sempre fria, o coração sempre quente e a mão sempre lar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5866920"/>
            <a:ext cx="72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Comporta-te como um “curandeiro” que traz alegria e luz, em vez de críticas ou indiferen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lus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6247800"/>
            <a:ext cx="87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Deixa-te guiar pela intuição pessoal em vez de agires sob a pressão do medo.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5120" y="609516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Quando estiveres em dúvida dá o próximo pa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9160" y="6019200"/>
            <a:ext cx="72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passagem do tempo deve ser uma conquista e não uma per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lus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44320" y="6095160"/>
            <a:ext cx="57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Quem não pode o que quer que queira o que p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lus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52120" y="621612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É melhor morrer de pé do que viver de joel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71600" y="5942880"/>
            <a:ext cx="63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Viver é a única coisa que não dá para deixar para depo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24440" y="3146400"/>
            <a:ext cx="109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   I   M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2000">
    <p:plus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6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18960" y="6171480"/>
            <a:ext cx="67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A vida é muito curta para perdermos tempo odiando algué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55840" y="0"/>
            <a:ext cx="44323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6880" y="6095160"/>
            <a:ext cx="77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ão tens que vencer todos os argumentos: Concorda para discor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5790600"/>
            <a:ext cx="809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Duas coisas indicam fraqueza: O calar-se quando é preciso falar, e o falar quando é preciso calar-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4560" y="609516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xige muito de ti e espera pouco dos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4400" y="6095160"/>
            <a:ext cx="54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uito sabe quem conhece a própria ignorância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63040" y="601920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O que não te mata torna-te mais f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52480" y="624780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Inveja é perda de tempo: Já tens tudo o que prec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bl</dc:creator>
  <dc:description/>
  <dc:language>en-US</dc:language>
  <cp:lastModifiedBy> </cp:lastModifiedBy>
  <dcterms:modified xsi:type="dcterms:W3CDTF">2009-10-15T13:46:12Z</dcterms:modified>
  <cp:revision>10</cp:revision>
  <dc:subject>slides</dc:subject>
  <dc:title>Galopando a vida</dc:title>
</cp:coreProperties>
</file>