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Ernesto%20Cortazar%20-%20And%20When%20I%20Touched%20You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224E-BD6F-4C44-9309-63382C93C98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C21F-430A-43EF-9485-AB567D54A34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BC8A-797E-4860-B379-CC662180A19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8A38-2E03-4A4C-B0F4-C032E6D13A9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F852-F2E6-48BE-85F2-DF13D53983F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1A40-A45B-4F88-AFA5-DCFAF14E76E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310E-A06D-4882-B09C-95677397596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8D67-BF3A-4C72-A2AA-B3B73DFDEA5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84B7-7F99-49D2-8CE9-F78AC7808F6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BF82-975E-4891-8887-404C970647A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FC83-DC63-49B1-8827-B9D9C91494A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EACB-D4F2-4BB7-8D02-6AE5C7C2838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2ACB-295F-4AE4-9C47-9CB9BD46698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827A-F6CC-41EF-9ADD-6FD0D67ABFA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4C66-FC94-4C07-808A-2AAAF4296CB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E01C-2E89-46A3-A70B-4B7D6A665C9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DC1-87F4-43C0-BE63-F1FC7B61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782-24E2-4647-A9A4-8B509857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D59-A8BC-4708-84D7-74E83C85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89E-3EB0-4573-AFBB-D45933F4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F80-3C34-4568-A3F6-580C104A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B7A-2BB3-418A-802F-5310BC67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F8C-AFB3-4E42-81CE-F4683F4B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AC9-9C2B-448B-9421-7F87B383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5B2-B8D4-464A-AF61-A4DFBDB1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3AB-BD1A-460F-80BD-7BDAB301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923-6010-4AC2-ABE3-5B22F82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1CE-2827-407B-A5A9-EF974ABA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0929-BD62-4D66-9638-FBC9D573C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rnesto%20Cortazar%20-%20And%20When%20I%20Touched%20You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gjg2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4661640" y="2651040"/>
            <a:ext cx="436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GIBRAN KAHLIL GIB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Foi um ilustre poeta liban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filósofo e arti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Nasceu em 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e morreu em 193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amaneciendo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395280" y="4797360"/>
            <a:ext cx="8675640" cy="1800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O arqueiro vê o alvo sobre o caminho do infin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e dobra o arco com toda a força, a fim de que suas flechas partam velozes e para muito lo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Figur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878544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Que o fato de estarem nas mãos do arqueiro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seja para suas felicidades, porque, assim como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ele ama a flecha que dispara,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ama também o arco que permanece fi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sunrise in England"/>
          <p:cNvPicPr/>
          <p:nvPr/>
        </p:nvPicPr>
        <p:blipFill>
          <a:blip r:embed="rId1"/>
          <a:stretch/>
        </p:blipFill>
        <p:spPr>
          <a:xfrm>
            <a:off x="0" y="0"/>
            <a:ext cx="9612360" cy="7209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431640" y="765000"/>
            <a:ext cx="8820360" cy="2653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Por isto vocês tiveram a liberdade de am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e a oportunidade de viver e fazerem suas vid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Deixem que seus filhos voem sós de seus ninhos quando chegar a hora e não lhes reclamem para que vol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ruma"/>
          <p:cNvPicPr/>
          <p:nvPr/>
        </p:nvPicPr>
        <p:blipFill>
          <a:blip r:embed="rId1"/>
          <a:stretch/>
        </p:blipFill>
        <p:spPr>
          <a:xfrm>
            <a:off x="-252360" y="-189000"/>
            <a:ext cx="9864720" cy="739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187280" y="824040"/>
            <a:ext cx="7056720" cy="3080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Eles os  quererão  para semp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e terão também seus lar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nos quais, algum dia, ficarão só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porém terão sido seus lares e suas vid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Deixem-nos livr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washingtondc"/>
          <p:cNvPicPr/>
          <p:nvPr/>
        </p:nvPicPr>
        <p:blipFill>
          <a:blip r:embed="rId1"/>
          <a:stretch/>
        </p:blipFill>
        <p:spPr>
          <a:xfrm>
            <a:off x="0" y="0"/>
            <a:ext cx="9685440" cy="7264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68360" y="895320"/>
            <a:ext cx="8785080" cy="180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Amem-nos com liberda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não apaguem o fogo de su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Vivam e deixem vi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assim eles os quererão semp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orilla del mar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361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928800" y="6072120"/>
            <a:ext cx="13572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ff">
                    <a:alpha val="90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IBRAN</a:t>
            </a:r>
            <a:endParaRPr b="1" i="1" lang="en-US" sz="1800" spc="1" strike="noStrike">
              <a:ln w="0">
                <a:noFill/>
              </a:ln>
              <a:solidFill>
                <a:srgbClr val="ffffff">
                  <a:alpha val="90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cook islands pri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"/>
          <p:cNvSpPr/>
          <p:nvPr/>
        </p:nvSpPr>
        <p:spPr>
          <a:xfrm>
            <a:off x="1887480" y="1413000"/>
            <a:ext cx="5348520" cy="56397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Sua fama e sua influência                          se derramaram por todo o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Suas reflexões e sua poe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foram traduzidas para mai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vinte idiomas, e seus desen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e pinturas são expo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em grandes cidades                                   do mund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Ernesto%20Cortazar%20-%20And%20When%20I%20Touched%20Yo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igur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79280" y="2205000"/>
            <a:ext cx="8785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Book Antiqua"/>
              </a:rPr>
              <a:t>Dizem que em certa ocasião, uma mulher que levava uma criança nos braços, propôs a Gibr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i="1" lang="pt-BR" sz="2400" spc="-1" strike="noStrike">
                <a:solidFill>
                  <a:srgbClr val="ffffff"/>
                </a:solidFill>
                <a:latin typeface="Book Antiqua"/>
              </a:rPr>
              <a:t>Mestre, falemos dos filhos”.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Book Antiqua"/>
              </a:rPr>
              <a:t>E ele responde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brass isla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581760" y="1327320"/>
            <a:ext cx="5345640" cy="1800360"/>
          </a:xfrm>
          <a:prstGeom prst="rect">
            <a:avLst/>
          </a:prstGeom>
          <a:gradFill rotWithShape="0">
            <a:gsLst>
              <a:gs pos="0">
                <a:srgbClr val="74c0c6"/>
              </a:gs>
              <a:gs pos="100000">
                <a:srgbClr val="3659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Seus filhos não são seus filhos.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São os filhos e as fi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dos desejos que a v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tem de si me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igur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4365360"/>
            <a:ext cx="878544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Vêm através de vocês, mas não são de vocês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e, ainda que vivam com vocês, não lhes pertenc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ook Isla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88748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79280" y="5157720"/>
            <a:ext cx="8785440" cy="13737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Podem dar-lhes seu amor, mas não seus pensamentos, pois eles têm seus próprios pens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n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945000" y="4297320"/>
            <a:ext cx="7192440" cy="22269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Podem abrigar seus corp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mas não suas almas,  porque suas al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moram na casa do amanhã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que nem mesmo em sonh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lhes será permitido visi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igur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708120"/>
            <a:ext cx="8785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ff"/>
                </a:solidFill>
                <a:latin typeface="Book Antiqua"/>
              </a:rPr>
              <a:t>Podem empenhar-se para ser como eles,</a:t>
            </a:r>
            <a:br>
              <a:rPr sz="2800"/>
            </a:br>
            <a:r>
              <a:rPr b="1" i="1" lang="es-MX" sz="2800" spc="-1" strike="noStrike">
                <a:solidFill>
                  <a:srgbClr val="ffffff"/>
                </a:solidFill>
                <a:latin typeface="Book Antiqua"/>
              </a:rPr>
              <a:t> mas não tentem fazer como vocês fizeram,</a:t>
            </a:r>
            <a:br>
              <a:rPr sz="2800"/>
            </a:br>
            <a:r>
              <a:rPr b="1" i="1" lang="es-MX" sz="2800" spc="-1" strike="noStrike">
                <a:solidFill>
                  <a:srgbClr val="ffffff"/>
                </a:solidFill>
                <a:latin typeface="Book Antiqua"/>
              </a:rPr>
              <a:t> porque a vida não anda para trás, </a:t>
            </a:r>
            <a:br>
              <a:rPr sz="2800"/>
            </a:br>
            <a:r>
              <a:rPr b="1" i="1" lang="es-MX" sz="2800" spc="-1" strike="noStrike">
                <a:solidFill>
                  <a:srgbClr val="ffffff"/>
                </a:solidFill>
                <a:latin typeface="Book Antiqua"/>
              </a:rPr>
              <a:t>nem se detém no on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orillas del m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96720" y="67932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 Antiqua"/>
              </a:rPr>
              <a:t>Vocês são o arco por meio do qual seus filhos são disparados como flechas vivas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0:20:07Z</dcterms:created>
  <dc:creator>user</dc:creator>
  <dc:description/>
  <cp:keywords>makis_1943@hotmail.com</cp:keywords>
  <dc:language>en-US</dc:language>
  <cp:lastModifiedBy>user</cp:lastModifiedBy>
  <dcterms:modified xsi:type="dcterms:W3CDTF">2009-09-21T00:25:03Z</dcterms:modified>
  <cp:revision>1</cp:revision>
  <dc:subject>REFLEXION SOBRE LOS HIJOS</dc:subject>
  <dc:title>Slide 1</dc:title>
</cp:coreProperties>
</file>