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Roger%20Williams%20-%20Till.wav" ContentType="audio/x-wav"/>
  <Override PartName="/ppt/media/image18.jpeg" ContentType="image/jpeg"/>
  <Override PartName="/ppt/media/image12.gif" ContentType="image/gif"/>
  <Override PartName="/ppt/media/image7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4.gif" ContentType="image/gif"/>
  <Override PartName="/ppt/media/image6.gif" ContentType="image/gif"/>
  <Override PartName="/ppt/media/image11.gif" ContentType="image/gif"/>
  <Override PartName="/ppt/media/image5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D64-71BF-4B24-952D-AF24CD1D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3321-1619-4CB1-B86E-E35F58E5255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518D-1389-46DD-97B7-8790569CD83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739-C83D-4841-9E4F-7875B2E6910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45E-B369-440E-910C-6EA5D88874C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E30A-FB0E-4FE0-9D4F-199026F092D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3D82-723B-4622-9D0E-A16FB7CF45D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D60-9B48-44BC-92BA-B375107ED95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7D89-772B-4FF1-8EE3-C1080C396B6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B6D6-2758-4CE7-B773-5A8ED818580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07D7-0C87-42F1-8A62-263193CDC01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751B-D0E9-4E14-A888-24331FC80C8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2C2-61E1-4FEB-AE50-04061BBAE66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5B6C-CCC8-4EF6-9313-CE7E3736FA2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491F-938E-49B7-A831-D8A1A0068CD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4329-6224-41BD-89A8-F6AB993BF46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296-953C-4D4E-8B5E-EB8FBB84A47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E0A-B132-4221-9035-778D60B4CE1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9DF-9511-4F0C-BB50-0CBBA16FB58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2EE3-FCB2-4A31-A3F4-7FECD04EC16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9FA-8DD5-410C-B738-05236FA2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2B7-78FE-464C-8DCC-AB3C8BC2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D38-297D-4CBF-958B-4A931496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B92-BCC7-40E6-B529-0F3F7DB3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CE08-9D08-415C-AC23-60549005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6F3E-6433-4575-A72D-E7F86161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AE38-1E76-463D-9CA8-1D4562DA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4D1-DFAE-4AAB-96D2-90CE937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2039-1649-49E4-911C-89E9B40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6F78-4059-43F1-AE7C-C3A69812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5469-05FD-411C-A8B8-79250FB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993-313B-471A-8A09-A11EC742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D6EF-9FC0-4C7A-B7C9-20658B3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E838-D63C-4F42-8920-3781D92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A27-C3D4-406C-91B8-80388655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140B-0683-4D19-8D2D-85807965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B345-4DC7-49B9-B65E-432E17EF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159-E9A8-422B-B6CE-7E2972E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78D-2CAF-45C0-A74D-844E687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C91-E404-41DF-8CB5-7C62E977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EBB-5B5E-46D9-9FFC-96873EF3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0DC-AAC6-4236-A2E6-629F720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B5F-EF80-4CF7-B616-8C84FF0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DC4-93B5-4E6B-A9F9-BAE955AC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96CF-09C5-4CF2-BBF4-3F5D358BF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AF99-4ACF-4EFB-AF3C-223529B1A0E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Roger%20Williams%20-%20Ti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dorable"/>
              </a:rPr>
              <a:t>Para compreender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92" name="Picture 4" descr="_e_061229_03"/>
          <p:cNvPicPr/>
          <p:nvPr/>
        </p:nvPicPr>
        <p:blipFill>
          <a:blip r:embed="rId1"/>
          <a:stretch/>
        </p:blipFill>
        <p:spPr>
          <a:xfrm>
            <a:off x="5364000" y="4616280"/>
            <a:ext cx="2560680" cy="2013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Roger%20Williams%20-%20Ti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1 segundo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alguém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que tenha sobrevivido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a um acidente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0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0" y="0"/>
            <a:ext cx="221940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00"/>
                </a:solidFill>
                <a:latin typeface="Adorable"/>
              </a:rPr>
              <a:t>O tempo não espera por ninguém.</a:t>
            </a:r>
            <a:endParaRPr b="0" lang="en-US" sz="6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2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6095880" y="4267080"/>
            <a:ext cx="221940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00"/>
                </a:solidFill>
                <a:latin typeface="Adorable"/>
              </a:rPr>
              <a:t>Guarda ciosamente cada momento que vives.</a:t>
            </a:r>
            <a:endParaRPr b="0" lang="en-US" sz="6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4" name="Picture 4" descr="rejeanne"/>
          <p:cNvPicPr/>
          <p:nvPr/>
        </p:nvPicPr>
        <p:blipFill>
          <a:blip r:embed="rId1"/>
          <a:stretch/>
        </p:blipFill>
        <p:spPr>
          <a:xfrm>
            <a:off x="7394400" y="4670280"/>
            <a:ext cx="1749600" cy="218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0000"/>
                </a:solidFill>
                <a:latin typeface="Amazone BT"/>
              </a:rPr>
              <a:t>Apreciá-lo-ás mais se o compartilhares com esse ser especial.</a:t>
            </a:r>
            <a:endParaRPr b="0" lang="en-US" sz="6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6" name="Picture 4" descr="i92839415_22244"/>
          <p:cNvPicPr/>
          <p:nvPr/>
        </p:nvPicPr>
        <p:blipFill>
          <a:blip r:embed="rId1"/>
          <a:stretch/>
        </p:blipFill>
        <p:spPr>
          <a:xfrm>
            <a:off x="6477120" y="5286240"/>
            <a:ext cx="147636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orque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94920" y="2743200"/>
            <a:ext cx="66294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 valor de um Amigo ou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um ente Querido,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ta PERDÊ-LO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9" name="Picture 4" descr="reine-aimee"/>
          <p:cNvPicPr/>
          <p:nvPr/>
        </p:nvPicPr>
        <p:blipFill>
          <a:blip r:embed="rId1"/>
          <a:stretch/>
        </p:blipFill>
        <p:spPr>
          <a:xfrm>
            <a:off x="6934320" y="4962600"/>
            <a:ext cx="1562040" cy="1895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dorable"/>
              </a:rPr>
              <a:t>A origem desta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dorable"/>
              </a:rPr>
              <a:t>mensagem é desconhecida…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257508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00"/>
                </a:solidFill>
                <a:latin typeface="Adorable"/>
              </a:rPr>
              <a:t>mas traz paz e muita sorte a todos os que a recebem.</a:t>
            </a:r>
            <a:endParaRPr b="0" lang="en-US" sz="6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00"/>
                </a:solidFill>
                <a:latin typeface="Adorable"/>
              </a:rPr>
              <a:t>NÃO FIQUES COM ELA</a:t>
            </a:r>
            <a:endParaRPr b="0" lang="en-US" sz="8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3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6858000" y="4670280"/>
            <a:ext cx="16351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Arial"/>
              </a:rPr>
              <a:t>Envia-a a todos aqueles a quem queiras ofertar um pouco de luz e de esperança, incluindo quem ta enviou.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20000"/>
                </a:solidFill>
                <a:latin typeface="Adorable"/>
              </a:rPr>
              <a:t>LEMBRA-TE…</a:t>
            </a:r>
            <a:endParaRPr b="0" lang="en-US" sz="6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21337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mazone BT"/>
              </a:rPr>
              <a:t>“</a:t>
            </a:r>
            <a:r>
              <a:rPr b="0" lang="en-US" sz="5400" spc="-1" strike="noStrike">
                <a:solidFill>
                  <a:srgbClr val="330000"/>
                </a:solidFill>
                <a:latin typeface="Amazone BT"/>
              </a:rPr>
              <a:t>A vida não será a festa que todos desejamos, mas enquanto estamos por cá, devemos dançar.”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 Deus Te Abenço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8" name="Picture 5" descr="amaràs a tu Dios"/>
          <p:cNvPicPr/>
          <p:nvPr/>
        </p:nvPicPr>
        <p:blipFill>
          <a:blip r:embed="rId1"/>
          <a:stretch/>
        </p:blipFill>
        <p:spPr>
          <a:xfrm>
            <a:off x="2438280" y="2944800"/>
            <a:ext cx="4783320" cy="39132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7"/>
          <p:cNvSpPr txBox="1"/>
          <p:nvPr/>
        </p:nvSpPr>
        <p:spPr>
          <a:xfrm>
            <a:off x="7543800" y="6019920"/>
            <a:ext cx="5335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M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uma Irmã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alguém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que não tem nenhuma 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u que a perdeu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7391520" y="3657600"/>
            <a:ext cx="1116000" cy="13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10 anos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um casal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recém divorciado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6" name="Picture 4" descr="tulip_lg"/>
          <p:cNvPicPr/>
          <p:nvPr/>
        </p:nvPicPr>
        <p:blipFill>
          <a:blip r:embed="rId1"/>
          <a:stretch/>
        </p:blipFill>
        <p:spPr>
          <a:xfrm>
            <a:off x="468360" y="4292640"/>
            <a:ext cx="1189080" cy="1303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4 anos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um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recém-formado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8" name="Picture 4" descr="staroll[1]"/>
          <p:cNvPicPr/>
          <p:nvPr/>
        </p:nvPicPr>
        <p:blipFill>
          <a:blip r:embed="rId1"/>
          <a:stretch/>
        </p:blipFill>
        <p:spPr>
          <a:xfrm>
            <a:off x="1332000" y="3357720"/>
            <a:ext cx="1106280" cy="1106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2133720"/>
            <a:ext cx="6934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1 ano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um estudante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que reprovou no exame final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0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5943600" y="561960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9 meses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uma Mãe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que acaba de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dar a luz um filho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2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4932360" y="5324400"/>
            <a:ext cx="1762200" cy="1533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1 mês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uma Mãe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que acaba de dar à luz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um bébé prematuro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4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0" y="4724280"/>
            <a:ext cx="1924200" cy="1876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1 semana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um editor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dum jornal semanal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6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2286000" y="4724280"/>
            <a:ext cx="4038480" cy="538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ara compreendere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valor de 1 minuto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pergunta a alguém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que perdeu o combóio,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o autocarro ou o avião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8" name="Picture 4" descr="Image Hosted by ImageShack.us"/>
          <p:cNvPicPr/>
          <p:nvPr/>
        </p:nvPicPr>
        <p:blipFill>
          <a:blip r:embed="rId1"/>
          <a:stretch/>
        </p:blipFill>
        <p:spPr>
          <a:xfrm>
            <a:off x="7238880" y="4267080"/>
            <a:ext cx="1143000" cy="13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1:54:36Z</dcterms:created>
  <dc:creator/>
  <dc:description/>
  <dc:language>en-US</dc:language>
  <cp:lastModifiedBy>Antas Guimarães</cp:lastModifiedBy>
  <dcterms:modified xsi:type="dcterms:W3CDTF">2008-12-05T02:13:20Z</dcterms:modified>
  <cp:revision>13</cp:revision>
  <dc:subject/>
  <dc:title>Para entender</dc:title>
</cp:coreProperties>
</file>