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TECLA.WAV" ContentType="audio/x-wav"/>
  <Override PartName="/ppt/media/image2.png" ContentType="image/png"/>
  <Override PartName="/ppt/media/image3.png" ContentType="image/png"/>
  <Override PartName="/ppt/media/LATIGO.WAV" ContentType="audio/x-wav"/>
  <Override PartName="/ppt/media/image4.png" ContentType="image/png"/>
  <Override PartName="/ppt/media/CLIC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4CF-AF66-481A-BD01-8A40A26F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A49-F3BE-4CDE-AA6F-6B5AA45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0BD-D8A3-4A85-8C45-4012FC09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FB0-EB51-47F2-A438-F0717B96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FE7-304B-48DF-B209-230500C2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A50-A2B7-4146-91D7-D535F842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BE0-D900-483C-AACD-D8DD578D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565-F34B-415E-9BC1-22B214F2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C5D-2CF0-47FA-BEDC-B1005C70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A45-6810-4466-AB8B-7D4506DC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EAA-C355-4FD3-A0FD-715AEEC9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738-7955-49F1-86D9-0D5B27FC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2DDF-6363-452D-9FED-B6B7D59D1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audio" Target="../media/TECL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audio" Target="../media/TECLA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audio" Target="../media/TECLA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audio" Target="../media/TECL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audio" Target="../media/TECLA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audio" Target="../media/TECLA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audio" Target="../media/TECLA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98"/>
            </a:gs>
            <a:gs pos="100000">
              <a:srgbClr val="002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6640" y="639720"/>
            <a:ext cx="5516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Century Gothic"/>
              </a:rPr>
              <a:t>Ah  Amigos...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Century Gothic"/>
              </a:rPr>
              <a:t>Se  fôssem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Century Gothic"/>
              </a:rPr>
              <a:t>como  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Century Gothic"/>
              </a:rPr>
              <a:t>Gansos 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505320" y="113364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039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981080" y="46483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762120" y="2133720"/>
            <a:ext cx="931680" cy="990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58800" y="2649600"/>
            <a:ext cx="63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entury Gothic"/>
              </a:rPr>
              <a:t>QUANDO  O  GANSO  LÍDER  SE  CANS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039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14680" y="1125360"/>
            <a:ext cx="932040" cy="990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75600" y="1805040"/>
            <a:ext cx="514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entury Gothic"/>
              </a:rPr>
              <a:t>... MUDA-SE  PARA  O  FIM  DA  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entury Gothic"/>
              </a:rPr>
              <a:t>ENQUANTO  OUTRO  ASSUME  A  DIANT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1981080" y="4648320"/>
            <a:ext cx="94140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39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3581280" y="1143000"/>
            <a:ext cx="932040" cy="99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1981080" y="4648320"/>
            <a:ext cx="941400" cy="100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456000" y="1087560"/>
            <a:ext cx="4627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Lição 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PARTILHAR  A  LIDERANÇ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RESPEITAR-MO-NOS  SEMPRE  MUTU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DIVIDIR  OS  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E  OS  TRABALHOS  MAIS  DIFÍC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REUNIR  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E  CAPAC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COMBINAR  DON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TALENTOS  E  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532320" y="113364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1550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2008080" y="4648320"/>
            <a:ext cx="941400" cy="1000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618000" y="1117440"/>
            <a:ext cx="43632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  <p:sp>
        <p:nvSpPr>
          <p:cNvPr id="137" name=""/>
          <p:cNvSpPr/>
          <p:nvPr/>
        </p:nvSpPr>
        <p:spPr>
          <a:xfrm>
            <a:off x="2925000" y="2573280"/>
            <a:ext cx="569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Century Gothic"/>
              </a:rPr>
              <a:t>ENQUANTO  VOAM  EM  FORM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Century Gothic"/>
              </a:rPr>
              <a:t>OS  GANSOS  GRASNAM  PARA  DAR  CORA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Century Gothic"/>
              </a:rPr>
              <a:t>E  ALENTO  AO  QUE  VAI  À  FRENTE  PARA  QUE  ASSI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Century Gothic"/>
              </a:rPr>
              <a:t>POSSA  MANTER  A  VELOCIDADE  E  O  RIT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1434960"/>
            <a:ext cx="43668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79480" y="1744560"/>
            <a:ext cx="43668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65080" y="3344760"/>
            <a:ext cx="43668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335240" y="4121280"/>
            <a:ext cx="436320" cy="16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0" y="4954680"/>
            <a:ext cx="43632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</p:spTree>
  </p:cSld>
  <p:transition spd="slow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78680" y="2354400"/>
            <a:ext cx="518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Lição 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33"/>
                </a:solidFill>
                <a:latin typeface="Century Gothic"/>
              </a:rPr>
              <a:t>QUANDO  HÁ  CORAGEM  E  AL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33"/>
                </a:solidFill>
                <a:latin typeface="Century Gothic"/>
              </a:rPr>
              <a:t>A  PROGRESSÃO  É  MA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33"/>
                </a:solidFill>
                <a:latin typeface="Century Gothic"/>
              </a:rPr>
              <a:t>UMA  PALAVRA  DE  ÂNIMO  DITA  A  TEMP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33"/>
                </a:solidFill>
                <a:latin typeface="Century Gothic"/>
              </a:rPr>
              <a:t>MOTIVA,  AJUDA,  DÁ  FOR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33"/>
                </a:solidFill>
                <a:latin typeface="Century Gothic"/>
              </a:rPr>
              <a:t>E  PRODUZ  O  MELHOR  DOS  BENEFÍ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532320" y="113364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1550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2008080" y="4648320"/>
            <a:ext cx="941400" cy="1000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3618000" y="1117440"/>
            <a:ext cx="43632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655720" y="1434960"/>
            <a:ext cx="43668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79480" y="1744560"/>
            <a:ext cx="43668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65080" y="3344760"/>
            <a:ext cx="43668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35240" y="4121280"/>
            <a:ext cx="436320" cy="16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89200" y="4954680"/>
            <a:ext cx="43632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Waker"/>
              </a:rPr>
              <a:t>grááá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Waker"/>
              <a:ea typeface="Wak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3532320" y="113364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008080" y="46483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1550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1550880" y="3809880"/>
            <a:ext cx="932040" cy="99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24440" y="3672000"/>
            <a:ext cx="56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QUANDO  UM  GANSO  ADOE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FICA  FERIDO  OU  ESTÁ  CANSAD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532320" y="113364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2008080" y="46483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3505320" y="5486400"/>
            <a:ext cx="93168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775320" y="6164280"/>
            <a:ext cx="50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E  TEM  DE  SAIR  DA  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666880" y="56386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3505320" y="5486400"/>
            <a:ext cx="931680" cy="990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370960" y="1897200"/>
            <a:ext cx="608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GO  OUTROS  SAEM  TAMBÉ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  ACOMPANHAM-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ARA  O  AJUDAR  E  PRO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PERMANECEM  COM  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ATÉ  QUE  SEJA  CAPAZ  DE  VOAR  NOVAMENT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OU  MO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NTÃO,  ALCANÇAM  NOVAMENTE  O  B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U  INTEGRAM-SE  NOUTRA  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532320" y="113364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2008080" y="46483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1550880" y="3809880"/>
            <a:ext cx="932040" cy="990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47840" y="2732040"/>
            <a:ext cx="418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Lição 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entury Gothic"/>
              </a:rPr>
              <a:t>APESAR  DAS  DIFERENÇ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ESTEJAMOS  UNIDOS  T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NOS  MOMENTOS  DIFÍC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COMO  NAS  HORAS  DE  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2952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151000" y="50292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124080" y="685800"/>
            <a:ext cx="932040" cy="99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151000" y="990720"/>
            <a:ext cx="932040" cy="99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46240" y="1676520"/>
            <a:ext cx="931680" cy="990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1465200" y="4191120"/>
            <a:ext cx="932040" cy="990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74840" y="2590920"/>
            <a:ext cx="931680" cy="990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1008000" y="3352680"/>
            <a:ext cx="932040" cy="990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861080" y="1270080"/>
            <a:ext cx="36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entury Gothic"/>
              </a:rPr>
              <a:t>SE  TORNARMOS  RE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entury Gothic"/>
              </a:rPr>
              <a:t>O  ESPÍRITO  DE  EQUIPA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39840" y="2313000"/>
            <a:ext cx="58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SE,  APESAR  DAS  DIFERENÇ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PUDERMOS  FORMAR  UM  GRUPO 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PARA  ENFRENTAR  TODO  O  TIPO  DE  SITUAÇÕES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4800" y="3403440"/>
            <a:ext cx="50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entury Gothic"/>
              </a:rPr>
              <a:t>SE  ENTENDER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entury Gothic"/>
              </a:rPr>
              <a:t>O  VERDADEIRO  VALOR  DA  AMIZAD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4267080"/>
            <a:ext cx="40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entury Gothic"/>
              </a:rPr>
              <a:t>SE  TIVERMOS  CONSCIÊNCIA  DO  SENTIMENTO  DE  PARTILHA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5300640"/>
            <a:ext cx="4496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  VIDA  SERÁ  MAIS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  O  VÔO  DOS  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ERÁ  MAIS  PRAZER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36960" y="32220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entury Gothic"/>
              </a:rPr>
              <a:t>SE  NOS  MANTIVERMOS UNIDOS,  APOIANDO-NOS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38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1817640"/>
            <a:ext cx="78976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entury Gothic"/>
              </a:rPr>
              <a:t>NA  PRÓXIMA  ÉPOC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entury Gothic"/>
              </a:rPr>
              <a:t>QUANDO  VIRES  OS  GANSOS  EMIGR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entury Gothic"/>
              </a:rPr>
              <a:t>DIRIGINDO-SE  A  UM  LUGAR  MAIS  Q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entury Gothic"/>
              </a:rPr>
              <a:t>PARA  PASSAR  O  INVER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entury Gothic"/>
              </a:rPr>
              <a:t>REPARA  QUE  VOAM  EM  FORMAÇÃO  COM  A  FORMA 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entury Gothic"/>
              </a:rPr>
              <a:t>“</a:t>
            </a:r>
            <a:r>
              <a:rPr b="1" lang="en-US" sz="60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lang="en-US" sz="4000" spc="-1" strike="noStrike">
                <a:solidFill>
                  <a:srgbClr val="0000ff"/>
                </a:solidFill>
                <a:latin typeface="Century Gothic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TALVEZ  TE  INTERESSE  SABER  PORQUE  O  FAZ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96480" y="939960"/>
            <a:ext cx="693828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entury Gothic"/>
              </a:rPr>
              <a:t>AMIGOS 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entury Gothic"/>
              </a:rPr>
              <a:t>SEJAM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ff"/>
                </a:solidFill>
                <a:latin typeface="Century Gothic"/>
              </a:rPr>
              <a:t>GANSOS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573160" y="2664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AO  VOAR  EM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“V”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8120" y="4572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4120" y="609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638680" y="4114800"/>
            <a:ext cx="94140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8" name="TECL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532320" y="113364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550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008080" y="4648320"/>
            <a:ext cx="941400" cy="100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96240" y="2933640"/>
            <a:ext cx="42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... TODO  O  BANDO  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EM  71 %,  O  ALCANCE  DE  V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entury Gothic"/>
              </a:rPr>
              <a:t>EM  RELAÇÃO  AO  DE  UM  PÁSSA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entury Gothic"/>
              </a:rPr>
              <a:t>QUE  VOE  SOZIN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851360" y="5165640"/>
            <a:ext cx="93204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9" name="TECL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532320" y="113364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550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008080" y="4648320"/>
            <a:ext cx="941400" cy="1000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06880" y="3551400"/>
            <a:ext cx="6496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Lição 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PARTILHAR  DA  MESMA  DIRECÇÃO  E  SENTIDO  DE  GRU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PERMITE  CHEGAR  MAIS  RÁPIDA  E  FACILMENTE  AO  DEST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PORQUE  SÓ  AJUDANDO-NOS  UNS  AOS  OU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OS  RESULTADOS  SÃO  MELH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2465280" y="5410080"/>
            <a:ext cx="93204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550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008080" y="46483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532320" y="1143000"/>
            <a:ext cx="9316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242040" y="2735280"/>
            <a:ext cx="932040" cy="99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32320" y="1143000"/>
            <a:ext cx="1371600" cy="1219320"/>
          </a:xfrm>
          <a:prstGeom prst="rect">
            <a:avLst/>
          </a:prstGeom>
          <a:solidFill>
            <a:srgbClr val="006598"/>
          </a:solidFill>
          <a:ln w="9360">
            <a:solidFill>
              <a:srgbClr val="006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8360" y="2419200"/>
            <a:ext cx="352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Gothic"/>
              </a:rPr>
              <a:t>QUANDO  UM  GA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Gothic"/>
              </a:rPr>
              <a:t>SAI  DA  FORMAÇÃ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550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008080" y="46483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494480" y="3030480"/>
            <a:ext cx="93204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46640" y="3651120"/>
            <a:ext cx="55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Gothic"/>
              </a:rPr>
              <a:t>SENTE  MAIOR  RESISTÊNCIA  DO  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Gothic"/>
              </a:rPr>
              <a:t>E  TEM  DIFICULDADE  EM  VOAR  SOZI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532320" y="113364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550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008080" y="46483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3532320" y="1143000"/>
            <a:ext cx="931680" cy="99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671640" y="1859040"/>
            <a:ext cx="450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Gothic"/>
              </a:rPr>
              <a:t>ENTÃO,  RAPIDAMENTE  REGRE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Gothic"/>
              </a:rPr>
              <a:t>À  FORMAÇÃO  PARA  APROVEI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Gothic"/>
              </a:rPr>
              <a:t>O  PODER  DE  ELE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Gothic"/>
              </a:rPr>
              <a:t>DOS  QUE  ESTÃO  À  SUA  F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03520" y="17524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17920" y="14479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532320" y="113364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066680" y="303840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1550880" y="380988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2008080" y="4648320"/>
            <a:ext cx="941400" cy="1000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3532320" y="1143000"/>
            <a:ext cx="931680" cy="990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70360" y="2249640"/>
            <a:ext cx="5859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Lição  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PERMANECENDO  EM  SINTONIA  E  UN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ÀQUELES  QUE  SE  DIRIGEM  NA  MESMA  DIRECÇÃ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O ESFORÇO  SERÁ 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SERÁ  MAIS  FÁCIL  E  AGRADÁVEL  ALCANÇAR  AS  ME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ESTAREMOS  DISP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33"/>
                </a:solidFill>
                <a:latin typeface="Century Gothic"/>
              </a:rPr>
              <a:t>A  ACEITAR  E  OFERECER  AJ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23:55:01Z</dcterms:created>
  <dc:creator>Sei lá...</dc:creator>
  <dc:description/>
  <dc:language>en-US</dc:language>
  <cp:lastModifiedBy>+</cp:lastModifiedBy>
  <cp:lastPrinted>2002-05-14T00:00:07Z</cp:lastPrinted>
  <dcterms:modified xsi:type="dcterms:W3CDTF">2009-02-10T15:21:04Z</dcterms:modified>
  <cp:revision>102</cp:revision>
  <dc:subject/>
  <dc:title>O Voo do Ganso</dc:title>
</cp:coreProperties>
</file>