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Aeoliah%20-%20Interlude.wav" ContentType="audio/x-wav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096-AC52-444C-8411-C83D2C5E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839-9463-46C3-883F-B033E45C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BCE-3778-48B2-A67C-A5188672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A50-19C4-4F18-935E-219B65AC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ACA-9F3A-4CCC-9494-85239CD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BDA-1E9E-4FBC-8293-1D3F3C10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4C6-B0DA-4B6D-A2CA-4BCCA3CD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C30-C21F-41F1-A07C-B7642BE0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249-D289-4889-BCC4-4BC79EA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9E5-69B8-4B67-B844-B014F547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CA8-6AAD-43A0-9F99-34935D9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E6A-F40C-4B55-B6ED-8F9398A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A5E7-4A8F-4AB4-A728-92E074C4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audio" Target="../media/Aeoliah%20-%20Interlude.wav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45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46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340000" y="234936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9165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e5ebf7">
                      <a:alpha val="50000"/>
                    </a:srgbClr>
                  </a:outerShdw>
                </a:effectLst>
                <a:latin typeface="Footlight MT Light"/>
              </a:rPr>
              <a:t>Nova Frequência</a:t>
            </a:r>
            <a:endParaRPr b="0" lang="en-US" sz="1800" spc="1" strike="noStrike">
              <a:ln w="3240">
                <a:solidFill>
                  <a:srgbClr val="09165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e5ebf7">
                    <a:alpha val="50000"/>
                  </a:srgbClr>
                </a:outerShdw>
              </a:effectLst>
              <a:latin typeface="Footlight MT Light"/>
              <a:ea typeface="Footlight MT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306864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91659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e5ebf7">
                      <a:alpha val="50000"/>
                    </a:srgbClr>
                  </a:outerShdw>
                </a:effectLst>
                <a:latin typeface="Footlight MT Light"/>
              </a:rPr>
              <a:t>O Grande Acordar</a:t>
            </a:r>
            <a:endParaRPr b="0" lang="en-US" sz="1800" spc="1" strike="noStrike">
              <a:ln w="3240">
                <a:solidFill>
                  <a:srgbClr val="091659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e5ebf7">
                    <a:alpha val="50000"/>
                  </a:srgbClr>
                </a:outerShdw>
              </a:effectLst>
              <a:latin typeface="Footlight MT Light"/>
              <a:ea typeface="Footlight MT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43280" y="4653000"/>
            <a:ext cx="360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91659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e5ebf7">
                      <a:alpha val="50000"/>
                    </a:srgbClr>
                  </a:outerShdw>
                </a:effectLst>
                <a:latin typeface="Footlight MT Light"/>
              </a:rPr>
              <a:t>Marlene Swetlishoff</a:t>
            </a:r>
            <a:endParaRPr b="0" lang="en-US" sz="1800" spc="1" strike="noStrike">
              <a:ln w="3240">
                <a:solidFill>
                  <a:srgbClr val="091659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e5ebf7">
                    <a:alpha val="50000"/>
                  </a:srgbClr>
                </a:outerShdw>
              </a:effectLst>
              <a:latin typeface="Footlight MT Light"/>
              <a:ea typeface="Footlight MT Light"/>
            </a:endParaRPr>
          </a:p>
        </p:txBody>
      </p:sp>
      <p:pic>
        <p:nvPicPr>
          <p:cNvPr id="50" name="GotasdeCrystal" descr=""/>
          <p:cNvPicPr/>
          <p:nvPr/>
        </p:nvPicPr>
        <p:blipFill>
          <a:blip r:embed="rId12"/>
          <a:stretch/>
        </p:blipFill>
        <p:spPr>
          <a:xfrm>
            <a:off x="3924360" y="6093000"/>
            <a:ext cx="1297080" cy="2221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sh dir="u"/>
    <p:sndAc>
      <p:stSnd>
        <p:snd r:embed="rId13" name="Aeoliah%20-%20Interlu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110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11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349360"/>
            <a:ext cx="9144000" cy="38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Quando nós repetimos um desejo mais de uma ve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é criada uma onda de frequê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que se move para fora da atmosfera em volta da Ter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criando uma mudança positiv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por que o Universo está voltado para o seu cres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 está trabalhando para o despertar das consciê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stão por terminar os dias de l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 de aprendizado com sofrimento e infortú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pois o novo caminho será trilhado através da Gra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push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38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63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5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3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74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189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48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86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18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119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2133720"/>
            <a:ext cx="9144000" cy="412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Haverá grandes, abundantes e fel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saltos na sua consciê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uma vez que se torne completamente estabel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o plano Divino sobre a T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Você é um dos precursores desta nova frequênc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Atenda os pedidos superi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para se mover para esta consciê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 se tornar o desbravador desses novos camin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push dir="u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1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2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92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15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5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779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908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124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25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126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421000"/>
            <a:ext cx="9144000" cy="37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ara se realizar qualquer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dos seus mais profundos dese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não é mais necessário que seu pe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eja feito de maneira sofrida e dolo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Faça-o através de um aprendizado alegre e cheio de praz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com um crescimento na explor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de todas as novas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acreditando na ânsia do Universo para realizar seu ped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push dir="u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23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49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78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1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6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787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11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31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133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3573360"/>
            <a:ext cx="9144000" cy="245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rocure, que você encontra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eça, que será atend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Deseje, Mentali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que seu pedido se materializa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É o Universo ao seu disp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u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25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45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61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88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138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39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140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2720" y="5084640"/>
            <a:ext cx="52624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edcf2"/>
                </a:solidFill>
                <a:latin typeface="Arial"/>
              </a:rPr>
              <a:t>Música Reiki do CD CELE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dcf2"/>
                </a:solidFill>
                <a:latin typeface="Arial"/>
              </a:rPr>
              <a:t>Aeoliah - Inter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endshow"/>
          </p:cNvPr>
          <p:cNvSpPr/>
          <p:nvPr/>
        </p:nvSpPr>
        <p:spPr>
          <a:xfrm>
            <a:off x="4788000" y="371628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24043" y="10800"/>
                </a:moveTo>
                <a:lnTo>
                  <a:pt x="13537" y="17806"/>
                </a:lnTo>
                <a:lnTo>
                  <a:pt x="13537" y="3794"/>
                </a:lnTo>
                <a:close/>
              </a:path>
              <a:path fill="darken" w="41087" h="21600">
                <a:moveTo>
                  <a:pt x="25888" y="3794"/>
                </a:moveTo>
                <a:lnTo>
                  <a:pt x="25888" y="17806"/>
                </a:lnTo>
                <a:lnTo>
                  <a:pt x="27550" y="17806"/>
                </a:lnTo>
                <a:lnTo>
                  <a:pt x="27550" y="3794"/>
                </a:lnTo>
                <a:close/>
              </a:path>
            </a:pathLst>
          </a:custGeom>
          <a:solidFill>
            <a:srgbClr val="091659">
              <a:alpha val="60000"/>
            </a:srgbClr>
          </a:solidFill>
          <a:ln w="3240">
            <a:solidFill>
              <a:srgbClr val="cedc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3780000" y="371628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13537" y="10800"/>
                </a:moveTo>
                <a:lnTo>
                  <a:pt x="27550" y="3794"/>
                </a:lnTo>
                <a:lnTo>
                  <a:pt x="27550" y="17806"/>
                </a:lnTo>
                <a:close/>
              </a:path>
            </a:pathLst>
          </a:custGeom>
          <a:solidFill>
            <a:srgbClr val="091659">
              <a:alpha val="60000"/>
            </a:srgbClr>
          </a:solidFill>
          <a:ln w="3240">
            <a:solidFill>
              <a:srgbClr val="cedc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421000"/>
            <a:ext cx="2743200" cy="733320"/>
          </a:xfrm>
          <a:prstGeom prst="rect">
            <a:avLst/>
          </a:prstGeom>
          <a:solidFill>
            <a:srgbClr val="091659">
              <a:alpha val="60000"/>
            </a:srgbClr>
          </a:solidFill>
          <a:ln w="28440">
            <a:solidFill>
              <a:srgbClr val="cedc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edcf2"/>
                </a:solidFill>
                <a:uFillTx/>
                <a:latin typeface="Arial Unicode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edcf2"/>
                </a:solidFill>
                <a:uFillTx/>
                <a:latin typeface="Arial Unicode MS"/>
              </a:rPr>
              <a:t>para adquirir C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edcf2"/>
                </a:solidFill>
                <a:uFillTx/>
                <a:latin typeface="Arial Unicode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1268280"/>
            <a:ext cx="2743200" cy="733320"/>
          </a:xfrm>
          <a:prstGeom prst="rect">
            <a:avLst/>
          </a:prstGeom>
          <a:solidFill>
            <a:srgbClr val="091659">
              <a:alpha val="60000"/>
            </a:srgbClr>
          </a:solidFill>
          <a:ln w="28440">
            <a:solidFill>
              <a:srgbClr val="cedc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edcf2"/>
                </a:solidFill>
                <a:uFillTx/>
                <a:latin typeface="Arial Unicode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edcf2"/>
                </a:solidFill>
                <a:uFillTx/>
                <a:latin typeface="Arial Unicode MS"/>
              </a:rPr>
              <a:t>Receba novos 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edcf2"/>
                </a:solidFill>
                <a:uFillTx/>
                <a:latin typeface="Arial Unicode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otasdeCrystal" descr=""/>
          <p:cNvPicPr/>
          <p:nvPr/>
        </p:nvPicPr>
        <p:blipFill>
          <a:blip r:embed="rId6"/>
          <a:stretch/>
        </p:blipFill>
        <p:spPr>
          <a:xfrm>
            <a:off x="3708360" y="4437000"/>
            <a:ext cx="1800360" cy="308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54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55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56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060640"/>
            <a:ext cx="9144000" cy="412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você que esteve  trabalh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por um longo período de tem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com as novas frequências e energ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Vem descobrindo que está bem mais à f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que seus irmãos e irmãs que ainda estão dormi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Assim, a partir daí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stá achando difícil se relacion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 interagir com e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por qualquer período de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3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46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25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9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99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65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44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11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62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63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916280"/>
            <a:ext cx="9144000" cy="423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Você está achando que a inter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- com aqueles que ainda permanec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nas frequências inferiores dos não desperto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é um exercício doloroso de transm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no processamento dessas energi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pois eles tiram a sua Luz  e suas energias sup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Isso faz parte da sua tarefa no dia a dia sobre a Ter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Sempre foi ass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através das suas Jornadas nesse perí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5ebf7"/>
                </a:solidFill>
                <a:latin typeface="Copperplate Gothic Light"/>
              </a:rPr>
              <a:t>e em outros períodos de tempo que você viveu sobre a T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7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5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94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27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6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99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42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55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88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68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69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70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557360"/>
            <a:ext cx="9144000" cy="454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Você é o ser que veio voluntariam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abendo de tudo muito b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de como iria ser difícil a sua tarefa de viver sobre a Ter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através dos véus de esquec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você tem a grande Chama do Am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iluminando no interior de seu c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é essa Luz que tem mantido você à fr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empre mostrando as pegadas de Luz pelo caminh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ara iluminar a caminhada daqueles que necessit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seguindo suas pegadas, eles serão os novos desper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push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1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2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1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29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3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84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17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57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5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6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77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907920"/>
            <a:ext cx="9144000" cy="54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Nesse ano que está chega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milhões de pessoas começarão a desper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ara o conhecimento e consci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dos seus potenciais sup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É o seu trabalho e sacrifíc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que tem feito esse Despertar ser muito mais fá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à medida que isso aconte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a Luz que você tem sustentado por um longo, longo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irá começar a crescer de modo expon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no passar de cada um dos 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Quanto mais Luz começa a brilhar sobre a Ter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tanto mais pessoas irão Acor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push dir="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3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7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85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12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35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75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98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42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76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99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37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82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83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84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133720"/>
            <a:ext cx="9144000" cy="412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Você poderá chamar 2010 de </a:t>
            </a:r>
            <a:r>
              <a:rPr b="1" lang="en-US" sz="1800" spc="-1" strike="noStrike" u="sng">
                <a:solidFill>
                  <a:srgbClr val="e5ebf7"/>
                </a:solidFill>
                <a:uFillTx/>
                <a:latin typeface="Copperplate Gothic Light"/>
              </a:rPr>
              <a:t>o ano do Grande Acordar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sse Acordar irá se tornar cada vez mais perceptí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nos próximos dias, semanas e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As dificuldades existiram tanto para você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como para os Pioneiros dos Caminhos d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ob esse aspecto, saiba que os seus esfor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stão agora começando a frutif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você verá isso em todas os momentos da sua vida di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push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1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84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13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49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84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2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49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89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90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91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268280"/>
            <a:ext cx="9144000" cy="50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Muito do que está acontecendo nos bastid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irá começar a se abrir e apare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Isso, irá criar um movimento de mudança sobre a face do Plan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que irá atingir a terra em todo o seu comprimento e larg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m cada canto deste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Mudança é o nome do jogo de 20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xistem muitos acontecimentos para você se entusias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Há muito mais para você aprender e rea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É necessário que você esteja muito bem cons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de tudo o que fez antes,  nos tempos ant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Um relembrar muito vívido iluminará a sua memó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push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8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65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17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65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6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109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59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95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236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74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H="1"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3d4a8">
                  <a:alpha val="54117"/>
                </a:srgbClr>
              </a:gs>
              <a:gs pos="100000">
                <a:srgbClr val="005cbf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05000"/>
          </a:xfrm>
          <a:prstGeom prst="rect">
            <a:avLst/>
          </a:prstGeom>
          <a:ln w="0">
            <a:noFill/>
          </a:ln>
        </p:spPr>
      </p:pic>
      <p:pic>
        <p:nvPicPr>
          <p:cNvPr id="96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97" name="slide0004_image006" descr=""/>
          <p:cNvPicPr/>
          <p:nvPr/>
        </p:nvPicPr>
        <p:blipFill>
          <a:blip r:embed="rId4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Estrela (192)" descr=""/>
          <p:cNvPicPr/>
          <p:nvPr/>
        </p:nvPicPr>
        <p:blipFill>
          <a:blip r:embed="rId5"/>
          <a:stretch/>
        </p:blipFill>
        <p:spPr>
          <a:xfrm flipH="1" rot="6600">
            <a:off x="3671640" y="765000"/>
            <a:ext cx="5472000" cy="935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413000"/>
            <a:ext cx="9144000" cy="49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O Momentum da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foi construído em grandes ondas sobre a T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está agora se fundindo com as grandes Energias Cósm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que estão inundando cada partícula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obre a Terra e no interior da T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Confiem nesse processo e acredite verdadeir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empre que você encontrar a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m seu interior  e à sua vo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Não deixe de orar e ped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ois essa é uma Lei 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push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3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97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32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61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39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31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54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74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04640"/>
            <a:ext cx="9144000" cy="5977080"/>
          </a:xfrm>
          <a:prstGeom prst="rect">
            <a:avLst/>
          </a:prstGeom>
          <a:gradFill rotWithShape="0">
            <a:gsLst>
              <a:gs pos="0">
                <a:srgbClr val="005cbf">
                  <a:alpha val="54117"/>
                </a:srgbClr>
              </a:gs>
              <a:gs pos="100000">
                <a:srgbClr val="03d4a8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rystal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03" name="Crystal" descr=""/>
          <p:cNvPicPr/>
          <p:nvPr/>
        </p:nvPicPr>
        <p:blipFill>
          <a:blip r:embed="rId3"/>
          <a:stretch/>
        </p:blipFill>
        <p:spPr>
          <a:xfrm>
            <a:off x="0" y="6381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104" name="Estrela (192)" descr=""/>
          <p:cNvPicPr/>
          <p:nvPr/>
        </p:nvPicPr>
        <p:blipFill>
          <a:blip r:embed="rId4"/>
          <a:stretch/>
        </p:blipFill>
        <p:spPr>
          <a:xfrm rot="6000">
            <a:off x="0" y="836640"/>
            <a:ext cx="5364000" cy="915840"/>
          </a:xfrm>
          <a:prstGeom prst="rect">
            <a:avLst/>
          </a:prstGeom>
          <a:ln w="0">
            <a:noFill/>
          </a:ln>
        </p:spPr>
      </p:pic>
      <p:pic>
        <p:nvPicPr>
          <p:cNvPr id="105" name="slide0004_image006" descr=""/>
          <p:cNvPicPr/>
          <p:nvPr/>
        </p:nvPicPr>
        <p:blipFill>
          <a:blip r:embed="rId5"/>
          <a:stretch/>
        </p:blipFill>
        <p:spPr>
          <a:xfrm>
            <a:off x="4067280" y="0"/>
            <a:ext cx="973080" cy="836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700280"/>
            <a:ext cx="9144000" cy="46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23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Se você pudesse ver clara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a grandeza das Forças de Luz que estão ao seu red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staria dançando por todo o seu cami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através do seu processo de Ascensã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os saltos e as uniões que você está faz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para as suas jornada do relemb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stão muito perto da sua meta, do seu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Continue suas atividades para o bem maior de to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e com o seu trabalho diário com os Seres de Luz e energ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Os seus desejos e afirmações tem um alcance ma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 </a:t>
            </a:r>
            <a:r>
              <a:rPr b="1" lang="en-US" sz="1800" spc="-1" strike="noStrike">
                <a:solidFill>
                  <a:srgbClr val="e5ebf7"/>
                </a:solidFill>
                <a:latin typeface="Copperplate Gothic Light"/>
              </a:rPr>
              <a:t>do que você sequer imagina neste momentum de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4000">
    <p:push dir="u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5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66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98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28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62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89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22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63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209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49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2:30:03Z</dcterms:created>
  <dc:creator>GotasdeCrystal@gmail.com - Crystais@pop.com.br</dc:creator>
  <dc:description/>
  <dc:language>en-US</dc:language>
  <cp:lastModifiedBy>GotasdeCrystal</cp:lastModifiedBy>
  <dcterms:modified xsi:type="dcterms:W3CDTF">2010-01-04T01:33:43Z</dcterms:modified>
  <cp:revision>62</cp:revision>
  <dc:subject>GotasdeCrystal@gmail.com - Crystais@pop.com.br</dc:subject>
  <dc:title>GotasdeCrystal@gmail.com - Crystais@pop.com.br</dc:title>
</cp:coreProperties>
</file>