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sound025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F122-2554-43E5-B785-33D2DA01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8172-C47D-4ADA-8869-EBD7E63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257B-280A-40DA-B060-7ED0C481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BD1F-A320-4A54-B10B-CF0A2F25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04A1-0485-4121-AC19-CB8894E3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773-CCA1-4153-AE08-CD19CE0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4E2-FF1C-46DB-8966-85CC0241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674D-1379-4928-B06A-CD95220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3062-B298-47B1-A9EF-013EC5E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FEC2-D242-494E-A6A5-F41CC7E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7385-B84B-4841-84C2-05D1845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61A0-E681-42EC-A50F-15517A8D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21B6-C100-43E5-8840-AF75DF5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1FD-10A5-4AC7-A55E-D6D60DBC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DB4-9731-4EF7-841E-DC10DA82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6E8-C8D4-42A6-95F5-2CF4524D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AB2F-B28C-449C-848E-4FC43C01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92FC-16A3-4C1B-899D-B4EC000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15D5-5BED-4E8B-A8A4-2FC5B70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9A1A-3C2E-41A8-887F-7FB343E1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60C3-47AE-419B-8F7A-039A670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EFC9-6053-4734-A392-7814250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52B5-AC9D-4CC7-8D3F-A96074F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B029-4B26-4CCD-86A3-F9BF3B2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31CA-FC69-4BF7-8AD6-0C9D31C93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9251-DD33-4E4C-8810-B663146EE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25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menele@superig.com.br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Sunr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Garamond"/>
              </a:rPr>
              <a:t>O PODER</a:t>
            </a:r>
            <a:br>
              <a:rPr sz="7200"/>
            </a:br>
            <a:r>
              <a:rPr b="1" lang="en-US" sz="7200" spc="-1" strike="noStrike">
                <a:solidFill>
                  <a:srgbClr val="66ffff"/>
                </a:solidFill>
                <a:latin typeface="Garamond"/>
              </a:rPr>
              <a:t>DA LÍNGUA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Garamond"/>
              </a:rPr>
              <a:t>Clicar para passagem de slides / ligar o s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  <p:sndAc>
      <p:stSnd>
        <p:snd r:embed="rId2" name="sound02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hallstatt (austria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O pecado da língua é tão sério que ocupa todo o capítulo 3  e parte do capítulo 4 da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epístola de Tiago, no Novo Testamento. 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A Bíblia nos ensina que “os lábios do justo apascentam a muitos, mas por falta de senso, morrem os tolos” (Provérbios 10:2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hallstatt (austria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Jesus, censurando os fariseus, disse-lhes que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“a boca fala do que está cheio o coração” (Mateus 12:34), e advertiu: “Digo-vos que de toda palavra frívola que proferirem os homens, dela darão conta no dia do juízo; porque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pelas tuas palavras serás 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justificado e pela tuas palavras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serás condenado” (Mateus 12:36-37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hallstatt (austria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O piloto de um navio dirige-o para qualquer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direção controlando um pequeno leme. Da mesma forma um cavalo é dirigido 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por nós quando lhe pomos freios na boca.</a:t>
            </a: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Entardec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ffff"/>
                </a:solidFill>
                <a:latin typeface="Garamond"/>
              </a:rPr>
              <a:t>Sejamos vigilantes sobre o uso da língua, e,</a:t>
            </a:r>
            <a:br>
              <a:rPr sz="3200"/>
            </a:br>
            <a:r>
              <a:rPr b="1" i="1" lang="pt-BR" sz="3200" spc="-1" strike="noStrike">
                <a:solidFill>
                  <a:srgbClr val="66ffff"/>
                </a:solidFill>
                <a:latin typeface="Garamond"/>
              </a:rPr>
              <a:t>“deixando a mentira, fale cada um </a:t>
            </a:r>
            <a:br>
              <a:rPr sz="3200"/>
            </a:br>
            <a:r>
              <a:rPr b="1" i="1" lang="pt-BR" sz="3200" spc="-1" strike="noStrike">
                <a:solidFill>
                  <a:srgbClr val="66ffff"/>
                </a:solidFill>
                <a:latin typeface="Garamond"/>
              </a:rPr>
              <a:t>a verdade com o seu próximo, porque somos</a:t>
            </a:r>
            <a:br>
              <a:rPr sz="3200"/>
            </a:br>
            <a:r>
              <a:rPr b="1" i="1" lang="pt-BR" sz="3200" spc="-1" strike="noStrike">
                <a:solidFill>
                  <a:srgbClr val="66ffff"/>
                </a:solidFill>
                <a:latin typeface="Garamond"/>
              </a:rPr>
              <a:t>membros uns dos outros” (Efésios</a:t>
            </a:r>
            <a:br>
              <a:rPr sz="3200"/>
            </a:br>
            <a:r>
              <a:rPr b="1" i="1" lang="pt-BR" sz="3200" spc="-1" strike="noStrike">
                <a:solidFill>
                  <a:srgbClr val="66ffff"/>
                </a:solidFill>
                <a:latin typeface="Garamond"/>
              </a:rPr>
              <a:t>4:25)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Entardec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Que possamos usar nossa língua para dizer o quanto amamos nossos entes queridos 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e amigos; para perdoar a quem nos ofende, para pedir perdão a quem ofendemos, para oferecer ajuda ao necessitado, para elogiar, para ensinar, para proclamar a paz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para repelir a guerra, as fofocas, as intrigas, a inveja, a maledicência.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Rocky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ff"/>
                </a:solidFill>
                <a:latin typeface="Garamond"/>
              </a:rPr>
              <a:t>Que nossos lábios </a:t>
            </a:r>
            <a:br>
              <a:rPr sz="6000"/>
            </a:br>
            <a:r>
              <a:rPr b="1" i="1" lang="en-US" sz="6000" spc="-1" strike="noStrike">
                <a:solidFill>
                  <a:srgbClr val="66ffff"/>
                </a:solidFill>
                <a:latin typeface="Garamond"/>
              </a:rPr>
              <a:t>louvem, sempre,</a:t>
            </a:r>
            <a:br>
              <a:rPr sz="6000"/>
            </a:br>
            <a:r>
              <a:rPr b="1" i="1" lang="en-US" sz="6000" spc="-1" strike="noStrike">
                <a:solidFill>
                  <a:srgbClr val="66ffff"/>
                </a:solidFill>
                <a:latin typeface="Garamond"/>
              </a:rPr>
              <a:t>ao nosso Deus 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Voa Comigo Esta Tar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3715920"/>
            <a:ext cx="8229600" cy="22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Garamond"/>
              </a:rPr>
              <a:t>Créditos: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Garamond"/>
              </a:rPr>
              <a:t>texto e montagem de slides: Manoel Nerivaldo Lopes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Garamond"/>
              </a:rPr>
              <a:t>e-mail: </a:t>
            </a:r>
            <a:r>
              <a:rPr b="1" lang="pt-BR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menele@superig.com.br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Garamond"/>
              </a:rPr>
              <a:t>imagens: olhares.com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Garamond"/>
              </a:rPr>
              <a:t>data; 24.05.2006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Sunr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Conta-se que certa vez um mercador grego, rico, ofereceu um banquete com comidas especiais. Chamou seu escravo e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ordenou-lhe que fosse ao mercado comprar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a melhor iguari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Sunr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O escravo retornou com belo prato. O mercador removeu o pano e  assustado disse: 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-Língua ?!! Este é o prato mais delicioso ?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O escravo, sem levantar a cabeça, respondeu: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- A língua é o prato mais delicioso, sim senhor. É com a língua que pedimos água..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Luz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...dizemos “mamãe”, fazemos amigos, perdoamos. Com a língua reunimos pessoas, dizemos “meu Deus”, oramos, cantamos, dizemos “eu te amo”..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Luz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O mercador, não muito convencido, quis testar a sabedoria de seu escravo, e o mandou de volta ao mercado, desta vez para trazer o pior alimento. O escravo voltou com um lindo prato, coberto por fino tecido. O mercador, ansioso, retirou o pano para conhecer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o pior aliment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Luz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-Língua, outra vez?!!, disse, espantado.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-Sim, língua, respondeu o escravo. É com a língua que condenamos, separamos, provocamos intrigas e ciúmes, blasfemamos. 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É com ela que expulsamos, isolamos, enganamos nosso irmão, xingamos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Garamond"/>
              </a:rPr>
              <a:t>pai e mãe..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Parqu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Não há nada pior que a língua; não há nada melhor que a língua. Depende do modo 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que a usamos.</a:t>
            </a: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Parqu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Muitos males têm sido causados por uma só palavra ou frase proferida . Diz um ditado que “falar é prata, calar é ouro”. Palavras ferem, matam, magoam, semeiam dúvidas, fazem pecar, geram ódio...e muitas vezes quem diz o que quer, ouve o que não quer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Parqu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Uma palavra, uma frase, podem doer mais que a dor física. A dor física pode cessar com um medicamento, mas a dor provocada por uma palavra ou frase, muitas vezes nem o tempo apaga, e, quando apagada, costuma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Garamond"/>
              </a:rPr>
              <a:t>deixar cicatrize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1:10:00Z</dcterms:created>
  <dc:creator>manoel nerivaldo</dc:creator>
  <dc:description/>
  <dc:language>en-US</dc:language>
  <cp:lastModifiedBy>manoel nerivaldo</cp:lastModifiedBy>
  <dcterms:modified xsi:type="dcterms:W3CDTF">2006-05-24T19:21:08Z</dcterms:modified>
  <cp:revision>5</cp:revision>
  <dc:subject/>
  <dc:title>O PODER DA LÍNGUA</dc:title>
</cp:coreProperties>
</file>