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m%20c%20Floyd_Cramer__Sunrise_Serenade_-1.06_cut.wav" ContentType="audio/x-wav"/>
  <Override PartName="/ppt/media/image6.png" ContentType="image/pn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A0B-0E27-4616-BBE2-F1E30E18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4D1-4A90-419A-AA98-D7F0DAE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0F7-4764-4160-B724-84C7D78A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32B-30E8-46E3-910D-001BB4C9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E0B-E4B1-4D84-828B-888D1BF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9FF-58EA-47DA-887F-5F1B523D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4A4-C978-4D98-9791-4509F875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CFB-6BC9-4AE4-87F5-4F480052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460-5E13-4550-AA80-3863597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2F7-33D9-4AAA-9559-F3C0113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393-1A22-4BC2-B442-1F0430A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BB1-963C-4C6A-8EA4-625F74D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FFFB-7C17-471C-A1F4-D9E74340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audio" Target="../media/m%20c%20Floyd_Cramer__Sunrise_Serenade_-1.06_cut.wav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hyperlink" Target="mailto:airlepper@hotmail.com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incredimail.com/index.asp?lang=22&amp;version=5312750&amp;setup_id=22000002&amp;aff_id=101&amp;addon=IncrediMail&amp;id=95202&amp;guid=A20BE568-6EF4-4CB9-B30B-5E7542FD4879" TargetMode="External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63640" y="981000"/>
            <a:ext cx="56577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O PEQUENO PRÍNCIPE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outra estória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 rot="862200">
            <a:off x="4284720" y="3213000"/>
            <a:ext cx="3995640" cy="250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9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0"/>
          <a:stretch/>
        </p:blipFill>
        <p:spPr>
          <a:xfrm rot="20781000">
            <a:off x="826560" y="285264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11" name="m%20c%20Floyd_Cramer__Sunrise_Serenade_-1.06_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sse estado de batimentos desordenados é chamado de "incoerência cardíaca" e está ligado a doença cardíaca, envelhecimento precoce, câncer e morte prematura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 Em estados de amor ou gratidão, nosso batimento cardíaco torna-se "coerente". Isso diminui a secreção dos hormônios do estresse, reduz a depressão, hipertensão e insônia, melhora o sistema imune e aumenta a clareza 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ssa é uma das razões pelas quais tem sido provado que as emoções positivas estão associadas à boa saúde física e mental - e à longevidade. Essa irradiação coerente do coração - essa "chama" de genuína afeição - pode afetar pessoas a uma distância de até 5 metro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Logo, na próxima vez em que você estiver numa situação difícil, respire profundamente, lembre-se de St. Exupéry e do Pequeno Príncipe e irradie a energia de seu coração.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omo o Pequeno Príncipe nos lembrou,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"somente com o coração podemos ver com clareza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0800000">
            <a:off x="826560" y="549000"/>
            <a:ext cx="750276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162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 rot="611400">
            <a:off x="1907640" y="1483920"/>
            <a:ext cx="1905120" cy="261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851280" y="2060640"/>
            <a:ext cx="396072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RÉDITOS</a:t>
            </a:r>
            <a:br>
              <a:rPr sz="2000"/>
            </a:br>
            <a:br>
              <a:rPr sz="20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Autora : Susan Andrews</a:t>
            </a: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Imagens : Internet</a:t>
            </a: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Texto enviado por : Paulla Andréia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Formatado por:</a:t>
            </a: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Angelica Lepper</a:t>
            </a:r>
            <a:br>
              <a:rPr sz="1600"/>
            </a:b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airlepper@hotmail.com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Música:</a:t>
            </a: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Sunrise Serenade</a:t>
            </a:r>
            <a:br>
              <a:rPr sz="1600"/>
            </a:br>
            <a:r>
              <a:rPr b="1" i="1" lang="pt-BR" sz="1600" spc="-1" strike="noStrike">
                <a:solidFill>
                  <a:srgbClr val="ffffff"/>
                </a:solidFill>
                <a:latin typeface="Comic Sans MS"/>
              </a:rPr>
              <a:t>Floyd Cr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 rot="20809200">
            <a:off x="2916360" y="4076280"/>
            <a:ext cx="108900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8" name="" descr="non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7640" y="6308640"/>
            <a:ext cx="365040" cy="18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174920" cy="583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63640" y="981000"/>
            <a:ext cx="56577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O PEQUENO PRÍNCIPE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outra estória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692360" y="2637000"/>
            <a:ext cx="5344920" cy="33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360" y="747720"/>
            <a:ext cx="7448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476360" y="3860640"/>
            <a:ext cx="5975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VOCÊ LEMBRA DAQUELA TOCANTE HISTÓRIA DO LIVRO: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O PEQUENO PRÍNCIPE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635280" y="134136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476360" y="3428640"/>
            <a:ext cx="619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Bom, existe uma história mais tocante ainda que aconteceu de fato com o criador do Pequeno Príncipe, o escritor francês Antoine de St. Exupéry. Poucas pessoas sabem que ele lutou na Guerra Civil Espanhola, quando foi capturado pelo inimigo e levado ao cárcere para ser executado no dia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547640" y="3357360"/>
            <a:ext cx="619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ervoso, ele procurou em sua bolsa um cigarro, e achou um, mas suas mãos estavam tremendo tanto que ele não podia nem mesmo levá-lo à boca. Procurou fósforos, mas não tinha, porque os soldados os haviam tirado. Ele olhou então para o carcereiro e disse: "Por favor, usted tiene fosforo?". O carcereiro olhou para ele e chegou perto para acender seu cigarro. Naquela fração de segundo, seus olhos se encontraram e St. Exupéry sor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187280" y="3357360"/>
            <a:ext cx="68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pois ele disse que não sabia por que sorriu,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pode ser que quando se chega perto de outro ser humano seja difícil não sorrir. Naquele instante, uma chama pulou no espaço entre o coração dos dois homens e gerou um sorriso no rosto do carcereiro também. Ele acendeu o cigarro de St. Exupéry e ficou perto, olhando diretamente em seus olhos, e continuou sorrindo. St. Exupéry também continuou sorrindo para ele, vendo-o agora como pessoa, e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como carcer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403280" y="335736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ece que o carcereiro também começou a olhar St. Exupéry como pessoa, porque lhe perguntou: "Você tem filhos?". "Sim", St. Exupéry respondeu, e tirou da bolsa as fotos deles. O carcereiro mostrou fotos de seus filhos também, e contou todos os seus planos e esperanças para o futuro deles. Os olhos de St. Exupéry se encheram de lágrimas quando disse que não tinha mais planos, porque ele jamais os veria de no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s olhos do carcereiro se encheram de lágrimas também. E, de repente, sem nenhuma palavra, ele abriu a cela e guiou St. Exupéry para fora do cárcere e, através das sinuosas ruas, para fora da cidade, e o libertou. Sem nenhuma palavra, o carcereiro deu meia-volta e retornou por onde veio.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t. Exupéry disse: "Minha vida foi salva por um sorriso do coração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 que foi aquela "chama" que pulou entre o coração desses dois homens? Isso tem sido tema de intensa pesquisa atualmente, na medida em que os cientistas estão se dando conta de que o coração não é meramente uma bomba mecânica, mas um sofisticado sistema para receber e processar informações. De fato, o coração envia mais mensagens ao cérebro que o cérebro envia ao coraçã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48000" cy="5832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959280" cy="583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88620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6453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usan Andrews                                   Susan Andr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747720"/>
            <a:ext cx="7502400" cy="5711760"/>
          </a:xfrm>
          <a:custGeom>
            <a:avLst/>
            <a:gdLst/>
            <a:ahLst/>
            <a:rect l="l" t="t" r="r" b="b"/>
            <a:pathLst>
              <a:path w="4692" h="3598">
                <a:moveTo>
                  <a:pt x="2936" y="366"/>
                </a:moveTo>
                <a:cubicBezTo>
                  <a:pt x="2931" y="352"/>
                  <a:pt x="2926" y="338"/>
                  <a:pt x="2922" y="324"/>
                </a:cubicBezTo>
                <a:cubicBezTo>
                  <a:pt x="2917" y="306"/>
                  <a:pt x="2923" y="282"/>
                  <a:pt x="2909" y="270"/>
                </a:cubicBezTo>
                <a:cubicBezTo>
                  <a:pt x="2887" y="251"/>
                  <a:pt x="2826" y="242"/>
                  <a:pt x="2826" y="242"/>
                </a:cubicBezTo>
                <a:cubicBezTo>
                  <a:pt x="2574" y="260"/>
                  <a:pt x="2699" y="247"/>
                  <a:pt x="2552" y="297"/>
                </a:cubicBezTo>
                <a:cubicBezTo>
                  <a:pt x="2538" y="288"/>
                  <a:pt x="2521" y="283"/>
                  <a:pt x="2511" y="270"/>
                </a:cubicBezTo>
                <a:cubicBezTo>
                  <a:pt x="2436" y="175"/>
                  <a:pt x="2572" y="277"/>
                  <a:pt x="2456" y="201"/>
                </a:cubicBezTo>
                <a:cubicBezTo>
                  <a:pt x="2419" y="144"/>
                  <a:pt x="2384" y="113"/>
                  <a:pt x="2319" y="91"/>
                </a:cubicBezTo>
                <a:cubicBezTo>
                  <a:pt x="2267" y="39"/>
                  <a:pt x="2248" y="44"/>
                  <a:pt x="2182" y="23"/>
                </a:cubicBezTo>
                <a:cubicBezTo>
                  <a:pt x="2091" y="29"/>
                  <a:pt x="1960" y="60"/>
                  <a:pt x="1866" y="36"/>
                </a:cubicBezTo>
                <a:cubicBezTo>
                  <a:pt x="1852" y="27"/>
                  <a:pt x="1841" y="10"/>
                  <a:pt x="1825" y="9"/>
                </a:cubicBezTo>
                <a:cubicBezTo>
                  <a:pt x="1576" y="0"/>
                  <a:pt x="1273" y="64"/>
                  <a:pt x="1030" y="91"/>
                </a:cubicBezTo>
                <a:cubicBezTo>
                  <a:pt x="946" y="112"/>
                  <a:pt x="911" y="151"/>
                  <a:pt x="838" y="187"/>
                </a:cubicBezTo>
                <a:cubicBezTo>
                  <a:pt x="725" y="300"/>
                  <a:pt x="584" y="396"/>
                  <a:pt x="495" y="530"/>
                </a:cubicBezTo>
                <a:cubicBezTo>
                  <a:pt x="481" y="628"/>
                  <a:pt x="458" y="724"/>
                  <a:pt x="426" y="818"/>
                </a:cubicBezTo>
                <a:cubicBezTo>
                  <a:pt x="431" y="900"/>
                  <a:pt x="422" y="985"/>
                  <a:pt x="440" y="1065"/>
                </a:cubicBezTo>
                <a:cubicBezTo>
                  <a:pt x="446" y="1090"/>
                  <a:pt x="477" y="1102"/>
                  <a:pt x="495" y="1120"/>
                </a:cubicBezTo>
                <a:cubicBezTo>
                  <a:pt x="509" y="1134"/>
                  <a:pt x="536" y="1161"/>
                  <a:pt x="536" y="1161"/>
                </a:cubicBezTo>
                <a:cubicBezTo>
                  <a:pt x="566" y="1250"/>
                  <a:pt x="559" y="1343"/>
                  <a:pt x="481" y="1394"/>
                </a:cubicBezTo>
                <a:cubicBezTo>
                  <a:pt x="456" y="1432"/>
                  <a:pt x="431" y="1477"/>
                  <a:pt x="413" y="1518"/>
                </a:cubicBezTo>
                <a:cubicBezTo>
                  <a:pt x="385" y="1581"/>
                  <a:pt x="391" y="1623"/>
                  <a:pt x="344" y="1668"/>
                </a:cubicBezTo>
                <a:cubicBezTo>
                  <a:pt x="319" y="1731"/>
                  <a:pt x="297" y="1813"/>
                  <a:pt x="248" y="1860"/>
                </a:cubicBezTo>
                <a:cubicBezTo>
                  <a:pt x="231" y="1912"/>
                  <a:pt x="218" y="1958"/>
                  <a:pt x="180" y="1998"/>
                </a:cubicBezTo>
                <a:cubicBezTo>
                  <a:pt x="151" y="2084"/>
                  <a:pt x="124" y="2159"/>
                  <a:pt x="70" y="2231"/>
                </a:cubicBezTo>
                <a:cubicBezTo>
                  <a:pt x="50" y="2290"/>
                  <a:pt x="35" y="2350"/>
                  <a:pt x="15" y="2409"/>
                </a:cubicBezTo>
                <a:cubicBezTo>
                  <a:pt x="27" y="2567"/>
                  <a:pt x="0" y="2764"/>
                  <a:pt x="180" y="2820"/>
                </a:cubicBezTo>
                <a:cubicBezTo>
                  <a:pt x="299" y="2901"/>
                  <a:pt x="453" y="2849"/>
                  <a:pt x="591" y="2875"/>
                </a:cubicBezTo>
                <a:cubicBezTo>
                  <a:pt x="611" y="2896"/>
                  <a:pt x="624" y="2925"/>
                  <a:pt x="646" y="2944"/>
                </a:cubicBezTo>
                <a:cubicBezTo>
                  <a:pt x="696" y="2987"/>
                  <a:pt x="839" y="3091"/>
                  <a:pt x="906" y="3095"/>
                </a:cubicBezTo>
                <a:cubicBezTo>
                  <a:pt x="1025" y="3103"/>
                  <a:pt x="1144" y="3104"/>
                  <a:pt x="1263" y="3108"/>
                </a:cubicBezTo>
                <a:cubicBezTo>
                  <a:pt x="1300" y="3113"/>
                  <a:pt x="1338" y="3111"/>
                  <a:pt x="1373" y="3122"/>
                </a:cubicBezTo>
                <a:cubicBezTo>
                  <a:pt x="1403" y="3131"/>
                  <a:pt x="1425" y="3208"/>
                  <a:pt x="1441" y="3232"/>
                </a:cubicBezTo>
                <a:cubicBezTo>
                  <a:pt x="1446" y="3250"/>
                  <a:pt x="1450" y="3269"/>
                  <a:pt x="1455" y="3287"/>
                </a:cubicBezTo>
                <a:cubicBezTo>
                  <a:pt x="1481" y="3374"/>
                  <a:pt x="1457" y="3364"/>
                  <a:pt x="1524" y="3383"/>
                </a:cubicBezTo>
                <a:cubicBezTo>
                  <a:pt x="1542" y="3388"/>
                  <a:pt x="1560" y="3392"/>
                  <a:pt x="1578" y="3396"/>
                </a:cubicBezTo>
                <a:cubicBezTo>
                  <a:pt x="1958" y="3382"/>
                  <a:pt x="1968" y="3374"/>
                  <a:pt x="2388" y="3396"/>
                </a:cubicBezTo>
                <a:cubicBezTo>
                  <a:pt x="2430" y="3398"/>
                  <a:pt x="2469" y="3421"/>
                  <a:pt x="2511" y="3424"/>
                </a:cubicBezTo>
                <a:cubicBezTo>
                  <a:pt x="2598" y="3431"/>
                  <a:pt x="2685" y="3433"/>
                  <a:pt x="2772" y="3438"/>
                </a:cubicBezTo>
                <a:cubicBezTo>
                  <a:pt x="3095" y="3476"/>
                  <a:pt x="3483" y="3598"/>
                  <a:pt x="3759" y="3410"/>
                </a:cubicBezTo>
                <a:cubicBezTo>
                  <a:pt x="3787" y="3367"/>
                  <a:pt x="3820" y="3350"/>
                  <a:pt x="3855" y="3314"/>
                </a:cubicBezTo>
                <a:cubicBezTo>
                  <a:pt x="3893" y="3202"/>
                  <a:pt x="3995" y="3213"/>
                  <a:pt x="4102" y="3204"/>
                </a:cubicBezTo>
                <a:cubicBezTo>
                  <a:pt x="4127" y="3130"/>
                  <a:pt x="4096" y="3187"/>
                  <a:pt x="4157" y="3150"/>
                </a:cubicBezTo>
                <a:cubicBezTo>
                  <a:pt x="4255" y="3091"/>
                  <a:pt x="4103" y="3150"/>
                  <a:pt x="4225" y="3108"/>
                </a:cubicBezTo>
                <a:cubicBezTo>
                  <a:pt x="4264" y="3071"/>
                  <a:pt x="4306" y="3057"/>
                  <a:pt x="4349" y="3026"/>
                </a:cubicBezTo>
                <a:cubicBezTo>
                  <a:pt x="4365" y="3015"/>
                  <a:pt x="4375" y="2997"/>
                  <a:pt x="4390" y="2985"/>
                </a:cubicBezTo>
                <a:cubicBezTo>
                  <a:pt x="4403" y="2975"/>
                  <a:pt x="4417" y="2967"/>
                  <a:pt x="4431" y="2958"/>
                </a:cubicBezTo>
                <a:cubicBezTo>
                  <a:pt x="4451" y="2898"/>
                  <a:pt x="4439" y="2839"/>
                  <a:pt x="4486" y="2793"/>
                </a:cubicBezTo>
                <a:cubicBezTo>
                  <a:pt x="4535" y="2651"/>
                  <a:pt x="4454" y="2899"/>
                  <a:pt x="4513" y="2505"/>
                </a:cubicBezTo>
                <a:cubicBezTo>
                  <a:pt x="4515" y="2492"/>
                  <a:pt x="4531" y="2486"/>
                  <a:pt x="4541" y="2478"/>
                </a:cubicBezTo>
                <a:cubicBezTo>
                  <a:pt x="4652" y="2389"/>
                  <a:pt x="4610" y="2407"/>
                  <a:pt x="4692" y="2382"/>
                </a:cubicBezTo>
                <a:cubicBezTo>
                  <a:pt x="4687" y="2350"/>
                  <a:pt x="4691" y="2316"/>
                  <a:pt x="4678" y="2286"/>
                </a:cubicBezTo>
                <a:cubicBezTo>
                  <a:pt x="4671" y="2271"/>
                  <a:pt x="4647" y="2271"/>
                  <a:pt x="4637" y="2258"/>
                </a:cubicBezTo>
                <a:cubicBezTo>
                  <a:pt x="4628" y="2247"/>
                  <a:pt x="4630" y="2230"/>
                  <a:pt x="4623" y="2217"/>
                </a:cubicBezTo>
                <a:cubicBezTo>
                  <a:pt x="4607" y="2188"/>
                  <a:pt x="4568" y="2135"/>
                  <a:pt x="4568" y="2135"/>
                </a:cubicBezTo>
                <a:cubicBezTo>
                  <a:pt x="4548" y="2036"/>
                  <a:pt x="4516" y="1910"/>
                  <a:pt x="4596" y="1833"/>
                </a:cubicBezTo>
                <a:cubicBezTo>
                  <a:pt x="4591" y="1732"/>
                  <a:pt x="4593" y="1631"/>
                  <a:pt x="4582" y="1531"/>
                </a:cubicBezTo>
                <a:cubicBezTo>
                  <a:pt x="4579" y="1502"/>
                  <a:pt x="4554" y="1449"/>
                  <a:pt x="4554" y="1449"/>
                </a:cubicBezTo>
                <a:cubicBezTo>
                  <a:pt x="4547" y="1252"/>
                  <a:pt x="4641" y="1091"/>
                  <a:pt x="4472" y="1038"/>
                </a:cubicBezTo>
                <a:cubicBezTo>
                  <a:pt x="4463" y="1029"/>
                  <a:pt x="4458" y="1013"/>
                  <a:pt x="4445" y="1010"/>
                </a:cubicBezTo>
                <a:cubicBezTo>
                  <a:pt x="4431" y="1007"/>
                  <a:pt x="4414" y="1034"/>
                  <a:pt x="4404" y="1024"/>
                </a:cubicBezTo>
                <a:cubicBezTo>
                  <a:pt x="4383" y="1004"/>
                  <a:pt x="4376" y="942"/>
                  <a:pt x="4376" y="942"/>
                </a:cubicBezTo>
                <a:cubicBezTo>
                  <a:pt x="4371" y="850"/>
                  <a:pt x="4372" y="758"/>
                  <a:pt x="4362" y="667"/>
                </a:cubicBezTo>
                <a:cubicBezTo>
                  <a:pt x="4359" y="638"/>
                  <a:pt x="4344" y="612"/>
                  <a:pt x="4335" y="585"/>
                </a:cubicBezTo>
                <a:cubicBezTo>
                  <a:pt x="4329" y="567"/>
                  <a:pt x="4330" y="547"/>
                  <a:pt x="4321" y="530"/>
                </a:cubicBezTo>
                <a:cubicBezTo>
                  <a:pt x="4299" y="486"/>
                  <a:pt x="4255" y="454"/>
                  <a:pt x="4239" y="407"/>
                </a:cubicBezTo>
                <a:cubicBezTo>
                  <a:pt x="4230" y="379"/>
                  <a:pt x="4229" y="347"/>
                  <a:pt x="4212" y="324"/>
                </a:cubicBezTo>
                <a:cubicBezTo>
                  <a:pt x="4191" y="295"/>
                  <a:pt x="4124" y="228"/>
                  <a:pt x="4088" y="201"/>
                </a:cubicBezTo>
                <a:cubicBezTo>
                  <a:pt x="4002" y="137"/>
                  <a:pt x="3933" y="118"/>
                  <a:pt x="3828" y="91"/>
                </a:cubicBezTo>
                <a:cubicBezTo>
                  <a:pt x="3802" y="84"/>
                  <a:pt x="3715" y="54"/>
                  <a:pt x="3704" y="50"/>
                </a:cubicBezTo>
                <a:cubicBezTo>
                  <a:pt x="3690" y="45"/>
                  <a:pt x="3663" y="36"/>
                  <a:pt x="3663" y="36"/>
                </a:cubicBezTo>
                <a:cubicBezTo>
                  <a:pt x="3476" y="41"/>
                  <a:pt x="3288" y="37"/>
                  <a:pt x="3101" y="50"/>
                </a:cubicBezTo>
                <a:cubicBezTo>
                  <a:pt x="3088" y="51"/>
                  <a:pt x="3084" y="71"/>
                  <a:pt x="3073" y="78"/>
                </a:cubicBezTo>
                <a:cubicBezTo>
                  <a:pt x="3008" y="117"/>
                  <a:pt x="2929" y="139"/>
                  <a:pt x="2868" y="187"/>
                </a:cubicBezTo>
                <a:cubicBezTo>
                  <a:pt x="2845" y="205"/>
                  <a:pt x="2841" y="247"/>
                  <a:pt x="2813" y="256"/>
                </a:cubicBezTo>
                <a:cubicBezTo>
                  <a:pt x="2783" y="266"/>
                  <a:pt x="2749" y="256"/>
                  <a:pt x="2717" y="256"/>
                </a:cubicBezTo>
              </a:path>
            </a:pathLst>
          </a:custGeom>
          <a:gradFill rotWithShape="0">
            <a:gsLst>
              <a:gs pos="0">
                <a:srgbClr val="993300">
                  <a:alpha val="49019"/>
                </a:srgbClr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omo disse o filósofo francês Blaise Pascal: "O coração tem razões que a própria razão desconhece."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stados emocionais negativos, como raiva ou frustração, geram ondas eletromagnéticas totalmente caóticas do coração, como se estivéssemos pisando no acelerador e no breque simultane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20932800">
            <a:off x="4642920" y="1125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 rot="679800">
            <a:off x="3564000" y="1268280"/>
            <a:ext cx="1009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7:19:23Z</dcterms:created>
  <dc:creator>Angelica Lepper - airlepper@hotmail.com</dc:creator>
  <dc:description/>
  <dc:language>en-US</dc:language>
  <cp:lastModifiedBy>Usuario</cp:lastModifiedBy>
  <dcterms:modified xsi:type="dcterms:W3CDTF">2008-06-13T20:03:54Z</dcterms:modified>
  <cp:revision>9</cp:revision>
  <dc:subject/>
  <dc:title>O PEQUENO PRÍNCIPE - OUTRA ESTÓRIA</dc:title>
</cp:coreProperties>
</file>