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28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isa" initials="M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09-08-28T11:31:14.718000000" idx="3">
    <p:pos x="10" y="10"/>
    <p:text>Aqui Le Bon parece aproximar os seres humanos, inseridos em um grupo psicológico, a animais irracionais.</p:text>
  </p:cm>
</p:cmLst>
</file>

<file path=ppt/comments/comment23.xml><?xml version="1.0" encoding="utf-8"?>
<p:cmLst xmlns:p="http://schemas.openxmlformats.org/presentationml/2006/main">
  <p:cm authorId="0" dt="2009-08-28T11:41:40.343000000" idx="4">
    <p:pos x="10" y="10"/>
    <p:text>Podemos também chamá-lo de carisma.</p:text>
  </p:cm>
</p:cmLst>
</file>

<file path=ppt/comments/comment28.xml><?xml version="1.0" encoding="utf-8"?>
<p:cmLst xmlns:p="http://schemas.openxmlformats.org/presentationml/2006/main">
  <p:cm authorId="0" dt="2009-08-28T12:10:09.140000000" idx="5">
    <p:pos x="10" y="10"/>
    <p:text>é o contágio emocional de Le Bon. </p:text>
  </p:cm>
</p:cmLst>
</file>

<file path=ppt/comments/comment8.xml><?xml version="1.0" encoding="utf-8"?>
<p:cmLst xmlns:p="http://schemas.openxmlformats.org/presentationml/2006/main">
  <p:cm authorId="0" dt="2009-08-28T10:49:32.250000000" idx="1">
    <p:pos x="10" y="10"/>
    <p:text>Quem seria o substituo do hipnotizador num grupo?</p:text>
  </p:cm>
</p:cmLst>
</file>

<file path=ppt/comments/comment9.xml><?xml version="1.0" encoding="utf-8"?>
<p:cmLst xmlns:p="http://schemas.openxmlformats.org/presentationml/2006/main">
  <p:cm authorId="0" dt="2009-08-28T10:52:33.828000000" idx="2">
    <p:pos x="10" y="10"/>
    <p:text>o contágio parece ser uma manifestação da sugestionabilidade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0B6-B63E-44C8-812A-43C9072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C3E-FC98-498F-88CF-AC76EEC8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82A-37BB-4678-9636-DF44004F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B50-D1D7-4A6A-8B68-B02E832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7D74F-CE18-4686-8BA8-6EFC3273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468B-9D0C-48A8-80B7-31773E5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7D0E-6908-45D7-9D93-5F4B26C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D64BA-CED5-4D55-92CC-F3295F1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42134-A0D9-4206-8AB7-FE45A5D0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8DBE-22B2-4005-B420-7889DE83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871F-63C4-4994-A755-4D3D6EF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4C0-89EF-4095-B124-71B61E0B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C9C0-6B16-48EF-A41D-36C2DF9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D902B-69AA-4EEE-AB04-5CE986E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8BF53-E21D-4037-B8B4-E012C31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3ACF-CA12-4368-9782-526A1E82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AF3E2-7416-436A-BA99-6388B8A3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893-2144-40A0-9082-FC1F778B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2D2-8A3D-4D5C-B809-45F0419F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2A7-3DFE-40E3-BD21-57A659F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0D2-BB87-45B7-9454-8E8FBE3A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856-F772-4927-A0C1-9DF8FAB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3C9-1D9E-4FEC-A52F-38F5445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1A4-0B03-43E8-AF5C-B28C4645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CA2B-F68A-4035-BC47-00A2CD7B4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23B-3B7B-40A4-BA5E-E00232326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SICOLOGIA DE GRUP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ÃO PSICANALÍTICA FREUD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 fazer parte de um grupo organizado, um homem desce vários degraus na escada da civilização. Isolado, pode ser um indivíduo culto; numa multidão, é um bárbaro, ou seja, uma criatura que age pelo insti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ui a espontaneidade, a violência, a ferocidade, o entusiasmo e o heroísmo dos seres primi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 uma redução da capacidade intelectual do indivíduo, ao se fundir num gru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nte grupal é semelhante à vida mental dos povos primitivos e à das crianç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l como uma criança, um grup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mpulsivo, mutável e irritá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levado, exclusivamente, pelo seu inconsci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edece aos impulsos de acordo com as circunstânci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ulsos esses tão imperiosos que ultrapassam os instintos de autopreserv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ge sem premeditar seus at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ncapaz de perseveranç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admite demora na realização de seus desej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ui sentimento de onipotência, ou seja o impossível não exis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tremamente crédulo e aberto à influ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acredita no imprová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 por imagens que se ligam por meio de associações, cuja concordância não é conferida com a realid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ui sentimentos simples e exagera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conhece a dúvida nem a incertez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i diretamente a extremos (um traço de antipatia se transforma em ódio furios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possui dúvida quanto ao que é verdade ou err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consciência de sua grande forç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tão intolerante quanto obediente à autorid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ita a força e julga a bondade uma fraqueza, embora às vezes possa se deixar levar por atos benévol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e força e violência de seus heró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 ser dirigido, oprimido e temer seus líde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profundamente conservador e tem aversão à inovações e progress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ita as tradições  de maneira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inado como é a todos os extremos, um grupo só pode ser excitado por um estímulo excessivo. Quem quer que deseje produzir efeito sobre ele, não necessita de nenhuma ordem lógica em seus argumentos; deve pintar nas cores mais fortes, deve exagerar e repetir a mesma coisa diversas ve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sar de despertar instintos de destruição adormecidos, sob a influência da sugestão, os grupos também são capazes de elevadas realizações sob forma de abnegação, desprendimento e devoção a um ide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grupo, ainda, está sujeito ao poder verdadeiramente mágico das palavras, que podem evocar as mais formidáveis tempestades na mente grupal, sendo também capazes de apaziguá-las. Elas são proferidas com solenidade na presença dos grupos e, assim que foram pronunciadas, uma expressão de respeito se torna visível em todos os semblantes e todas as cabeças se curvam. Por muitos, são consideradas como forças naturais ou como poderes sobrenatura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, portanto, a identificação da mente grupal com a mente dos povos primitivos. Nos grupos, as idéias mais contraditórias podem existir lado a lado e tolerar-se mutuamente, sem que nenhum conflito surja da contradição lógica entre elas. Esse é também o caso da vida mental inconsciente dos indivíduos, das crianças e dos neurót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grupos nunca ansiaram pela verdade. Exigem ilusões e não podem passar sem elas. Constantemente dão ao que é irreal precedência sobre o real; são quase tão intensamente influenciados pelo que é falso quanto pelo que é verdadeiro. Possuem tendência evidente a não distinguir entre as duas coi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 que seres vivos se reúnem em certo número, sejam eles um rebanho de animais ou um conjunto de seres humanos, se colocam instintivamente sob a influência de um chefe. Um grupo é um rebanho obediente, que nunca poderia viver sem um senhor. Possui tal anseio de obediência, que se submete instintivamente a qualquer um que se indique a si próprio como che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PO PSICOLÓG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b certa condição grupal o indivíduo sente, pensa e age de maneira completamente diferente daquela que se apresentaria se sentisse, pensasse e agisse se estivesse sozinh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a condição o insere num grupo de pessoas que adquiriu as características de um “grupo psicológico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l líder deve ajustar-se ao grupo em suas qualidades pesso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ve ser fascinado por uma intensa fé (numa idéia), a fim de despertar a fé do grupo; tem de possuir vontade forte e imponente, para que o grupo, que não tem vontade própria, possa dele acei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 Bon acredita que os líderes se fazem notados por meio das idéias em que eles próprios acreditam fanaticamente. Atribui tanto às idéias quanto aos líderes um poder misterioso e irresistível, a que chama de ‘prestígio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restígio, na concepção de Le B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uma espécie de domínio exercido sobre nós por um indivíduo, um trabalho ou uma idé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lisa inteiramente nossas faculdades críticas e enche-nos de admiração e respei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ece que desperta um sentimento como o da ‘fascinação’ na hipn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ígio adquirido ou artifi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iga às pessoas em virtude de seu nome, fortuna e reputação, e a opiniões, obras de arte etc. em virtude da tradição, ou seja, remonta ao pass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ígio pess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-se a umas poucas pessoas, que se tornam líderes por meio dele, e tem o efeito de fazer com que todos as obedeçam como se fosse pelo funcionamento de alguma magia magnétic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nhuma das afirmativas desse autor apresentou algo de novo. Tudo o que diz em detrimento e depreciação das manifestações da mente grupal, já fora dito por outros antes dele, com igual nitidez e igual hostilidade,por pensadores, estadistas e escritores desde os primeiros períodos da literat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duas teses, que abrangem as mais importantes opiniões de Le Bon, são as que tocam na inibição coletiva do funcionamento intelectual e na elevação da afetividade nos grup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que resta de peculiar a Le Bon são as duas noções do inconsciente e da comparação com a vida mental dos povos primitivos, e mesmo estas já haviam sido mencionadas antes d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 ‘grupo’ não possui organização alguma, ou uma que mal merece esse n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eve um grupo dessa espécie como sendo uma ‘multidã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te, porém, que uma multidão de seres humanos dificilmente pode reunir-se sem possuir, pelo menos, os rudimentos de uma organiz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 para que um grupo se forme é preciso que os indivíduos tenham algo em comum uns com os outros, um interesse comum num objeto, uma inclinação emocional semelhante numa situação ou noutra e certo grau de influência recípro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o mais alto o grau dessa ‘homogeneidade mental’, mais prontamente os indivíduos constituem um grupo psicológico e mais notáveis são as manifestações da mente grup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maneira pela qual os indivíduos são arrastados por um impulso comum é explicada por McDougall através do que chama de ‘princípio da indução direta da emoção por via da reação simpática primitiva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a ‘exaltação ou intensificação de emoção’ produzida em cada membro do grup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ípio da indução direta da emoção por via da reação simpática prim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 grupo as emoções dos homens são excitadas até um grau que raramente ou nunca atingem sob outras condições, e essa entrega constitui experiência tão agradável para os interessados, que eles entregam-se às suas paixões, fundem-se, assim, num  grupo, e perdem o senso dos limites de sua individual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o mais grosseiros e simples são os impulsos emocionais, mais aptos se encontram a propagar-se através de um gru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PO PSICOLÓG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artir disso podemos nos question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é um “grupo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este grupo adquire a capacidade de exercer influência sobre a vida mental do indivídu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 a natureza da ação mental que essa influência força no indivídu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 mecanismo de intensificação da emoção é favorecido por algumas outras influências que emanam dos grup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poder ilimit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perigo insuperáve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na-se o substituto de toda a sociedade huma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riga o indivíduo a colocar sua antiga ‘consciência’ fora de ação e a entregar-se à atração do prazer aumenta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entes de inteligência inferior fazem com que as de ordem mais elevada desçam a seu próprio nív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s últimas são obstruídas em sua atividade, porque a intensificação da emoção cria condições desfavoráveis para o trabalho intelectual corret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indivíduos são intimidados pelo grupo e sua atividade mental não se acha liv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 uma redução, em cada indivíduo, de seu senso de responsabilidade por seus próprios desempen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cterísticas do grupo “não organizado” si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cessivamente emocional, impulsivo, violento, inconstante, contraditório e extremado em sua açã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senta apenas as emoções rudes e os sentimentos menos refinad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tremamente sugestionável, descuidado nas deliberações, apressado nos julgamentos, incapaz de qualquer forma que não seja a mais simples e imperfeita das formas de raciocíni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mente influenciado e conduzi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provido de autoconsciência, despido de auto-respeito e de senso de responsabilidad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to a ser conduzido pela consciência de sua própria força, tendendo a produzir todas as manifestações esperadas de um  poder irresponsável e absolut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u comportamento assemelha-se ao de uma criança indisciplinada ou de um selvagem passional e desassistido numa situação estranha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autor enumera cinco ‘condições principais’ para a elevação da vida mental coletiva a um nível mais al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ira e fundamental condição: tem de haver certo grau de continuidade de existência no grupo. Esta pode ser material ou form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, se os mesmos indivíduos persistem no grupo por certo te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, se se desenvolveu dentro do grupo um sistema de posições fixas que são ocupadas por uma sucessão de indivídu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unda condição: em cada membro do grupo deve se formar uma idéia definida da natureza, composição, funções e capacidades do grupo, de maneira que, a partir disso, possa desenvolver uma relação emocional com o grupo como um t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ceira condição: o grupo deve ser colocado em interação (talvez sob a forma de rivalidade) com outros grupos semelhantes, mas que dele difiram em muitos asp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rta condição: o grupo deve possuir tradições, costumes e hábitos, tais que determinem a relação de seus membros uns com os ou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inta condição: o grupo deve ter estrutura definida, expressa na especialização e diferenciação das funções de seus constitui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ssas condições forem satisfeitas, afastam-se as desvantagens psicológicas das formações de gru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dução coletiva da capacidade intelectual é evitada retirando-se do grupo o desempenho das tarefas intelectuais e reservando-as para alguns membros d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ATO FUNDAMENTAL DA PSICOLOGIA DE GRUP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itui as duas teses apresentadas por Le Bon e McDougall, relativas à intensificação das emoções e à inibição do intelecto nos grupos primitivos, encontradas nos grupos psicológ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grupos se distinguem por sua especial sugestionabilidade, na realidade um fenômeno irredutível e primitivo, um fato fundamental na vida mental do hom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 parte da libido para explicar alguns aspectos próprios dos grup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 libido entende todo e qualquer amor, não só aquele que tem a união sexual como objetivo, mas aquele que abrange também o amor próprio, o amor pelos pais e pelos filhos, a amizade e o amor pela humanidade em geral, bem como a devoção a objetos concretos e a idéias abstra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pesquisa psicanalítica postula que todas essas tendências constituem expressão dos mesmos impulsos instintuais da libi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s relações entre os sexos, esses impulsos forçam seu caminho no sentido da união sex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outras circunstâncias, são desviados desse objetivo ou impedidos de atingi-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elações amorosas constituem também a essência da mente grup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importa quem são os indivíduos que compõem um grupo psicológico, suas semelhanças ou dessemelhanças, eles formarão uma mente coletiva que os fará pensar, sentir e agir de maneira diferente daquela que pensariam, sentiriam e agiriam em iso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grupo psicológico é um ser provisório, formado por elementos diferentes entre si, mas que formam uma estrutura completamente diferente da estrutura de cada um de seus m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o corpo humano, que é formado por células completamente diferentes entre si, mas que formam um todo, por sua vez diferente das células que o forma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sa última hipótese encontra apoio em duas reflexões de rot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eiro, a de que um grupo é claramente mantido unido por um poder de alguma espécie; para Freud, essa façanha deve ser atribuída a Eros, que mantém unido tudo o que existe no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gundo, a de que, se um indivíduo abandona a sua distintividade num grupo e permite que seus outros membros o influenciem por sugestão, isso indica que o faz por sentir necessidade de estar em harmonia com eles, de preferência a estar em oposição a e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FERENTES TIPOS DE GRUP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possível distinguir tipos muito diferentes de grupos e linhas opostas em seu desenvolviment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ême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dour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ogêneos, constituídos pelos mesmos tipos de indivídu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homogêne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ai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ficiais, que exigem uma força externa para mantê-los reunid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itiv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dos, com estrutura defin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com líde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sem líde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NÁLISE DE DOIS GRUPOS ARTIFICIAIS E ALTAMENTE ORGANIZADOS  - IGREJA E EXÉRCIT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uma Igreja, bem como num exército, por mais diferentes que ambos possam ser em outros aspectos, prevalece a mesma ilusão de que há um cabeça — na Igreja Católica, Cristo; num exército, o comandante-chefe — que ama todos os indivíduos do grupo com um amor igu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sses dois grupos artificiais, cada indivíduo está ligado por laços libidinais por um lado ao líder (Cristo, o comandante-chefe) e por outro aos demais membros do gru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IGRE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amor igual para todos foi expressamente enunciado por Crist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 se coloca, para cada membro do grupo, na relação de um bondoso irmão mais velho; é seu pai substitu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s as exigências feitas ao indivíduo derivam desse amor de Cri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traço democrático perpassa pela Igreja, pela própria razão de que, perante Cristo, todos são iguais e todos possuem parte igual de seu am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á semelhança entre a comunidade cristã e uma família, e os crentes chamam-se a si mesmos de irmãos em Cristo, isto é, irmãos através do amor que Cristo tem por e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laço que une cada indivíduo a Cristo é também a causa do laço que os une uns aos ou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 EXÉRC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andante-chefe é um pai que ama todos os soldados igualmente e, por essa razão, eles são camaradas entre s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xército difere estruturalmente da Igreja por compor-se de uma série de tais grup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capitão é o comandante-chefe e o pai de sua companh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oficial inferior o é de sua unid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INCIPAL FENÔMENO DA PSICOLOGIA DE GRUP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lta de liberdade do indivíduo num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ada indivíduo está preso em duas direções por um laço emocional tão intenso, aí está a circunstância que provoca alteração e limitação que foram observadas em sua persona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ÂN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sa palavra é utilizada para descrever qualquer medo coletivo, até mesmo o medo no indivíduo quando ele excede todos os limites, e, com freqüência, é reservada para os casos em que a irrupção do medo não é justificada pela ocasi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pânico significa a desintegração de um grupo; ele envolve a cessação de todos os sentimentos de consideração que os membros do grupo, sob outros aspectos, mostram uns para com os ou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laços mútuos entre os membros do grupo via de regra desaparecem ao mesmo tempo que o laço com seu líd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da do líder, num sentido ou noutro, o nascimento de suspeitas sobre ele, trazem a irrupção do pâ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SINTEGRAÇÃO DO GRUPO MENT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 o pânico se um grupo desse tipo se desintegra. Suas características são a de que as ordens dadas pelos superiores não são mais atendidas e a de que cada indivíduo se preocupa apenas consigo próprio, sem qualquer consideração pelos outros. Os laços mútuos deixaram de existir e libera-se um medo gigantesco e insensa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medo tornou-se tão grande, a ponto de poder desprezar todos os laços e todos os sentimentos de consideração pelos ou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ence à própria essência do pânico não apresentar relação com o perigo que ameaça, e irromper freqüentemente nas ocasiões mais trivia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Le Bon, as características comuns apresentadas por um indivíduo em isolamento somem num grupo, fazendo com que sua identidade se desfaç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inconsciente racial emerge, inumeráveis características comuns, transmitidas de geração a geração, que constituem o gênio de uma raç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 seja, as características conscientes individuais dão lugar às funções inconscientes semelhantes em todos os indiví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 grupo, o indivíduo apresenta novas características que não possuía antes. O autor concebe três motivos para is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º. Poder invencív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elo número de indivíduos que compõem tal grupo, e por ser um grupo anônimo, irresponsável, o sentimento de responsabilidade desaparece inteir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º. Contág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Num grupo, todo sentimento e todo ato são contagiosos, a tal ponto que o indivíduo imediatamente sacrifica seu interesse pessoal pelo interesse cole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º. Sugestã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ausa do contágio, determina nos indivíduos de um grupo características especiais que são às vezes inteiramente contrárias às apresentadas pelo indivíduo isola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s três motivos são causados pela fascinação, fenômeno este similar aquele engendrado pelo hipnotizador. A personalidade consciente desaparece, a vontade e o discernimento se perderam. Todos os sentimentos e o pensamento inclinam-se na direção determinada pelo hipnotiz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b a influência de uma sugestão, o grupo empreenderá a realização de certos atos com irresistível impetuosidade. Essa impetuosidade é ainda mais irresistível no caso dos grupos do que no do sujeito hipnotizado, porque, sendo a sugestão a mesma para todos os indivíduos do grupo, ela ganha força pela reciprocidade, ou seja, pelo feed back entre seus componentes, que o grupo favore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desaparecimento da personalidade consciente, a predominância da personalidade inconsciente, a modificação por meio da sugestão e do contágio de sentimentos e idéias numa direção idêntica, a tendência a transformar imediatamente as idéias sugeridas em atos, são as características principais do indivíduo que faz parte de um grupo. Ele não é mais ele mesmo, mas transformou-se num autômato que deixou de ser dirigido pela sua vonta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43:21Z</dcterms:created>
  <dc:creator>Marisa</dc:creator>
  <dc:description/>
  <dc:language>en-US</dc:language>
  <cp:lastModifiedBy>Marisa</cp:lastModifiedBy>
  <dcterms:modified xsi:type="dcterms:W3CDTF">2009-08-29T09:13:37Z</dcterms:modified>
  <cp:revision>14</cp:revision>
  <dc:subject/>
  <dc:title>PSICOLOGIA DE GRUPO</dc:title>
</cp:coreProperties>
</file>