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B3C-B690-4162-A59A-DA030891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574-CCBB-42A3-9F48-C87EEA8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951-FCF0-4CD2-B650-5963D4A3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174-BBF2-4C83-B0A6-A7D942E2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745-26E3-43CB-B37A-07039C1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6B4-812A-4CDE-8D22-F70E11E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8E7-DED0-4664-9606-132ECE65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A60-9723-45CA-832A-0DABF06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05E-FC27-41F7-B022-65B1EC05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7B6-C15F-4EA4-9D8F-61152F4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A86-42E9-4944-B2D3-3B10029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2B3-3F05-4FEA-9E92-6D6DBDF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814-0B47-4DFA-AEC5-32E2905D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440" y="333000"/>
            <a:ext cx="8504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Um senador está andand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tranqüilamente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quando é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omic Sans MS"/>
              </a:rPr>
              <a:t>atropelado e mor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406080"/>
            <a:ext cx="85694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-" E aí ? Você passou um dia no Inferno e um dia no Paraíso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Agora escolha a sua casa eterna." Ele pensa um minuto e responde: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-"Olha, eu nunca pensei .. O Paraíso é muito bom, mas eu acho que vou ficar melhor no Inferno."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Então São Pedro o leva de volta ao elevador e ele desce, desce, desce até o  Inferno.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190440"/>
            <a:ext cx="828036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 porta abre e ele se vê no meio de um enorme terreno baldio cheio de lixo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Ele vê todos os amigos com as roupas rasgadas e sujas catando o entulho e colocando em sacos pretos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O diabo vai ao seu encontro e passa o braço pelo ombro do senador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1053360"/>
            <a:ext cx="818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1" lang="pt-BR" sz="3000" spc="-1" strike="noStrike">
                <a:solidFill>
                  <a:srgbClr val="ffffff"/>
                </a:solidFill>
                <a:latin typeface="Comic Sans MS"/>
              </a:rPr>
              <a:t>-" Não estou entendendo", - gagueja o senador - "Ontem mesmo eu estive aqui  e havia um campo de golfe, um clube, lagosta, caviar, e nós dançamos e nos divertimos o tempo todo. Agora só vejo esse fim de mundo cheio de lixo e meus amigos arrasados!!!" 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Comic Sans MS"/>
              </a:rPr>
              <a:t>    O diabo olha pra ele, sorri ironicamente e diz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61560" y="2565000"/>
            <a:ext cx="7166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-"Ontem estávamos em campanha.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gora, já conseguimos o seu voto..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36520" y="923400"/>
            <a:ext cx="729612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rsrs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Essa tem que ser repassada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(não quebrem a "corrente"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FIM</a:t>
            </a:r>
            <a:br>
              <a:rPr sz="40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37680"/>
            <a:ext cx="86421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 alma dele chega ao Paraíso e dá de cara com São Pedro na entrada.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-"Bem-vindo ao Paraíso!"; diz São Pedro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-"Antes que você entre, há um probleminha.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Raramente vemos parlamentares por aqui, sabe, então não sabemos bem o que  fazer com você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26982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267560"/>
            <a:ext cx="842472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-"Não vejo problema, é só me deixar entrar", diz o antigo  senador. 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    -"Eu bem que gostaria, mas tenho ordens superiores. Vamos fazer o seguin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700280"/>
            <a:ext cx="83534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Você passa um dia no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Comic Sans MS"/>
              </a:rPr>
              <a:t>Paraíso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 e um dia no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Comic Sans MS"/>
              </a:rPr>
              <a:t>Inferno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. Aí, pode escolher onde quer passar a eternidad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1451160"/>
            <a:ext cx="828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-"Não precisa, já resolvi. Quero ficar no Paraíso diz o Senador.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    -"Desculpe, mas temos as nossas regras. "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    Assim, São Pedro o acompanha até o elevador e ele desce, desce, desce até o  Infern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77560"/>
            <a:ext cx="9144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 porta se abre e ele se vê no meio de um lindo campo de golfe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Ao fundo o clube onde estão todos os seus amigos e outros políticos com os  quais havia trabalhado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Todos muito felizes em traje social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Ele é cumprimentado, abraçado e eles começam a falar sobre os bons tempos em  que ficaram ricos às custas do povo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0440"/>
            <a:ext cx="91440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Jogam uma partida descontraída e depois comem lagosta e caviar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Quem também está presente é o diabo, um cara muito amigável que passa o tempo todo dançando e contando piadas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Eles se divertem tanto que, antes que ele perceba, já é hora de ir embora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Todos se despedem dele com abraços e acenam enquanto o elevador sobe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2059560"/>
            <a:ext cx="79916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Ele sobe, sobe, sobe e porta se abre outra vez. São Pedro está esperando por  ele. 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    Agora é a vez de visitar o Paraís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0524200">
            <a:off x="828360" y="686880"/>
            <a:ext cx="75384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53800">
            <a:off x="7667640" y="4724280"/>
            <a:ext cx="814320" cy="116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1928880"/>
            <a:ext cx="8713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Ele passa 24 horas junto a um grupo de almas contentes que  andam de nuvem em  nuvem, tocando harpas e cantando. 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    Tudo vai muito bem e, antes que ele perceba, o dia se acaba e São Pedro retorn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7:42:33Z</dcterms:created>
  <dc:creator>Cliente</dc:creator>
  <dc:description/>
  <dc:language>en-US</dc:language>
  <cp:lastModifiedBy>Cliente</cp:lastModifiedBy>
  <dcterms:modified xsi:type="dcterms:W3CDTF">2008-04-09T18:32:50Z</dcterms:modified>
  <cp:revision>2</cp:revision>
  <dc:subject/>
  <dc:title>Slide 1</dc:title>
</cp:coreProperties>
</file>