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HOS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92C-9162-4E8D-9924-F2D89463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72D-34C2-4CCD-A6F8-E4711143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5EF-1621-4CAD-A678-F887BC0A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99D-0968-49E8-9453-F74AA855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9A2-39A6-4456-88F0-D3287C8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2BF-82F5-4004-8E82-182046D7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713-DBC3-4D62-99BA-30326F4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4AD-276C-4308-9095-046111F1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1DD-7829-4923-BB57-8A63E3A9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7B1-F3D2-47E9-8B69-8DCC1EFC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C00-E3A0-440F-8898-FB71CEE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CCA-0821-4DAB-A566-27CBD2B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A3DB-27A6-41BC-833D-38ECE53CDE4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HOS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765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que não lembramos de vidas passad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14172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ão lembramos das vidas passadas e nisso está a sabedoria de D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61545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que para avanç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3141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  I  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89856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que ‘’ESC’’ para sair ou ouça a música até o f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1700280"/>
            <a:ext cx="287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e lembrássemos do mal que fizemos ou dos sofrimentos que passamos, dos inimi-migos que nos preju- dicaram ou daqueles a quem prejudicamos, não teríamos condi- ções de viver entre eles atualmente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213372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is, muitas vezes, os inimigos do passado hoje são os nossos filhos, nossos irmãos, nossos pais, nossos amigos, que presentemente se encontram junto de nós para a reconciliação. Por isso,  existe a reencarnaçã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2349360"/>
            <a:ext cx="35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ertamente, hoje estamos corrigindo erros praticados contra alguém, sofrendo as conseqüências de crimes perpretados, ou mesmo sendo amparados,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87280" y="907920"/>
            <a:ext cx="60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. auxiliados por aqueles que, no pretérito, nos prejudicaram. Daí a importância da família, onde se costumam reatar os laços cortados em existência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981000"/>
            <a:ext cx="5905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encarnação, desta forma, é a oportunidade de reparação, como também, oportunidade de devotarmos nossos esforços pelo bem dos outros, apressando nossa evolução espiri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1052640"/>
            <a:ext cx="5832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ndo reencarnamos, trazemos um "plano de vida", compromissos assumidos perante a espiritualidade e perante nós mesmos, e que dizem respeito à reparação do mal e à prática de todo o bem possível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1197000"/>
            <a:ext cx="367200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 a provação te aflige,                                 Deus te conceda paz.                                          Se o cansaço te pesa,                                     Deus te sustente em paz.                                    Se te falta a esperança,                                   Deus te acrescente a paz.                                  Se alguém te ofende ou fere,                         Deus te renove em paz.                                Sobre as trevas da noite,                                     O Céu fulgura em paz.                                    Ama, serve e confia.                                       Deus te mantém em paz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MANU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104292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ágina psicografa por Francisco Cândido Xavier,                 ditada pelo espírito de Emman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7:44:35Z</dcterms:created>
  <dc:creator>Usuario</dc:creator>
  <dc:description/>
  <dc:language>en-US</dc:language>
  <cp:lastModifiedBy>bolsoni</cp:lastModifiedBy>
  <dcterms:modified xsi:type="dcterms:W3CDTF">2010-09-28T12:05:13Z</dcterms:modified>
  <cp:revision>33</cp:revision>
  <dc:subject/>
  <dc:title>Slide 1</dc:title>
</cp:coreProperties>
</file>