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ortazar%20-%20Concierto%20de%20Aranjuez.wav" ContentType="audio/x-wav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A3F-284D-4596-AA30-F0CB0B38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CF8-D33C-428C-BCED-7EC1E6F4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83C-14D8-4BA8-AF71-12D83D1D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625-F6CB-40DF-A36C-8684E1D9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4C3-A97A-456F-81F9-F3A95864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DB5-9B76-460D-AA68-FACCB41E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480-3FB5-4DAA-A122-7CC87800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A87-3BFE-4FB4-B439-63BDAE09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DA8-0849-4EE2-9E08-BE186F9F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914-86E7-4E0A-822C-CFE736C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131-E69F-4D4D-A585-DA951D5E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27C-905C-4A47-882C-98A98705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3412-C29A-475D-8BA8-1638144F044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rtazar%20-%20Concierto%20de%20Aranjuez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enirslides@enirslides.hostmach.com.br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Box 56" descr=""/>
          <p:cNvPicPr/>
          <p:nvPr/>
        </p:nvPicPr>
        <p:blipFill>
          <a:blip r:embed="rId1"/>
          <a:stretch/>
        </p:blipFill>
        <p:spPr>
          <a:xfrm>
            <a:off x="1438200" y="1146240"/>
            <a:ext cx="6340680" cy="2230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ortazar%20-%20Concierto%20de%20Aranjuez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"/>
          <p:cNvSpPr/>
          <p:nvPr/>
        </p:nvSpPr>
        <p:spPr>
          <a:xfrm>
            <a:off x="1857240" y="979560"/>
            <a:ext cx="5357880" cy="471528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Minha aceitação será total e comple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Verei as coisas como s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no momento em que ocorrere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e não como eu gostaria que foss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Assuma a responsabilida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por determinado problema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sem culpar algo ou alguém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procure se conscientizar das oportunida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300" spc="-1" strike="noStrike">
                <a:solidFill>
                  <a:srgbClr val="ffffff"/>
                </a:solidFill>
                <a:latin typeface="Calibri"/>
              </a:rPr>
              <a:t>para transformá-lo em benefíc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0"/>
          <p:cNvSpPr/>
          <p:nvPr/>
        </p:nvSpPr>
        <p:spPr>
          <a:xfrm>
            <a:off x="1571760" y="1857240"/>
            <a:ext cx="6127560" cy="360468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alibri"/>
              </a:rPr>
              <a:t>Baixe a guar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alibri"/>
              </a:rPr>
              <a:t>Procure flexibilizar seus pontos de vis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alibri"/>
              </a:rPr>
              <a:t>permanecendo aberto aos dos outr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Calibri"/>
              </a:rPr>
              <a:t>mas sem prender a nenh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alibri"/>
              </a:rPr>
              <a:t>Transpor tal conce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alibri"/>
              </a:rPr>
              <a:t>para um cotidiano repleto de emb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alibri"/>
              </a:rPr>
              <a:t>parece uma tarefa compl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4"/>
          <p:cNvSpPr/>
          <p:nvPr/>
        </p:nvSpPr>
        <p:spPr>
          <a:xfrm>
            <a:off x="1285920" y="1643040"/>
            <a:ext cx="6699240" cy="367740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Calibri"/>
              </a:rPr>
              <a:t>Tenha como referê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Calibri"/>
              </a:rPr>
              <a:t>nosso interior e nosso espíri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Calibri"/>
              </a:rPr>
              <a:t>a adoção de posturas-c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Calibri"/>
              </a:rPr>
              <a:t>pode canalizar a ener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Calibri"/>
              </a:rPr>
              <a:t>e auxiliar a traves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Calibri"/>
              </a:rPr>
              <a:t>por qualquer dificul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0"/>
          <p:cNvSpPr/>
          <p:nvPr/>
        </p:nvSpPr>
        <p:spPr>
          <a:xfrm>
            <a:off x="1785960" y="928800"/>
            <a:ext cx="5643720" cy="499500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ffff"/>
                </a:solidFill>
                <a:uFillTx/>
                <a:latin typeface="Calibri"/>
              </a:rPr>
              <a:t>Lei da Intenção e do Des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Quando queremos alguma coi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não é preciso desp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uma força enorme para chegar lá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o semearmos com atenção o desejo no Univers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le se concretiza - mas no tempo cert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ffff"/>
                </a:solidFill>
                <a:uFillTx/>
                <a:latin typeface="Calibri"/>
              </a:rPr>
              <a:t>Faça uma lista de seus desejos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 carregue-a por onde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Leia-a antes de meditar e dorm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lém de quando acor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0"/>
          <p:cNvSpPr/>
          <p:nvPr/>
        </p:nvSpPr>
        <p:spPr>
          <a:xfrm>
            <a:off x="1714680" y="1143000"/>
            <a:ext cx="5841720" cy="469908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Solte os desejos no ventre da criaçã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e confie verdadeiramente na idé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de que serão concretizados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Conscientize- se do momento present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em toda as suas açõ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e não permita que eventuais obstácul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consumam essa atençã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Com o exercício de aceita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o presente como ele é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 u="sng">
                <a:solidFill>
                  <a:srgbClr val="ffffff"/>
                </a:solidFill>
                <a:uFillTx/>
                <a:latin typeface="Calibri"/>
              </a:rPr>
              <a:t>o futuro se manifestará como você espera</a:t>
            </a: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0"/>
          <p:cNvSpPr/>
          <p:nvPr/>
        </p:nvSpPr>
        <p:spPr>
          <a:xfrm>
            <a:off x="1571760" y="1071720"/>
            <a:ext cx="5913360" cy="463536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Tudo tem razão de ser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Desse modo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somos capazes até de transformar em oportunida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os eventuais e verdadeiros obstácul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(não imaginários, que costumam ser a maiori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Então sereno e inabalável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você segue comprometido com seus sonh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Sempre confiante de qu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quando tiver que ser será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0"/>
          <p:cNvSpPr/>
          <p:nvPr/>
        </p:nvSpPr>
        <p:spPr>
          <a:xfrm>
            <a:off x="1714680" y="1000080"/>
            <a:ext cx="5556240" cy="469908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 u="sng">
                <a:solidFill>
                  <a:srgbClr val="ffffff"/>
                </a:solidFill>
                <a:uFillTx/>
                <a:latin typeface="Calibri"/>
              </a:rPr>
              <a:t>Lei do Distanci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Longe de velhos condicionamento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vale a pena abrir a alma para a sabedo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do desconhecido e da incerte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Essa é a formula mágic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para acessar a mente criativa do Universo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 u="sng">
                <a:solidFill>
                  <a:srgbClr val="ffffff"/>
                </a:solidFill>
                <a:uFillTx/>
                <a:latin typeface="Calibri"/>
              </a:rPr>
              <a:t>Dê-se a liberdade de ser o que é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Evite impor-se e forçar soluções para problem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100" spc="-1" strike="noStrike">
                <a:solidFill>
                  <a:srgbClr val="ffffff"/>
                </a:solidFill>
                <a:latin typeface="Calibri"/>
              </a:rPr>
              <a:t>o que pode criar nov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0"/>
          <p:cNvSpPr/>
          <p:nvPr/>
        </p:nvSpPr>
        <p:spPr>
          <a:xfrm>
            <a:off x="1857240" y="928800"/>
            <a:ext cx="5500800" cy="495252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Exercite o distanciamen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Transforme a incerteza em ingrediente da existê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As soluções tenderão a surgir de maneira espontân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Parece paradoxal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mas, quanto mais incerto for o caminho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mais seguro você deverá se sentir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Lembre-se de que es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é a trilha da liberdad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Perceba a infinidade de escolhas da vi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que a transforma numa aventu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divertida, mágica e misterio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1"/>
          <p:cNvSpPr/>
          <p:nvPr/>
        </p:nvSpPr>
        <p:spPr>
          <a:xfrm>
            <a:off x="1643040" y="1000080"/>
            <a:ext cx="5857920" cy="484884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ara conseguir qualquer coisa na naturez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é preciso desistir do ap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Não descartar o desej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mas apenas desistir do apego a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Vira e mexe, nos flagramos querendo most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nosso poder ou buscar a aprovação dos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Saiba que se distanciar é uma atitude muito poder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Mesclar este ensinamento com o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forma o caminho para obter tudo que se dese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0"/>
          <p:cNvSpPr/>
          <p:nvPr/>
        </p:nvSpPr>
        <p:spPr>
          <a:xfrm>
            <a:off x="1857240" y="928800"/>
            <a:ext cx="5357880" cy="495252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 u="sng">
                <a:solidFill>
                  <a:srgbClr val="ffffff"/>
                </a:solidFill>
                <a:uFillTx/>
                <a:latin typeface="Calibri"/>
              </a:rPr>
              <a:t>Lei do Darma ou do Propósito de Vi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Todo mundo tem um talen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E, quando esse dom beneficia os outro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chega-se à exultação do espíri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- que é o objetivo supremo na vid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Nutra a divindade que habita em você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atento ao que anima seu corpo e sua me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 u="sng">
                <a:solidFill>
                  <a:srgbClr val="ffffff"/>
                </a:solidFill>
                <a:uFillTx/>
                <a:latin typeface="Calibri"/>
              </a:rPr>
              <a:t>Faça uma lista de seus talentos únicos</a:t>
            </a: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Depois, produza outra relaçã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das coisas que adora faz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ff"/>
                </a:solidFill>
                <a:latin typeface="Calibri"/>
              </a:rPr>
              <a:t>quando expressa esses talent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0"/>
          <p:cNvSpPr/>
          <p:nvPr/>
        </p:nvSpPr>
        <p:spPr>
          <a:xfrm>
            <a:off x="1428840" y="1285920"/>
            <a:ext cx="6215040" cy="426348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ffff"/>
                </a:solidFill>
                <a:uFillTx/>
                <a:latin typeface="Calibri"/>
              </a:rPr>
              <a:t>Lei da Potencialidade P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s respostas para concretizar qualquer coisa n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ncontram-se em nosso i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quietar a mente e ouvir a voz do silênc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é a melhor maneira de descobri-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ffff"/>
                </a:solidFill>
                <a:uFillTx/>
                <a:latin typeface="Calibri"/>
              </a:rPr>
              <a:t>Comece o dia diz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Hoje não julgarei nada nem ninguém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Não criticar significa manter liv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 comunicação com sua consciência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0"/>
          <p:cNvSpPr/>
          <p:nvPr/>
        </p:nvSpPr>
        <p:spPr>
          <a:xfrm>
            <a:off x="1714680" y="1071720"/>
            <a:ext cx="5715000" cy="448308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ffff"/>
                </a:solidFill>
                <a:uFillTx/>
                <a:latin typeface="Calibri"/>
              </a:rPr>
              <a:t>Diga ent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u os expresso e os po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 serviço da humanida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erco a noção do t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 crio abundância em minha vida e na dos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ffff"/>
                </a:solidFill>
                <a:uFillTx/>
                <a:latin typeface="Calibri"/>
              </a:rPr>
              <a:t>Pergunte-se diari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Como posso servi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Como posso ajud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s respostas permitirão aju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seus semelhantes com a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0"/>
          <p:cNvSpPr/>
          <p:nvPr/>
        </p:nvSpPr>
        <p:spPr>
          <a:xfrm>
            <a:off x="1214280" y="1571760"/>
            <a:ext cx="6770880" cy="375156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ssumimos uma forma fís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ara cumprir um intento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nesta exist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Isso quer dizer que cada um de nó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presenta um tal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 uma maneira singular de expressá-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lgo que a gente pode fa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melhor que todo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0"/>
          <p:cNvSpPr/>
          <p:nvPr/>
        </p:nvSpPr>
        <p:spPr>
          <a:xfrm>
            <a:off x="1785960" y="976320"/>
            <a:ext cx="5715000" cy="448308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Dessa forma, trabalharemos com am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sem perceber o passar das h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É como tecer roupas com f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que vêm do coração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nsina o poeta Kalil Gilbra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Já parou um pouquin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ara pensar nis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final, sempre existe t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ara revolucionar 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aixaDeTexto 1" descr=""/>
          <p:cNvPicPr/>
          <p:nvPr/>
        </p:nvPicPr>
        <p:blipFill>
          <a:blip r:embed="rId1"/>
          <a:stretch/>
        </p:blipFill>
        <p:spPr>
          <a:xfrm>
            <a:off x="2419200" y="1736640"/>
            <a:ext cx="4157640" cy="1451160"/>
          </a:xfrm>
          <a:prstGeom prst="rect">
            <a:avLst/>
          </a:prstGeom>
          <a:ln w="0">
            <a:noFill/>
          </a:ln>
        </p:spPr>
      </p:pic>
      <p:pic>
        <p:nvPicPr>
          <p:cNvPr id="64" name="CaixaDeTexto 2" descr=""/>
          <p:cNvPicPr/>
          <p:nvPr/>
        </p:nvPicPr>
        <p:blipFill>
          <a:blip r:embed="rId2"/>
          <a:stretch/>
        </p:blipFill>
        <p:spPr>
          <a:xfrm>
            <a:off x="2139840" y="5462640"/>
            <a:ext cx="4797360" cy="663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ixaDeTexto 1"/>
          <p:cNvSpPr/>
          <p:nvPr/>
        </p:nvSpPr>
        <p:spPr>
          <a:xfrm>
            <a:off x="428760" y="2325600"/>
            <a:ext cx="8429400" cy="2226960"/>
          </a:xfrm>
          <a:prstGeom prst="rect">
            <a:avLst/>
          </a:prstGeom>
          <a:solidFill>
            <a:srgbClr val="eeec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Caso deseje receber mensagens deste site: envie uma mensagem para este endereç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nir Sattler Slides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colocando como assun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RECEBER MENSAGENS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1714680" y="928800"/>
            <a:ext cx="5786280" cy="484884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Observe a inteligência da natur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Sentir o perfume de uma fl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braçar uma árvore ou assistir ao pôr do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ode ajudar a entrar em cont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com todas as coisas viv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s ações descritas geram nas cél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memória que traz desejo de repeti-las dia após 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ssim o hábito tende a se introduz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spontane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 quietude por si só é o potencial da criativ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O movimento por si só é sua expre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0"/>
          <p:cNvSpPr/>
          <p:nvPr/>
        </p:nvSpPr>
        <p:spPr>
          <a:xfrm>
            <a:off x="1857240" y="1000080"/>
            <a:ext cx="5270760" cy="492192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ffff"/>
                </a:solidFill>
                <a:uFillTx/>
                <a:latin typeface="Calibri"/>
              </a:rPr>
              <a:t>Lei da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Tudo flui de maneira contínua no Univers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or isso acredite, dar e rece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são atitudes exemplares para quem quer garan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 magia das trocas em uma vida abunda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Diariamen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ffff"/>
                </a:solidFill>
                <a:uFillTx/>
                <a:latin typeface="Calibri"/>
              </a:rPr>
              <a:t>procure dar pres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 quem encont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 veja a energia flu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livre, leve e solta entre os dois po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1785960" y="1214280"/>
            <a:ext cx="5484960" cy="448308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Não importa o quê, mas a inten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ode ser uma palav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uma oração; uma flor; um sorri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Com isso, incentivará a circulação de energ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trazendo abundância e rique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ara si e para o outr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steja sempre aberto para rece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lgo que lhe deixe feli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resentes, dinhei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cumprimentos, or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0"/>
          <p:cNvSpPr/>
          <p:nvPr/>
        </p:nvSpPr>
        <p:spPr>
          <a:xfrm>
            <a:off x="1714680" y="1000080"/>
            <a:ext cx="5715000" cy="484884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gradeça as belezas que a natureza proporcio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como a luz solar; as flor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o barulho do mar; o canto dos pássar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o dar e receber, faça circ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s riquezas materiais e imateriais em su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m silêncio, sempre deseje feli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 alegria a quem encont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ffff"/>
                </a:solidFill>
                <a:uFillTx/>
                <a:latin typeface="Calibri"/>
              </a:rPr>
              <a:t>Quer alegria? Dê alegria. Quer amor? Dê amor.</a:t>
            </a:r>
            <a:br>
              <a:rPr sz="2000"/>
            </a:b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A mera idéia de dar, de abenço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de oferecer uma simples oração tem o po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de afetar a vida dos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0"/>
          <p:cNvSpPr/>
          <p:nvPr/>
        </p:nvSpPr>
        <p:spPr>
          <a:xfrm>
            <a:off x="1857240" y="928800"/>
            <a:ext cx="5342040" cy="528768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ffff"/>
                </a:solidFill>
                <a:uFillTx/>
                <a:latin typeface="Calibri"/>
              </a:rPr>
              <a:t>Lei da Causa e Ef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Quem semeia vento colhe tempest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Quem semeia felicidade colhe aleg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o escolher um ou outro caminh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 u="sng">
                <a:solidFill>
                  <a:srgbClr val="ffffff"/>
                </a:solidFill>
                <a:uFillTx/>
                <a:latin typeface="Calibri"/>
              </a:rPr>
              <a:t>você cria o futuro, que começa aqui e agora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Coloque em ação o princípio da causa e efei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com os seguintes pas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Observe as escolhas que fará e tenha noção de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Diariamente e a todo mo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leve em conta que preparar para o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significa se conscientizar do pres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"/>
          <p:cNvSpPr/>
          <p:nvPr/>
        </p:nvSpPr>
        <p:spPr>
          <a:xfrm>
            <a:off x="1928880" y="785880"/>
            <a:ext cx="5270400" cy="521460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rocure sempre responder as duas pergun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Quais serão as conseqüências desta op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ssa escolha trará satisfação e felic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 mim e aos outros afetados por e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Oriente-se pelas mensagens manifest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por seu corpo, principalmente o c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Sensações de conforto indicam a direção corr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Mesmo atitudes impensadas influenci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 energia ao nosso redor e, por extensão, o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0"/>
          <p:cNvSpPr/>
          <p:nvPr/>
        </p:nvSpPr>
        <p:spPr>
          <a:xfrm>
            <a:off x="1873080" y="928800"/>
            <a:ext cx="5342040" cy="4921920"/>
          </a:xfrm>
          <a:prstGeom prst="rect">
            <a:avLst/>
          </a:prstGeom>
          <a:solidFill>
            <a:srgbClr val="b511ad">
              <a:alpha val="30000"/>
            </a:srgbClr>
          </a:solidFill>
          <a:ln w="0">
            <a:noFill/>
          </a:ln>
          <a:effectLst>
            <a:outerShdw dist="17819" dir="2700000" blurRad="0" rotWithShape="0">
              <a:srgbClr val="bfc3a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ffff"/>
                </a:solidFill>
                <a:uFillTx/>
                <a:latin typeface="Calibri"/>
              </a:rPr>
              <a:t>Lei do Mínimo Esfor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 natureza transcorre como deve 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í reside sua sabed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ceitar os momentos que a vida tra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mesmo os difíce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é o caminho para transformá-los em benefí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ffff"/>
                </a:solidFill>
                <a:uFillTx/>
                <a:latin typeface="Calibri"/>
              </a:rPr>
              <a:t>Aceite o presente como deve s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dizendo diariamente:</a:t>
            </a:r>
            <a:br>
              <a:rPr sz="2000"/>
            </a:b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Hoje aceitarei pessoas, situações, circunstâ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e fatos como eles se manifesta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5:36:19Z</dcterms:created>
  <dc:creator>gamaliel</dc:creator>
  <dc:description/>
  <dc:language>en-US</dc:language>
  <cp:lastModifiedBy>Enir</cp:lastModifiedBy>
  <dcterms:modified xsi:type="dcterms:W3CDTF">2009-09-25T13:33:01Z</dcterms:modified>
  <cp:revision>10</cp:revision>
  <dc:subject/>
  <dc:title>Slide 1</dc:title>
</cp:coreProperties>
</file>