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wave_vergreen_barbara_strazer.wav" ContentType="audio/x-wav"/>
  <Override PartName="/ppt/media/image16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1751-82D6-4E12-9793-82F61F368E34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F96A-B881-4AB1-97DC-4B11CDC6C10D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F2FF-34C3-48D7-AC62-852645565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6BB4-9765-4EA4-BDEC-A1DB50A7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123D-92E0-4C9E-A206-5D66F4576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20D3-3238-4D9B-87F1-4224A88C2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73C2-8C21-4C0C-819A-B92C013E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90D1-1ECB-4D46-8E27-2494E870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1D91-EDE0-4753-B12E-7C42B820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4DDB-489C-4B05-B34D-D357D766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A289-E52F-4535-A671-F67DBC4B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F527-0407-4A75-813E-85DCAFBE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FAFD-77A7-4C2A-86FB-E78FA621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19E5-39E5-446E-8065-9E3CBBDA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D651-14CA-476A-885A-F3EF36BDA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ave_vergreen_barbara_strazer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ATT00001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071720" y="5435640"/>
            <a:ext cx="7238880" cy="151272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Uma professora de Nova York decidiu honrar cada um de seus alunos que estavam por se graduar no colégio, falando-lhes da marca que cada um deles havia deix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0" y="237960"/>
            <a:ext cx="914400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2252520" y="1905120"/>
            <a:ext cx="46389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wave_vergreen_barbara_straze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ATT00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7"/>
          <p:cNvSpPr/>
          <p:nvPr/>
        </p:nvSpPr>
        <p:spPr>
          <a:xfrm>
            <a:off x="1500120" y="4929120"/>
            <a:ext cx="6019920" cy="192888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 chefe pareceu ficar muito surpreso. Então o jovem executivo perguntou-lhe se aceitaria o presente da faixa azul e lhe dava permissão de colocá-la em sua cami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ATT00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7"/>
          <p:cNvSpPr/>
          <p:nvPr/>
        </p:nvSpPr>
        <p:spPr>
          <a:xfrm>
            <a:off x="1000080" y="5500800"/>
            <a:ext cx="7391520" cy="135720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 chefe disse: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“Bem…claro!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Então o  jovem executivo pegou uma das faixas azuis e colocou-a no casaco do chefe, bem sobre seu coração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ATT00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7"/>
          <p:cNvSpPr/>
          <p:nvPr/>
        </p:nvSpPr>
        <p:spPr>
          <a:xfrm>
            <a:off x="928800" y="5429160"/>
            <a:ext cx="7391160" cy="142884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e oferecendo-lhe a última faixa, perguntou: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“Poderia pegar esta  faixa extra e passá-la a alguém mais a quem queira premiar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ATT000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7"/>
          <p:cNvSpPr/>
          <p:nvPr/>
        </p:nvSpPr>
        <p:spPr>
          <a:xfrm>
            <a:off x="500040" y="5572080"/>
            <a:ext cx="8305920" cy="128592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O estudante que me deu estas faixas está  fazendo um projeto de aula, e queremos continuar esta cerimonia de reconhecimento para ver como vai afetar as pessoa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ATT000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7"/>
          <p:cNvSpPr/>
          <p:nvPr/>
        </p:nvSpPr>
        <p:spPr>
          <a:xfrm>
            <a:off x="571680" y="5500800"/>
            <a:ext cx="8305560" cy="135720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essa noite, o chefe chegou em casa, sentou- se com seu filho de 14 anos, e lhe disse: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“Hoje aconteceu-me algo incrível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ATT00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7"/>
          <p:cNvSpPr/>
          <p:nvPr/>
        </p:nvSpPr>
        <p:spPr>
          <a:xfrm>
            <a:off x="1214280" y="5448240"/>
            <a:ext cx="6782040" cy="140976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estava no meu escritório e um de meus empregados veio e disse que me admirava; então deu-me uma faixa azul por me considerar um génio criativ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ATT00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8"/>
          <p:cNvSpPr/>
          <p:nvPr/>
        </p:nvSpPr>
        <p:spPr>
          <a:xfrm>
            <a:off x="990720" y="5359320"/>
            <a:ext cx="7467480" cy="149868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Imagina! Ele pensa que eu sou um génio criativ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go pôs-me uma faixa azul que di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Quem sou deixa marca.’ 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ATT000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179280" y="5181480"/>
            <a:ext cx="8839440" cy="167652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Deu-me uma faixa extra e pediu-me que encontrasse alguém mais a quem premiar. Quando eu estava dirigindo para casa esta  noite, comecei a pensar a quem  poderia premiar com esta faixa, e pensei em ti. Quero premiar a ti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ATT000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1214280" y="5072040"/>
            <a:ext cx="7010640" cy="178596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Meus dias são muito agitados e quando venho para casa, não te dou muita atenção; grito contigo por não tirar boas notas e pela desordem em teu quarto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ATT000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7"/>
          <p:cNvSpPr/>
          <p:nvPr/>
        </p:nvSpPr>
        <p:spPr>
          <a:xfrm>
            <a:off x="179280" y="5786280"/>
            <a:ext cx="8839440" cy="107172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Por isso, esta noite, só quero sentar-me aquí e …bem… dizer-te que és muito importante para mim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ATT00002"/>
          <p:cNvPicPr/>
          <p:nvPr/>
        </p:nvPicPr>
        <p:blipFill>
          <a:blip r:embed="rId1"/>
          <a:stretch/>
        </p:blipFill>
        <p:spPr>
          <a:xfrm>
            <a:off x="0" y="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7"/>
          <p:cNvSpPr/>
          <p:nvPr/>
        </p:nvSpPr>
        <p:spPr>
          <a:xfrm>
            <a:off x="785880" y="5364000"/>
            <a:ext cx="7858080" cy="149400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hamou cada um dos estudantes à frente da classe, um a um. Primeiro, contou a cada um como haviam deixado marca na vida dela e na da tu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ATT000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177840" y="5715000"/>
            <a:ext cx="8839080" cy="114300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Tu e tua mãe são as pessoas mais importantes em minha vida. És um grande garoto e amo-te muito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ATT000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838080" y="5715000"/>
            <a:ext cx="7518600" cy="114300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 garoto surpreendido começou a soluçar e a chorar, e não conseguia parar. Todo o seu corpo trem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ATT000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7"/>
          <p:cNvSpPr/>
          <p:nvPr/>
        </p:nvSpPr>
        <p:spPr>
          <a:xfrm>
            <a:off x="642960" y="5000760"/>
            <a:ext cx="7823160" cy="185724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lhou para seu pai e entre lágrimas lhe disse: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“Papai, momentos atrás sentei-me em meu quarto e escrevi uma carta para ti e para mamãe, explicando porque tinha tirado minha vida, e pedia-vos que me perdoassem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ATT000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7"/>
          <p:cNvSpPr/>
          <p:nvPr/>
        </p:nvSpPr>
        <p:spPr>
          <a:xfrm>
            <a:off x="685800" y="5562720"/>
            <a:ext cx="7823160" cy="129528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Ia-me suicidar esta noite depois de vocês terem  dormido. Eu pensava que vocês não se importavam comig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ATT00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360360" y="5867280"/>
            <a:ext cx="8432640" cy="99072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A carta está lá em cima, mas não creio que eu vá precisar dela, depois de tudo o que conversamo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ATT00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7"/>
          <p:cNvSpPr/>
          <p:nvPr/>
        </p:nvSpPr>
        <p:spPr>
          <a:xfrm>
            <a:off x="1285920" y="5867280"/>
            <a:ext cx="6603840" cy="99072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 pai subiu ao segundo piso e encontrou a carta, sincera e cheia de angústia e 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ATT000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ATT000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7"/>
          <p:cNvSpPr/>
          <p:nvPr/>
        </p:nvSpPr>
        <p:spPr>
          <a:xfrm>
            <a:off x="857160" y="5429160"/>
            <a:ext cx="7670880" cy="142884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dia seguinte, o chefe regressou ao trabalho totalmente modificado. Já não estava amargurado, e empenhou-se em fazer todos os seus empregados saberem que cada um deles faz a diferenç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ATT000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7"/>
          <p:cNvSpPr/>
          <p:nvPr/>
        </p:nvSpPr>
        <p:spPr>
          <a:xfrm>
            <a:off x="0" y="5429160"/>
            <a:ext cx="9144000" cy="142884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or outro lado, o jovem executivo ajudou muitos outros jovens a planejarem suas carreiras, inclusive o filho do chefe, e nunca se esqueceu de recordar-lhes que eles deixavam marcas em sua v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ATT000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7"/>
          <p:cNvSpPr/>
          <p:nvPr/>
        </p:nvSpPr>
        <p:spPr>
          <a:xfrm>
            <a:off x="1643040" y="5638680"/>
            <a:ext cx="5791320" cy="121932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inda mais, o jovem e seus companheiros de classe aprenderam uma lição muito valio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ATT00003"/>
          <p:cNvPicPr/>
          <p:nvPr/>
        </p:nvPicPr>
        <p:blipFill>
          <a:blip r:embed="rId1"/>
          <a:stretch/>
        </p:blipFill>
        <p:spPr>
          <a:xfrm>
            <a:off x="0" y="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1000080" y="5364000"/>
            <a:ext cx="7238880" cy="149400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ogo presenteou cada um, com uma faixa azul, impressa com letras douradas, na qual se lia, “Quem sou deixa marca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ATT000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"/>
          <p:cNvSpPr/>
          <p:nvPr/>
        </p:nvSpPr>
        <p:spPr>
          <a:xfrm>
            <a:off x="1214280" y="5929200"/>
            <a:ext cx="6553440" cy="92880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Quem és, deixa mar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agora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6000" spc="-1" strike="noStrike">
                <a:solidFill>
                  <a:srgbClr val="ffffff"/>
                </a:solidFill>
                <a:latin typeface="Arial"/>
              </a:rPr>
              <a:t>Estou passando a faixa azul para ti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0004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quero que saibas qu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7200" spc="-1" strike="noStrike">
                <a:solidFill>
                  <a:srgbClr val="ffffff"/>
                </a:solidFill>
                <a:latin typeface="Arial"/>
              </a:rPr>
              <a:t>tu és importante,</a:t>
            </a:r>
            <a:r>
              <a:rPr b="0" lang="pt-PT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4400" spc="-1" strike="noStrike">
                <a:solidFill>
                  <a:srgbClr val="ffffff"/>
                </a:solidFill>
                <a:latin typeface="Arial"/>
              </a:rPr>
              <a:t>ou  não terias recebido isto</a:t>
            </a:r>
            <a:r>
              <a:rPr b="0" lang="pt-PT" sz="4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5"/>
          <p:cNvSpPr txBox="1"/>
          <p:nvPr/>
        </p:nvSpPr>
        <p:spPr>
          <a:xfrm>
            <a:off x="611280" y="2924280"/>
            <a:ext cx="68482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Quem és, deixa marca!</a:t>
            </a:r>
            <a:endParaRPr b="0" lang="en-US" sz="6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blue_flower_wallpaper"/>
          <p:cNvPicPr/>
          <p:nvPr/>
        </p:nvPicPr>
        <p:blipFill>
          <a:blip r:embed="rId1"/>
          <a:stretch/>
        </p:blipFill>
        <p:spPr>
          <a:xfrm>
            <a:off x="324000" y="260280"/>
            <a:ext cx="8534160" cy="63993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500040" y="1357200"/>
            <a:ext cx="8077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00"/>
                </a:solidFill>
                <a:latin typeface="Arial"/>
              </a:rPr>
              <a:t>E o jovem rapaz e seus companheiros de classe aprenderam uma lição muito valio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ffff00"/>
                </a:solidFill>
                <a:latin typeface="Arial"/>
              </a:rPr>
              <a:t>Quem és, deixa mar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c000"/>
                </a:solidFill>
                <a:latin typeface="Agency FB"/>
              </a:rPr>
              <a:t>Não tens nenhuma obrigação de enviar isto a alguém... Podes deletar ou passar adiante esta mensagem. Mas, se tens alguém que significa muito para ti, recomendo que lhe envies a mensagem, fazendo essa pessoa saber qu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c000"/>
                </a:solidFill>
                <a:latin typeface="Agency FB"/>
              </a:rPr>
              <a:t>para ti, ela faz a diferença.</a:t>
            </a:r>
            <a:r>
              <a:rPr b="1" lang="pt-PT" sz="2800" spc="-1" strike="noStrike">
                <a:solidFill>
                  <a:srgbClr val="ffc000"/>
                </a:solidFill>
                <a:latin typeface="Agency FB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gency FB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00"/>
                </a:solidFill>
                <a:latin typeface="Agency FB"/>
              </a:rPr>
              <a:t>Nunca sabemos a diferença que um pouco de motivação pode fazer  a uma pesso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4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750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920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200"/>
                            </p:stCondLst>
                            <p:childTnLst>
                              <p:par>
                                <p:cTn id="34" nodeType="after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500720"/>
          </a:xfrm>
          <a:prstGeom prst="rect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162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6000" spc="-1" strike="noStrike">
                <a:solidFill>
                  <a:srgbClr val="9900cc"/>
                </a:solidFill>
                <a:latin typeface="Arial"/>
              </a:rPr>
              <a:t>Que tenhas um dia maravilhoso e saibas que alguém hoje pensou em ti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ATT00004"/>
          <p:cNvPicPr/>
          <p:nvPr/>
        </p:nvPicPr>
        <p:blipFill>
          <a:blip r:embed="rId1"/>
          <a:stretch/>
        </p:blipFill>
        <p:spPr>
          <a:xfrm>
            <a:off x="0" y="0"/>
            <a:ext cx="9215280" cy="6842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ATT00005"/>
          <p:cNvPicPr/>
          <p:nvPr/>
        </p:nvPicPr>
        <p:blipFill>
          <a:blip r:embed="rId1"/>
          <a:stretch/>
        </p:blipFill>
        <p:spPr>
          <a:xfrm>
            <a:off x="0" y="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7"/>
          <p:cNvSpPr/>
          <p:nvPr/>
        </p:nvSpPr>
        <p:spPr>
          <a:xfrm>
            <a:off x="1143000" y="5562720"/>
            <a:ext cx="7238880" cy="129528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or fim, a mestra decidiu fazer um projeto de aula para ver o impacto que o reconhecimento teria na comunidad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ATT00006"/>
          <p:cNvPicPr/>
          <p:nvPr/>
        </p:nvPicPr>
        <p:blipFill>
          <a:blip r:embed="rId1"/>
          <a:stretch/>
        </p:blipFill>
        <p:spPr>
          <a:xfrm>
            <a:off x="0" y="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7"/>
          <p:cNvSpPr/>
          <p:nvPr/>
        </p:nvSpPr>
        <p:spPr>
          <a:xfrm>
            <a:off x="928800" y="4788000"/>
            <a:ext cx="7391160" cy="208764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u a cada aluno mais três faixas azuis e pediu-lhes que levassem adiante esta  cerimónia de reconhecimento. E que deveriam acompanhar os resultados, ver quem premiou quem, e informar à turma no final de uma sem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ATT00007"/>
          <p:cNvPicPr/>
          <p:nvPr/>
        </p:nvPicPr>
        <p:blipFill>
          <a:blip r:embed="rId1"/>
          <a:stretch/>
        </p:blipFill>
        <p:spPr>
          <a:xfrm>
            <a:off x="0" y="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8"/>
          <p:cNvSpPr/>
          <p:nvPr/>
        </p:nvSpPr>
        <p:spPr>
          <a:xfrm>
            <a:off x="784080" y="5219640"/>
            <a:ext cx="7453440" cy="169236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Um dos alunos foi ver um jovem executiv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 uma indústria próxima e premiou-o por tê-lo ajudado com o planejamento de sua carreira. Deu-lhe uma faixa azul, e colou-a em sua cami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ATT00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7"/>
          <p:cNvSpPr/>
          <p:nvPr/>
        </p:nvSpPr>
        <p:spPr>
          <a:xfrm>
            <a:off x="428760" y="5143680"/>
            <a:ext cx="7848360" cy="171432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Em seguida deu-lhe as duas faixas extras e disse-lhe: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“Estamos fazendo em aula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um projeto de... ‘reconhecimento’, e gostaríamos que você encontrasse alguém a quem premiar e lhe desse uma faixa azul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ATT00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785880" y="5072040"/>
            <a:ext cx="7391160" cy="178596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ais tarde, nesse mesmo dia, o jovem executivo foi ver seu chefe que tinha reputação de ser uma pessoa amargurada, e disse-lhe que o admirava profundamente por ser um génio cri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08:17:04Z</dcterms:created>
  <dc:creator>lmata</dc:creator>
  <dc:description>recebida pela internet com um mix de texto traduzido de espanhol e inglês. Em 2010/06/08, editei o texto para português e sonorizei com vergreen_barbara_ strazer.wav, holistica2000@gmail.com</dc:description>
  <dc:language>en-US</dc:language>
  <cp:lastModifiedBy>Ivo Garcia</cp:lastModifiedBy>
  <dcterms:modified xsi:type="dcterms:W3CDTF">2010-06-08T14:04:47Z</dcterms:modified>
  <cp:revision>53</cp:revision>
  <dc:subject/>
  <dc:title>Diapositiva 1</dc:title>
</cp:coreProperties>
</file>