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F1B-E399-4BB7-AA20-11F74335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E55-8773-4E45-BD0E-4F96256C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3DD-9110-42CA-840B-960422D1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79B-24CE-4BC3-9C25-E97C5737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9D3-693F-4E34-B3E1-FE7E00E1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B8A-DE52-4012-B087-A15B0A82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88E-0EE8-4282-9309-077D741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971-07FB-4B93-B89D-18EBD9B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C45-5EEE-4246-A7B0-8A685BD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841-D11E-4BCD-9840-929AA8A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F2A-0C53-4368-A401-89FF21F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B68-2C6C-42D8-9088-96468C4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2F96-EAD9-42B8-861D-4C6D49AA32A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343160"/>
            <a:ext cx="8064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x-pesquisador da Nasa ensina como se livrar da poluição em ambientes inte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4365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Cristina Almeid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 para o UOL Ciência e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92480" y="333360"/>
            <a:ext cx="382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mambaia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ephrolepis exalta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umidifica o ar e neutraliza o formalde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91120" cy="3044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191120" cy="3044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3200" y="4336920"/>
            <a:ext cx="2962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ênix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hoenix roebeleni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: eficaz contra o x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858920" y="4292280"/>
            <a:ext cx="3683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odendro: eficaz contra formoldeido, benzeno e monóxido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4190760" cy="3044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91120" cy="3044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3200" y="1341360"/>
            <a:ext cx="33224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r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edera heli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: eficaz contra o formalde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489200" y="764640"/>
            <a:ext cx="32511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ada de São Jorge: pode ser usada no quarto porque libera oxigênio à no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91120" cy="304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02320" y="3500280"/>
            <a:ext cx="4190760" cy="3044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4437000"/>
            <a:ext cx="3467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bos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loe vera barbadens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: outra planta que pode ser usada no qu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42560" y="980640"/>
            <a:ext cx="7643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írio-da-paz: eficaz contra álcool, acetona, tricloroetileno, benzeno e formalde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25600" y="2852640"/>
            <a:ext cx="419112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5690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que uma nave espacial, uma casa e uma empresa têm em comum? A resposta é a existência de várias substâncias voláteis químicas capazes de fazer com que o ar que se respira nesses ambientes seja até dez vezes mais poluído do que o ar externo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istas afirmam que nesses locais há uma forte concentração de elementos altamente poluentes, o que pode ser a causa de alergias e asma, entre outras patologias mais gr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engenheiro ambiental Bill Wolverton, ex-pesquisador da Nasa, explica que, durante as missões da base espacial Skylab, mais de 100 tipos de substâncias poluidoras foram encontradas dentro das naves espaciais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r dessa descoberta, a U.S. Environmental Protection Agency (EPA - Agência de Proteção Ambiental dos Estados Unidos), vistoriou prédios públicos como escritórios, hospitais e creches, e neles identificou mais de 900 poluentes transportados pelo 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elemento prevalecente era o formaldeído (formol). Altamente tóxico, esse composto tido como cancerígeno é utilizado em vários materiais de construção e também em móveis, vidros, espelhos, roupas e até no papel higiênico. Além desse gás, as pesquisas revelaram a presença de benzeno, xileno e tricloroetileno, (componentes de tintas, monitores, tapeçarias, fotocopiadoras e cigarros), bem como do clorofórmio (encontrado na água potável), amoníaco, álcool e acetona (carpetes e cosméticos), todos nocivos à saú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iltros naturais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olução foi encontrada na própria natureza. Os pesquisadores identificaram várias plantas de fácil cultivo em locais com pouca luz, cujos filtros naturais são capazes de neutralizar a poluição interna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as espécies podem ser utilizadas para esse fim, como a dracena, a samambaia e a babosa, mas as mais eficientes entre as plantas são a palmeiras areca e ráfis, de baixo custo e muito conhecidas por suas qualidades ornament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358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bora essas duas espécies se destaquem, o engenheiro americano esclarece que todas as plantas são capazes de remover poluentes transportados pelo ar. E isso ocorre porque "as folhas das plantas podem absorver certas substâncias químicas orgânicas, destruindo-as por meio de um processo chamado colapso metabólico, o que foi provado por um grupo de cientistas alemães que testou o formaldeído com o carbono-14, observando sua absorção e destruição metabólica dentro do clorófito (pigmentação verde)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O formaldeído é metabolizado e convertido em ácidos orgânicos, açúcares e ácidos de amido: quando as plantas transpiram vapor de água por meio de suas folhas, elas puxam o ar para as raízes. Isso nutre os micróbios com oxigênio, que consomem as substâncias químicas tóxicas contidas no ar, que lhes servem como fonte de alimento e energia", esclarece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05920" y="531360"/>
            <a:ext cx="8758440" cy="62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sos de água</a:t>
            </a:r>
            <a:br>
              <a:rPr sz="2800"/>
            </a:br>
            <a:br>
              <a:rPr sz="20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melhorar a qualidade do ar em casas e escritórios, Wolverton sugere a utilização do maior número de plantas que um determinado espaço permita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 recomenda que as plantas sejam cultivadas por meio da hidrocultura (hidroponia). "Nossos estudos revelaram que plantas cultivadas na água são mais eficientes na redução do transporte de fungos e bactérias do que as cultivadas em terra". O ideal, segundo o especialista, é ter uma planta para cada 9,29 m² quando cultivadas em hidrocultura, e duas no mesmo espaço, quando se utilizam vasos de terr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3313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meira areca: assim como a ráfis, neutraliza a maioria dos agentes polu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191120" cy="3044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190760" cy="3048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53200" y="4121280"/>
            <a:ext cx="310644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racena: eficaz contra formaldeído, xileno e tricloro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8:23:38Z</dcterms:created>
  <dc:creator>Simone</dc:creator>
  <dc:description/>
  <dc:language>en-US</dc:language>
  <cp:lastModifiedBy>Simone</cp:lastModifiedBy>
  <dcterms:modified xsi:type="dcterms:W3CDTF">2009-06-10T13:53:45Z</dcterms:modified>
  <cp:revision>4</cp:revision>
  <dc:subject/>
  <dc:title>Slide 1</dc:title>
</cp:coreProperties>
</file>