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5.png" ContentType="image/png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2.gif" ContentType="image/gif"/>
  <Override PartName="/ppt/media/image18.jpeg" ContentType="image/jpeg"/>
  <Override PartName="/ppt/media/image20.jpeg" ContentType="image/jpeg"/>
  <Override PartName="/ppt/media/image21.jpeg" ContentType="image/jpeg"/>
  <Override PartName="/ppt/media/image17.gif" ContentType="image/gif"/>
  <Override PartName="/ppt/media/image16.jpeg" ContentType="image/jpeg"/>
  <Override PartName="/ppt/media/image39.gif" ContentType="image/gif"/>
  <Override PartName="/ppt/media/image14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8.jpeg" ContentType="image/jpeg"/>
  <Override PartName="/ppt/media/image29.jpeg" ContentType="image/jpeg"/>
  <Override PartName="/ppt/media/image45.jpeg" ContentType="image/jpeg"/>
  <Override PartName="/ppt/media/image10.gif" ContentType="image/gif"/>
  <Override PartName="/ppt/media/image41.gif" ContentType="image/gif"/>
  <Override PartName="/ppt/media/image12.jpeg" ContentType="image/jpeg"/>
  <Override PartName="/ppt/media/image11.gif" ContentType="image/gif"/>
  <Override PartName="/ppt/media/image30.gif" ContentType="image/gif"/>
  <Override PartName="/ppt/media/image31.jpeg" ContentType="image/jpeg"/>
  <Override PartName="/ppt/media/image15.gif" ContentType="image/gif"/>
  <Override PartName="/ppt/media/image37.png" ContentType="image/png"/>
  <Override PartName="/ppt/media/image34.jpeg" ContentType="image/jpeg"/>
  <Override PartName="/ppt/media/image44.gif" ContentType="image/gif"/>
  <Override PartName="/ppt/media/image5.png" ContentType="image/png"/>
  <Override PartName="/ppt/media/image43.jpeg" ContentType="image/jpeg"/>
  <Override PartName="/ppt/media/Ameno%20-%20Tamiflu%20%20==%20.wav" ContentType="audio/x-wav"/>
  <Override PartName="/ppt/media/image33.jpeg" ContentType="image/jpeg"/>
  <Override PartName="/ppt/media/image4.gif" ContentType="image/gif"/>
  <Override PartName="/ppt/media/image1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26.png" ContentType="image/png"/>
  <Override PartName="/ppt/media/image35.gif" ContentType="image/gif"/>
  <Override PartName="/ppt/media/image28.png" ContentType="image/png"/>
  <Override PartName="/ppt/media/image7.jpeg" ContentType="image/jpeg"/>
  <Override PartName="/ppt/media/image38.jpeg" ContentType="image/jpe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158-9E6B-4DBA-A63F-42975926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3B1-CB77-4BD8-92B9-08649910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722-BCF8-4FEF-ABF8-FD021BB5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CA8-0661-438B-AE15-7A6F8184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F09-40F9-4FB3-98F2-EE01753C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B88-078E-4865-8980-AA82438B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DC2-7E2E-4973-81FB-D4770A14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C13-E23A-46BE-A968-43AAC4D0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63C-6C30-4B0C-B578-1A057753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185-24CB-40D2-9539-15566F5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B70-01D0-44AE-930B-A6125FF7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462-4C11-4CF7-96A3-C5BB9AE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EDC1-687F-4387-AE43-A3BD139AD9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audio" Target="../media/Ameno%20-%20Tamiflu%20%20==%20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spaço Reservado para Conteúdo 3" descr="Selva Amazônica.jpg"/>
          <p:cNvPicPr/>
          <p:nvPr/>
        </p:nvPicPr>
        <p:blipFill>
          <a:blip r:embed="rId1"/>
          <a:stretch/>
        </p:blipFill>
        <p:spPr>
          <a:xfrm>
            <a:off x="142920" y="187200"/>
            <a:ext cx="8858160" cy="645660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8929440" y="6572160"/>
            <a:ext cx="2142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-137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78688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i="1" lang="en-US" sz="8000" spc="-1" strike="noStrike">
                <a:solidFill>
                  <a:srgbClr val="ff0000"/>
                </a:solidFill>
                <a:latin typeface="Calibri"/>
              </a:rPr>
              <a:t>O grito da Terra!</a:t>
            </a:r>
            <a:br>
              <a:rPr sz="8000"/>
            </a:br>
            <a:br>
              <a:rPr sz="8000"/>
            </a:br>
            <a:br>
              <a:rPr sz="2400"/>
            </a:br>
            <a:br>
              <a:rPr sz="2400"/>
            </a:b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4200" y="2214360"/>
            <a:ext cx="8715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Envenenar a Terra,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é o mesmo que envenenar 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alibri"/>
              </a:rPr>
              <a:t>Placenta,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que está alimentando teu filho”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86280" y="5857920"/>
            <a:ext cx="31435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ffff"/>
                </a:solidFill>
                <a:latin typeface="Calibri"/>
              </a:rPr>
              <a:t>Transição automática dos slid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7" descr="http://www.webdeveloper.com/animations/bnifiles/music.gif"/>
          <p:cNvPicPr/>
          <p:nvPr/>
        </p:nvPicPr>
        <p:blipFill>
          <a:blip r:embed="rId2"/>
          <a:stretch/>
        </p:blipFill>
        <p:spPr>
          <a:xfrm>
            <a:off x="285840" y="60721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D:\Meus documentos\G I F s - Animadas\GIFS\Aves e Pássaros\aves07.gif"/>
          <p:cNvPicPr/>
          <p:nvPr/>
        </p:nvPicPr>
        <p:blipFill>
          <a:blip r:embed="rId3"/>
          <a:stretch/>
        </p:blipFill>
        <p:spPr>
          <a:xfrm>
            <a:off x="-2058840" y="4365720"/>
            <a:ext cx="2058840" cy="81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D:\Meus documentos\G I F s - Animadas\GIFS\Aves e Pássaros\ave12.gif"/>
          <p:cNvPicPr/>
          <p:nvPr/>
        </p:nvPicPr>
        <p:blipFill>
          <a:blip r:embed="rId4"/>
          <a:stretch/>
        </p:blipFill>
        <p:spPr>
          <a:xfrm>
            <a:off x="-1136520" y="4437000"/>
            <a:ext cx="113652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3000"/>
                            </p:stCondLst>
                            <p:childTnLst>
                              <p:par>
                                <p:cTn id="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Espaço Reservado para Conteúdo 3" descr="Floresta amazonica.jpg"/>
          <p:cNvPicPr/>
          <p:nvPr/>
        </p:nvPicPr>
        <p:blipFill>
          <a:blip r:embed="rId1"/>
          <a:stretch/>
        </p:blipFill>
        <p:spPr>
          <a:xfrm>
            <a:off x="155520" y="214200"/>
            <a:ext cx="8815320" cy="6429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7640" y="357120"/>
            <a:ext cx="450216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A assolação estendeu-se 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sobre meu corpo.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Lançaram fogo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  sobre minhas vestes...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Poucos correm 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para socorrer-me.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Muitos estão cegos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 e insensíveis. 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Observam-me 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agonizando, 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enquanto contam  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seus lucros insaciávei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5" descr="D:\Meus documentos\G I F s - Animadas\GIFS\Fogo\fire01.gif"/>
          <p:cNvPicPr/>
          <p:nvPr/>
        </p:nvPicPr>
        <p:blipFill>
          <a:blip r:embed="rId2"/>
          <a:stretch/>
        </p:blipFill>
        <p:spPr>
          <a:xfrm>
            <a:off x="4929120" y="5357880"/>
            <a:ext cx="362160" cy="59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:\Meus documentos\G I F s - Animadas\GIFS\Fogo\fire01.gif"/>
          <p:cNvPicPr/>
          <p:nvPr/>
        </p:nvPicPr>
        <p:blipFill>
          <a:blip r:embed="rId3"/>
          <a:stretch/>
        </p:blipFill>
        <p:spPr>
          <a:xfrm>
            <a:off x="4572000" y="5429160"/>
            <a:ext cx="361800" cy="590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D:\Meus documentos\G I F s - Animadas\GIFS\Fogo\fire01.gif"/>
          <p:cNvPicPr/>
          <p:nvPr/>
        </p:nvPicPr>
        <p:blipFill>
          <a:blip r:embed="rId4"/>
          <a:stretch/>
        </p:blipFill>
        <p:spPr>
          <a:xfrm>
            <a:off x="3857760" y="5500800"/>
            <a:ext cx="361800" cy="59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:\Meus documentos\G I F s - Animadas\GIFS\Fogo\fire01.gif"/>
          <p:cNvPicPr/>
          <p:nvPr/>
        </p:nvPicPr>
        <p:blipFill>
          <a:blip r:embed="rId5"/>
          <a:stretch/>
        </p:blipFill>
        <p:spPr>
          <a:xfrm>
            <a:off x="2786040" y="5643720"/>
            <a:ext cx="361800" cy="590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:\Meus documentos\G I F s - Animadas\GIFS\Fogo\fire01.gif"/>
          <p:cNvPicPr/>
          <p:nvPr/>
        </p:nvPicPr>
        <p:blipFill>
          <a:blip r:embed="rId6"/>
          <a:stretch/>
        </p:blipFill>
        <p:spPr>
          <a:xfrm>
            <a:off x="2071800" y="5643720"/>
            <a:ext cx="361800" cy="590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:\Meus documentos\G I F s - Animadas\GIFS\Fogo\fire01.gif"/>
          <p:cNvPicPr/>
          <p:nvPr/>
        </p:nvPicPr>
        <p:blipFill>
          <a:blip r:embed="rId7"/>
          <a:stretch/>
        </p:blipFill>
        <p:spPr>
          <a:xfrm>
            <a:off x="1428840" y="5643720"/>
            <a:ext cx="361800" cy="59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D:\Meus documentos\G I F s - Animadas\GIFS\Fogo\fire01.gif"/>
          <p:cNvPicPr/>
          <p:nvPr/>
        </p:nvPicPr>
        <p:blipFill>
          <a:blip r:embed="rId8"/>
          <a:stretch/>
        </p:blipFill>
        <p:spPr>
          <a:xfrm>
            <a:off x="3214800" y="5715000"/>
            <a:ext cx="36180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Espaço Reservado para Conteúdo 5" descr="acid-rain-3.jpg"/>
          <p:cNvPicPr/>
          <p:nvPr/>
        </p:nvPicPr>
        <p:blipFill>
          <a:blip r:embed="rId1"/>
          <a:stretch/>
        </p:blipFill>
        <p:spPr>
          <a:xfrm>
            <a:off x="176040" y="214200"/>
            <a:ext cx="8805960" cy="6429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3645000"/>
            <a:ext cx="8715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Estou sendo vergonhosamente atacada e dizimada,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pela implacável crueldade humana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Antes, minha chuva molhava as plantações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Agora a chuva ácida, é provocada pelo homem, exterminando minhas vegetações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Espaço Reservado para Conteúdo 3" descr="Hidroel..jpg"/>
          <p:cNvPicPr/>
          <p:nvPr/>
        </p:nvPicPr>
        <p:blipFill>
          <a:blip r:embed="rId1"/>
          <a:stretch/>
        </p:blipFill>
        <p:spPr>
          <a:xfrm>
            <a:off x="185760" y="208080"/>
            <a:ext cx="8744040" cy="643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64396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alibri"/>
              </a:rPr>
              <a:t>Hidrelétricas possantes são construídas.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alibri"/>
              </a:rPr>
              <a:t>Mas, a fauna, flora e rios, são sacrificados...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alibri"/>
              </a:rPr>
              <a:t>As águas dos rios e dos mares,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alibri"/>
              </a:rPr>
              <a:t>formam o meu sangue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spaço Reservado para Conteúdo 5" descr="Terra...1.jpg"/>
          <p:cNvPicPr/>
          <p:nvPr/>
        </p:nvPicPr>
        <p:blipFill>
          <a:blip r:embed="rId1"/>
          <a:stretch/>
        </p:blipFill>
        <p:spPr>
          <a:xfrm>
            <a:off x="2428920" y="214200"/>
            <a:ext cx="6715080" cy="5446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571920"/>
            <a:ext cx="41418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A camada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de ozônio,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minha proteção natural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a teu favor,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oi violentamente agredida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Espaço Reservado para Conteúdo 11" descr="Poluição......jpg"/>
          <p:cNvPicPr/>
          <p:nvPr/>
        </p:nvPicPr>
        <p:blipFill>
          <a:blip r:embed="rId1"/>
          <a:stretch/>
        </p:blipFill>
        <p:spPr>
          <a:xfrm>
            <a:off x="142920" y="1071720"/>
            <a:ext cx="8858160" cy="5572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4" name="Picture 4" descr="D:\Meus documentos\G I F s - Animadas\GIFS\Aves e Pássaros\AVES VOANDO EM GRUPO.gif"/>
          <p:cNvPicPr/>
          <p:nvPr/>
        </p:nvPicPr>
        <p:blipFill>
          <a:blip r:embed="rId2"/>
          <a:stretch/>
        </p:blipFill>
        <p:spPr>
          <a:xfrm>
            <a:off x="214200" y="2000160"/>
            <a:ext cx="4357800" cy="88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:\Meus documentos\G I F s - Animadas\GIFS\Insetos - Lagarta e Aranhas\mosca_01.gif"/>
          <p:cNvPicPr/>
          <p:nvPr/>
        </p:nvPicPr>
        <p:blipFill>
          <a:blip r:embed="rId3"/>
          <a:stretch/>
        </p:blipFill>
        <p:spPr>
          <a:xfrm>
            <a:off x="4071960" y="4221000"/>
            <a:ext cx="357120" cy="312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:\Meus documentos\G I F s - Animadas\GIFS\Insetos - Lagarta e Aranhas\mosca04.gif"/>
          <p:cNvPicPr/>
          <p:nvPr/>
        </p:nvPicPr>
        <p:blipFill>
          <a:blip r:embed="rId4"/>
          <a:stretch/>
        </p:blipFill>
        <p:spPr>
          <a:xfrm rot="9034200">
            <a:off x="2133360" y="432900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D:\Meus documentos\G I F s - Animadas\GIFS\Insetos - Lagarta e Aranhas\mosca04.gif"/>
          <p:cNvPicPr/>
          <p:nvPr/>
        </p:nvPicPr>
        <p:blipFill>
          <a:blip r:embed="rId5"/>
          <a:stretch/>
        </p:blipFill>
        <p:spPr>
          <a:xfrm rot="7887600">
            <a:off x="2084040" y="5175000"/>
            <a:ext cx="389160" cy="246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D:\Meus documentos\G I F s - Animadas\GIFS\Insetos - Lagarta e Aranhas\mosca04.gif"/>
          <p:cNvPicPr/>
          <p:nvPr/>
        </p:nvPicPr>
        <p:blipFill>
          <a:blip r:embed="rId6"/>
          <a:stretch/>
        </p:blipFill>
        <p:spPr>
          <a:xfrm rot="20220600">
            <a:off x="3703680" y="57754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:\Meus documentos\G I F s - Animadas\GIFS\Insetos - Lagarta e Aranhas\mosca04.gif"/>
          <p:cNvPicPr/>
          <p:nvPr/>
        </p:nvPicPr>
        <p:blipFill>
          <a:blip r:embed="rId7"/>
          <a:stretch/>
        </p:blipFill>
        <p:spPr>
          <a:xfrm rot="1726800">
            <a:off x="1141200" y="511452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D:\Meus documentos\G I F s - Animadas\GIFS\Insetos - Lagarta e Aranhas\mosca04.gif"/>
          <p:cNvPicPr/>
          <p:nvPr/>
        </p:nvPicPr>
        <p:blipFill>
          <a:blip r:embed="rId8"/>
          <a:stretch/>
        </p:blipFill>
        <p:spPr>
          <a:xfrm rot="5975400">
            <a:off x="1713600" y="5785560"/>
            <a:ext cx="384120" cy="382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Asfixiam-me com detritos e gases (monóxido de carbono)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(Pequenos atos de educação, não jogando papel no chão, ou lixo nos córregos, já me ajudaria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5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A poluição desenfreada, me contamina e me envenena, lentamente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Muitos seres estão pagando, com a própria vida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O homem pensa muito, em si mesm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Espaço Reservado para Conteúdo 3" descr="0505.jpg"/>
          <p:cNvPicPr/>
          <p:nvPr/>
        </p:nvPicPr>
        <p:blipFill>
          <a:blip r:embed="rId1"/>
          <a:stretch/>
        </p:blipFill>
        <p:spPr>
          <a:xfrm>
            <a:off x="214200" y="1714680"/>
            <a:ext cx="8715600" cy="4940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4" name="Picture 5" descr="D:\Meus documentos\G I F s - Animadas\GIFS\Aves e Pássaros\Pássaro voando - yoiso03.gif"/>
          <p:cNvPicPr/>
          <p:nvPr/>
        </p:nvPicPr>
        <p:blipFill>
          <a:blip r:embed="rId2"/>
          <a:stretch/>
        </p:blipFill>
        <p:spPr>
          <a:xfrm>
            <a:off x="6357960" y="1857240"/>
            <a:ext cx="977760" cy="3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spaço Reservado para Conteúdo 3" descr="Guerra =-=.jpg"/>
          <p:cNvPicPr/>
          <p:nvPr/>
        </p:nvPicPr>
        <p:blipFill>
          <a:blip r:embed="rId1"/>
          <a:stretch/>
        </p:blipFill>
        <p:spPr>
          <a:xfrm>
            <a:off x="142920" y="162000"/>
            <a:ext cx="8858160" cy="648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450072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Calibri"/>
              </a:rPr>
              <a:t>Sinto-me sozinha e indefesa.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Calibri"/>
              </a:rPr>
              <a:t>Bombas atômicas 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Calibri"/>
              </a:rPr>
              <a:t>são explodidas impiedosamente.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Calibri"/>
              </a:rPr>
              <a:t>Testes nucleares 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Calibri"/>
              </a:rPr>
              <a:t>são constantemente 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Calibri"/>
              </a:rPr>
              <a:t>realizados sobre mim.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Calibri"/>
              </a:rPr>
              <a:t> Mísseis e outros artesanatos nocivos são desenvolvidos, 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Calibri"/>
              </a:rPr>
              <a:t>com a intenção de matar.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4" descr="D:\Meus documentos\G I F s - Animadas\GIFS\Avulsos\Bomba atômica - 204.gif"/>
          <p:cNvPicPr/>
          <p:nvPr/>
        </p:nvPicPr>
        <p:blipFill>
          <a:blip r:embed="rId2"/>
          <a:stretch/>
        </p:blipFill>
        <p:spPr>
          <a:xfrm>
            <a:off x="4140360" y="4653000"/>
            <a:ext cx="1285560" cy="19954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Espaço Reservado para Conteúdo 3" descr="degelo.jpg"/>
          <p:cNvPicPr/>
          <p:nvPr/>
        </p:nvPicPr>
        <p:blipFill>
          <a:blip r:embed="rId1"/>
          <a:stretch/>
        </p:blipFill>
        <p:spPr>
          <a:xfrm>
            <a:off x="146160" y="2286000"/>
            <a:ext cx="8854920" cy="4357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2800"/>
            </a:br>
            <a:br>
              <a:rPr sz="2800"/>
            </a:br>
            <a:r>
              <a:rPr b="1" i="1" lang="en-US" sz="2300" spc="-1" strike="noStrike">
                <a:solidFill>
                  <a:srgbClr val="ffffff"/>
                </a:solidFill>
                <a:latin typeface="Calibri"/>
              </a:rPr>
              <a:t>Minha superfície e biosfera, estão desequilibradas.</a:t>
            </a:r>
            <a:br>
              <a:rPr sz="2300"/>
            </a:br>
            <a:r>
              <a:rPr b="1" i="1" lang="en-US" sz="2300" spc="-1" strike="noStrike">
                <a:solidFill>
                  <a:srgbClr val="ffffff"/>
                </a:solidFill>
                <a:latin typeface="Calibri"/>
              </a:rPr>
              <a:t>Já não sou a mesma jovem do passado, sinto-me fraca.</a:t>
            </a:r>
            <a:br>
              <a:rPr sz="2300"/>
            </a:br>
            <a:r>
              <a:rPr b="1" i="1" lang="en-US" sz="2300" spc="-1" strike="noStrike">
                <a:solidFill>
                  <a:srgbClr val="ffffff"/>
                </a:solidFill>
                <a:latin typeface="Calibri"/>
              </a:rPr>
              <a:t>Não consigo mais controlar minhas reações.</a:t>
            </a:r>
            <a:br>
              <a:rPr sz="2300"/>
            </a:br>
            <a:r>
              <a:rPr b="1" i="1" lang="en-US" sz="2300" spc="-1" strike="noStrike">
                <a:solidFill>
                  <a:srgbClr val="ffffff"/>
                </a:solidFill>
                <a:latin typeface="Calibri"/>
              </a:rPr>
              <a:t>As vezes tenho tremores e sinto calores intensos, </a:t>
            </a:r>
            <a:br>
              <a:rPr sz="2300"/>
            </a:br>
            <a:r>
              <a:rPr b="1" i="1" lang="en-US" sz="2300" spc="-1" strike="noStrike">
                <a:solidFill>
                  <a:srgbClr val="ffffff"/>
                </a:solidFill>
                <a:latin typeface="Calibri"/>
              </a:rPr>
              <a:t>que não consigo esconder.</a:t>
            </a:r>
            <a:br>
              <a:rPr sz="2800"/>
            </a:br>
            <a:br>
              <a:rPr sz="2800"/>
            </a:b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Espaço Reservado para Conteúdo 7" descr="degelo ==02.jpg"/>
          <p:cNvPicPr/>
          <p:nvPr/>
        </p:nvPicPr>
        <p:blipFill>
          <a:blip r:embed="rId1"/>
          <a:stretch/>
        </p:blipFill>
        <p:spPr>
          <a:xfrm>
            <a:off x="166680" y="165240"/>
            <a:ext cx="8763120" cy="647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Degelo, aquecimento global e enchentes,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são alguns sinais das enfermidades,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que lançaram sobre mi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4" descr="D:\Meus documentos\G I F s - Animadas\GIFS\Aves e Pássaros\pingui12.gif"/>
          <p:cNvPicPr/>
          <p:nvPr/>
        </p:nvPicPr>
        <p:blipFill>
          <a:blip r:embed="rId2"/>
          <a:stretch/>
        </p:blipFill>
        <p:spPr>
          <a:xfrm>
            <a:off x="214200" y="5572080"/>
            <a:ext cx="164304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Percebo que o homem realmente, não gosta de mim..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É insensível aos meus tremores.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Não ouve os meus gemidos e soluços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Mas, preciso gritar bem alto!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Espaço Reservado para Conteúdo 3" descr="raio.........jpg"/>
          <p:cNvPicPr/>
          <p:nvPr/>
        </p:nvPicPr>
        <p:blipFill>
          <a:blip r:embed="rId1"/>
          <a:stretch/>
        </p:blipFill>
        <p:spPr>
          <a:xfrm>
            <a:off x="214200" y="2071800"/>
            <a:ext cx="8715600" cy="4576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spaço Reservado para Conteúdo 10" descr="AMAZÔNIA......bmp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00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400" spc="-1" strike="noStrike">
                <a:solidFill>
                  <a:srgbClr val="ffffff"/>
                </a:solidFill>
                <a:latin typeface="Calibri"/>
              </a:rPr>
              <a:t>Sou um ser vivo e meu nome é Terra.</a:t>
            </a:r>
            <a:br>
              <a:rPr sz="3400"/>
            </a:br>
            <a:br>
              <a:rPr sz="3400"/>
            </a:br>
            <a:r>
              <a:rPr b="1" i="1" lang="en-US" sz="3400" spc="-1" strike="noStrike">
                <a:solidFill>
                  <a:srgbClr val="ffffff"/>
                </a:solidFill>
                <a:latin typeface="Calibri"/>
              </a:rPr>
              <a:t>Sou a casa do Homem e quando ele chegou eu já estava aqui.</a:t>
            </a:r>
            <a:br>
              <a:rPr sz="3400"/>
            </a:br>
            <a:r>
              <a:rPr b="1" i="1" lang="en-US" sz="3400" spc="-1" strike="noStrike">
                <a:solidFill>
                  <a:srgbClr val="ffffff"/>
                </a:solidFill>
                <a:latin typeface="Calibri"/>
              </a:rPr>
              <a:t>Sempre o acolhi e ofereci de graça, para ele:</a:t>
            </a:r>
            <a:br>
              <a:rPr sz="3400"/>
            </a:br>
            <a:br>
              <a:rPr sz="3400"/>
            </a:br>
            <a:r>
              <a:rPr b="1" i="1" lang="en-US" sz="3400" spc="-1" strike="noStrike">
                <a:solidFill>
                  <a:srgbClr val="ffffff"/>
                </a:solidFill>
                <a:latin typeface="Calibri"/>
              </a:rPr>
              <a:t>Moradia, oxigênio, água e alimento.</a:t>
            </a:r>
            <a:br>
              <a:rPr sz="3400"/>
            </a:br>
            <a:br>
              <a:rPr sz="3400"/>
            </a:br>
            <a:r>
              <a:rPr b="1" i="1" lang="en-US" sz="3400" spc="-1" strike="noStrike">
                <a:solidFill>
                  <a:srgbClr val="ffffff"/>
                </a:solidFill>
                <a:latin typeface="Calibri"/>
              </a:rPr>
              <a:t>Além de minha espetacular beleza...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O homem não está percebendo minhas lágrimas..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Minha voz está presente em meus sinais silenciosos..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Espaço Reservado para Conteúdo 3" descr="tsunami.jpg"/>
          <p:cNvPicPr/>
          <p:nvPr/>
        </p:nvPicPr>
        <p:blipFill>
          <a:blip r:embed="rId1"/>
          <a:stretch/>
        </p:blipFill>
        <p:spPr>
          <a:xfrm>
            <a:off x="214200" y="1785960"/>
            <a:ext cx="8715600" cy="4825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3925800" cy="551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ou uma das pequenas engrenagens do Universo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Observo inúmero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objetos  lançado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pelo homem,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formando ao meu redor,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o lixo espacial. 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Depois não reclamem,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não exijam nada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de mim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Espaço Reservado para Conteúdo 4" descr="POLUICÃO ESPACIAL.....bmp"/>
          <p:cNvPicPr/>
          <p:nvPr/>
        </p:nvPicPr>
        <p:blipFill>
          <a:blip r:embed="rId1"/>
          <a:stretch/>
        </p:blipFill>
        <p:spPr>
          <a:xfrm>
            <a:off x="3786120" y="785880"/>
            <a:ext cx="5072040" cy="4587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D:\Meus documentos\G I F s - Animadas\GIFS\Planetas - Sol, Terra, Cometas\satelites_6.gif"/>
          <p:cNvPicPr/>
          <p:nvPr/>
        </p:nvPicPr>
        <p:blipFill>
          <a:blip r:embed="rId2"/>
          <a:stretch/>
        </p:blipFill>
        <p:spPr>
          <a:xfrm>
            <a:off x="3929040" y="0"/>
            <a:ext cx="15238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321480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O homem acendeu uma bomba relógio contra si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1600"/>
            </a:br>
            <a:r>
              <a:rPr b="1" i="1" lang="en-US" sz="1600" spc="-1" strike="noStrike">
                <a:solidFill>
                  <a:srgbClr val="00ff00"/>
                </a:solidFill>
                <a:latin typeface="Calibri"/>
              </a:rPr>
              <a:t>"Não erreis: </a:t>
            </a:r>
            <a:br>
              <a:rPr sz="1600"/>
            </a:br>
            <a:br>
              <a:rPr sz="1600"/>
            </a:br>
            <a:r>
              <a:rPr b="1" i="1" lang="en-US" sz="1600" spc="-1" strike="noStrike">
                <a:solidFill>
                  <a:srgbClr val="00ff00"/>
                </a:solidFill>
                <a:latin typeface="Calibri"/>
              </a:rPr>
              <a:t>Deus não se deixa escarnecer; porque tudo o que o homem semear, isso também ceifará."  </a:t>
            </a:r>
            <a:br>
              <a:rPr sz="1600"/>
            </a:br>
            <a:br>
              <a:rPr sz="1600"/>
            </a:br>
            <a:r>
              <a:rPr b="1" i="1" lang="en-US" sz="1600" spc="-1" strike="noStrike">
                <a:solidFill>
                  <a:srgbClr val="00ff00"/>
                </a:solidFill>
                <a:latin typeface="Calibri"/>
              </a:rPr>
              <a:t>(Gálatas 6 : 7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Espaço Reservado para Conteúdo 4" descr="BOMBA RELÓGIO..jpg"/>
          <p:cNvPicPr/>
          <p:nvPr/>
        </p:nvPicPr>
        <p:blipFill>
          <a:blip r:embed="rId1"/>
          <a:stretch/>
        </p:blipFill>
        <p:spPr>
          <a:xfrm>
            <a:off x="3571920" y="214200"/>
            <a:ext cx="5357880" cy="643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2" name="Picture 4" descr="D:\Meus documentos\G I F s - Animadas\GIFS\Avulsos\Efeito espiral - 171.gif"/>
          <p:cNvPicPr/>
          <p:nvPr/>
        </p:nvPicPr>
        <p:blipFill>
          <a:blip r:embed="rId2"/>
          <a:stretch/>
        </p:blipFill>
        <p:spPr>
          <a:xfrm>
            <a:off x="1071720" y="2643120"/>
            <a:ext cx="135720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Espaço Reservado para Conteúdo 3" descr="La_Tierra_y_el_Infini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64296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Existem muitas bandeiras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que devem ser respeitadas, não é?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Existem muitas leis... 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E eu (a Terra),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que te alimento e te carrego no colo,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de dia e de noite...</a:t>
            </a:r>
            <a:br>
              <a:rPr sz="2400"/>
            </a:br>
            <a:br>
              <a:rPr sz="2400"/>
            </a:b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Tenho algum direito?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Espaço Reservado para Conteúdo 3" descr="terra=-.jpg"/>
          <p:cNvPicPr/>
          <p:nvPr/>
        </p:nvPicPr>
        <p:blipFill>
          <a:blip r:embed="rId1"/>
          <a:stretch/>
        </p:blipFill>
        <p:spPr>
          <a:xfrm>
            <a:off x="0" y="0"/>
            <a:ext cx="7572240" cy="5445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Ouça meus últimos gritos:</a:t>
            </a:r>
            <a:br>
              <a:rPr sz="2000"/>
            </a:b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.</a:t>
            </a:r>
            <a:br>
              <a:rPr sz="2000"/>
            </a:br>
            <a:r>
              <a:rPr b="1" i="1" lang="en-US" sz="3200" spc="-1" strike="noStrike">
                <a:solidFill>
                  <a:srgbClr val="00b0f0"/>
                </a:solidFill>
                <a:latin typeface="Calibri"/>
              </a:rPr>
              <a:t>Socorro!    Ajuda-me!</a:t>
            </a:r>
            <a:br>
              <a:rPr sz="2000"/>
            </a:b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Ainda dá tempo..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Não me deixe ficar estéril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Tenho um compromisso contigo.</a:t>
            </a:r>
            <a:br>
              <a:rPr sz="2000"/>
            </a:b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en-US" sz="9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Mesmo ferida...</a:t>
            </a:r>
            <a:br>
              <a:rPr sz="2000"/>
            </a:br>
            <a:r>
              <a:rPr b="1" i="1" lang="en-US" sz="9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Preciso produzir grãos e alimentos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Para que possas viver!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Esta é a tarefa que recebi de Deus: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uidar de Você!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om proteção e Amor!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Assinado: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D:\Meus documentos\G I F s - Animadas\GIFS\Planetas - Sol, Terra, Cometas\terra 08 - GIF.gif"/>
          <p:cNvPicPr/>
          <p:nvPr/>
        </p:nvPicPr>
        <p:blipFill>
          <a:blip r:embed="rId2"/>
          <a:stretch/>
        </p:blipFill>
        <p:spPr>
          <a:xfrm>
            <a:off x="6804000" y="5589720"/>
            <a:ext cx="1071720" cy="107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500"/>
                            </p:stCondLst>
                            <p:childTnLst>
                              <p:par>
                                <p:cTn id="5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Espaço Reservado para Conteúdo 3" descr="Terra - Linda - ++++.jpg"/>
          <p:cNvPicPr/>
          <p:nvPr/>
        </p:nvPicPr>
        <p:blipFill>
          <a:blip r:embed="rId1"/>
          <a:stretch/>
        </p:blipFill>
        <p:spPr>
          <a:xfrm>
            <a:off x="-17640" y="6480"/>
            <a:ext cx="916164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450072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 escrito e montado por: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ldimir Diniras Martins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: 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aldimirmartins@yahoo.com.br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ns:    Internet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úsica:    Ameno</a:t>
            </a:r>
            <a:br>
              <a:rPr sz="2000"/>
            </a:br>
            <a:br>
              <a:rPr sz="2000"/>
            </a:br>
            <a:r>
              <a:rPr b="1" i="1" lang="pt-BR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Lembre-se</a:t>
            </a:r>
            <a:r>
              <a:rPr b="1" i="1" lang="pt-B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us perdoará SEMPRE.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 Homem perdoará, às vezes.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 </a:t>
            </a:r>
            <a:r>
              <a:rPr b="1" i="1" lang="pt-BR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NATUREZA</a:t>
            </a:r>
            <a:r>
              <a:rPr b="1" i="1" lang="pt-B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não perdoará </a:t>
            </a:r>
            <a:r>
              <a:rPr b="1" i="1" lang="pt-BR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NUNCA</a:t>
            </a:r>
            <a:r>
              <a:rPr b="1" i="1" lang="pt-B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spaço Reservado para Conteúdo 6" descr="TERRA --- 01....bmp"/>
          <p:cNvPicPr/>
          <p:nvPr/>
        </p:nvPicPr>
        <p:blipFill>
          <a:blip r:embed="rId1"/>
          <a:stretch/>
        </p:blipFill>
        <p:spPr>
          <a:xfrm>
            <a:off x="3571920" y="0"/>
            <a:ext cx="5572080" cy="5516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88218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2600" spc="-1" strike="noStrike">
                <a:solidFill>
                  <a:srgbClr val="00ff00"/>
                </a:solidFill>
                <a:latin typeface="Calibri"/>
              </a:rPr>
              <a:t>O tempo passa e não sou honrada.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alibri"/>
              </a:rPr>
              <a:t>Deus criou-me e abençoou-me.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alibri"/>
              </a:rPr>
              <a:t>O homem foi formado do meu pó...   </a:t>
            </a: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alibri"/>
              </a:rPr>
              <a:t>Bem depois de mim!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alibri"/>
              </a:rPr>
              <a:t>Deus entregou-me por herança ao homem.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alibri"/>
              </a:rPr>
              <a:t>Como cuida de sua velha mãe, </a:t>
            </a: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alibri"/>
              </a:rPr>
              <a:t>o homem deveria cuidar melhor de mim.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alibri"/>
              </a:rPr>
              <a:t>Só tenho recebido abandono, desprezo, </a:t>
            </a: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alibri"/>
              </a:rPr>
              <a:t>desamor e pouca importância.</a:t>
            </a:r>
            <a:br>
              <a:rPr sz="2700"/>
            </a:b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spaço Reservado para Conteúdo 3" descr="Buraco.....jpg"/>
          <p:cNvPicPr/>
          <p:nvPr/>
        </p:nvPicPr>
        <p:blipFill>
          <a:blip r:embed="rId1"/>
          <a:stretch/>
        </p:blipFill>
        <p:spPr>
          <a:xfrm>
            <a:off x="181080" y="163440"/>
            <a:ext cx="8796240" cy="648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75052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Tudo o que consigo gerar, </a:t>
            </a:r>
            <a:br>
              <a:rPr sz="2400"/>
            </a:b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é para o uso humano e para outros seres que abrigo.</a:t>
            </a:r>
            <a:br>
              <a:rPr sz="2400"/>
            </a:b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Mas o homem é mesquinho, </a:t>
            </a:r>
            <a:br>
              <a:rPr sz="2400"/>
            </a:b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egoísta e quer ser o dono de tudo e na verdade ele </a:t>
            </a:r>
            <a:r>
              <a:rPr b="1" lang="pt-BR" sz="2400" spc="-1" strike="noStrike" u="sng">
                <a:solidFill>
                  <a:srgbClr val="ffff00"/>
                </a:solidFill>
                <a:uFillTx/>
                <a:latin typeface="Arial"/>
              </a:rPr>
              <a:t>NÃO  TEM NADA. </a:t>
            </a:r>
            <a:br>
              <a:rPr sz="2400"/>
            </a:b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Agride-me, fere-me e toma de mim, todas as minhas riquezas. </a:t>
            </a:r>
            <a:br>
              <a:rPr sz="2400"/>
            </a:b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Deixa –me cicatrizes profundas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ffffff"/>
                </a:solidFill>
                <a:latin typeface="Bangle"/>
              </a:rPr>
              <a:t>Esta mina de diamantes, Leste da Sibéria  (Rússia) fica próximo da cidade de Mirny. </a:t>
            </a:r>
            <a:br>
              <a:rPr sz="2400"/>
            </a:br>
            <a:r>
              <a:rPr b="1" i="1" lang="pt-BR" sz="2400" spc="-1" strike="noStrike">
                <a:solidFill>
                  <a:srgbClr val="ffffff"/>
                </a:solidFill>
                <a:latin typeface="Bangle"/>
              </a:rPr>
              <a:t>Tem 525 metros de profundidade e 1,25 km de diâmetr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spaço Reservado para Conteúdo 3" descr="Camelos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373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00" y="571680"/>
            <a:ext cx="8715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ff00"/>
                </a:solidFill>
                <a:latin typeface="Calibri"/>
              </a:rPr>
              <a:t>O petróleo é arrancado de minhas entranhas</a:t>
            </a:r>
            <a:br>
              <a:rPr sz="2500"/>
            </a:br>
            <a:r>
              <a:rPr b="1" i="1" lang="en-US" sz="2500" spc="-1" strike="noStrike">
                <a:solidFill>
                  <a:srgbClr val="00ff00"/>
                </a:solidFill>
                <a:latin typeface="Calibri"/>
              </a:rPr>
              <a:t>e isto só me enfraquece.</a:t>
            </a:r>
            <a:br>
              <a:rPr sz="2500"/>
            </a:br>
            <a:br>
              <a:rPr sz="2500"/>
            </a:br>
            <a:r>
              <a:rPr b="1" i="1" lang="en-US" sz="2500" spc="-1" strike="noStrike">
                <a:solidFill>
                  <a:srgbClr val="00ff00"/>
                </a:solidFill>
                <a:latin typeface="Calibri"/>
              </a:rPr>
              <a:t>Poços são abertos e incendiados, </a:t>
            </a:r>
            <a:br>
              <a:rPr sz="2500"/>
            </a:br>
            <a:r>
              <a:rPr b="1" i="1" lang="en-US" sz="2500" spc="-1" strike="noStrike">
                <a:solidFill>
                  <a:srgbClr val="00ff00"/>
                </a:solidFill>
                <a:latin typeface="Calibri"/>
              </a:rPr>
              <a:t>com intenções vergonhosas e sádicas.</a:t>
            </a: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alibri"/>
              </a:rPr>
              <a:t> </a:t>
            </a:r>
            <a:br>
              <a:rPr sz="2800"/>
            </a:b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spaço Reservado para Conteúdo 3" descr="Rodovias - anéis.jpg"/>
          <p:cNvPicPr/>
          <p:nvPr/>
        </p:nvPicPr>
        <p:blipFill>
          <a:blip r:embed="rId1"/>
          <a:stretch/>
        </p:blipFill>
        <p:spPr>
          <a:xfrm>
            <a:off x="149400" y="176040"/>
            <a:ext cx="8780400" cy="6467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276280"/>
            <a:ext cx="8643960" cy="29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O homem espalhou sobre mim,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uma manta negra chamada asfalto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Com ela, não consigo transpirar como outrora.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Sinto-me sufocada, febril e doente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Este cobertor de asfalto tem me dado muito calor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               Não consigo tirá-lo, para refrescar-m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http://www.familiaborbapinheiro.com/ciranda_amazonia.gif"/>
          <p:cNvPicPr/>
          <p:nvPr/>
        </p:nvPicPr>
        <p:blipFill>
          <a:blip r:embed="rId1"/>
          <a:stretch/>
        </p:blipFill>
        <p:spPr>
          <a:xfrm>
            <a:off x="179280" y="189000"/>
            <a:ext cx="8715600" cy="6429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5" descr="D:\Meus documentos\G I F s - Animadas\GIFS\Aves e Pássaros\arara05.gif"/>
          <p:cNvPicPr/>
          <p:nvPr/>
        </p:nvPicPr>
        <p:blipFill>
          <a:blip r:embed="rId2"/>
          <a:stretch/>
        </p:blipFill>
        <p:spPr>
          <a:xfrm>
            <a:off x="285840" y="285840"/>
            <a:ext cx="981000" cy="167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spaço Reservado para Conteúdo 4" descr="Floresta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152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alibri"/>
              </a:rPr>
              <a:t>Arrancaram minhas vestes e me desnudaram.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alibri"/>
              </a:rPr>
              <a:t>Minhas matas e florestas estão sendo destruídas,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alibri"/>
              </a:rPr>
              <a:t>adulteradas e saqueada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Espaço Reservado para Conteúdo 7" descr="02.jpg"/>
          <p:cNvPicPr/>
          <p:nvPr/>
        </p:nvPicPr>
        <p:blipFill>
          <a:blip r:embed="rId1"/>
          <a:stretch/>
        </p:blipFill>
        <p:spPr>
          <a:xfrm>
            <a:off x="4572000" y="1214280"/>
            <a:ext cx="4357800" cy="542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5" name="Espaço Reservado para Conteúdo 6" descr="01.jpg"/>
          <p:cNvPicPr/>
          <p:nvPr/>
        </p:nvPicPr>
        <p:blipFill>
          <a:blip r:embed="rId2"/>
          <a:stretch/>
        </p:blipFill>
        <p:spPr>
          <a:xfrm>
            <a:off x="214200" y="1214280"/>
            <a:ext cx="4286520" cy="542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86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Veja parte de minhas cicatrizes..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5" descr="D:\Meus documentos\G I F s - Animadas\GIFS\Borboletas\agbutterflies6.gif"/>
          <p:cNvPicPr/>
          <p:nvPr/>
        </p:nvPicPr>
        <p:blipFill>
          <a:blip r:embed="rId3"/>
          <a:stretch/>
        </p:blipFill>
        <p:spPr>
          <a:xfrm>
            <a:off x="5286240" y="2000160"/>
            <a:ext cx="3214800" cy="12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3:19:25Z</dcterms:created>
  <dc:creator>Waldimir Diniras Martins</dc:creator>
  <dc:description>“Envenenar a Terra, é o mesmo que envenenar a Placenta, onde teu filho será gerado”.</dc:description>
  <dc:language>en-US</dc:language>
  <cp:lastModifiedBy>Flavio</cp:lastModifiedBy>
  <dcterms:modified xsi:type="dcterms:W3CDTF">2010-10-07T23:27:55Z</dcterms:modified>
  <cp:revision>348</cp:revision>
  <dc:subject/>
  <dc:title>O grito da Terra</dc:title>
</cp:coreProperties>
</file>