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Airport%20mono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763-A02A-4106-A0EE-7B19E70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51F-3887-4EA8-9759-CC35CD3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D97-7A60-476B-8B97-C04F2238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734-824F-4D9B-9E55-473EEDE1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BC6-ECD9-486F-8763-8D703C91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369-D963-47E3-AE96-990E835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A10-82CC-4446-82AB-9FC5E321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2B4-4C4C-47F1-BBBB-F8694C6D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688-C009-4F45-945E-6EAC6AE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2A0-B385-4685-B663-B7BAEA3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434-5851-48AA-8886-2C161627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C46-D5EC-43A7-A4FA-C098FF7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267-8054-4F3A-A221-110C109A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mailto:reginaldorepres@yahoo.com.br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irport%20mon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80320" y="3068640"/>
            <a:ext cx="306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Georgia"/>
              </a:rPr>
              <a:t>SENTAR-SE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Georgia"/>
              </a:rPr>
              <a:t>JANELA DO AV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9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720" y="2492280"/>
            <a:ext cx="403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em pensar concordei de imedi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peguei meu bilhete e fui par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embar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Embarquei no avião, me acomo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na poltrona indicada: a jan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Janela que há muito eu não via,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melhor, pela qual já nã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preocupava em ol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442800"/>
            <a:ext cx="9540720" cy="730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260280"/>
            <a:ext cx="76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, num rompante, assim que o avião decolou, lembre-me da prim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ez que v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nti novamente e estranhamente aquela ansiedade, aquele frio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rr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hava o avião rompendo as nuvens escuras até que, tendo pas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la chuva, apareceu o cé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46720" y="281160"/>
            <a:ext cx="520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a um azul tão lindo como jamais tinha v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também o sol, que brilhava como se tiv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abado de nas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quele instante, em que voltei a ser crian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cebi que estava deixando de viver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uco a cada viagem em que desprez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quela vista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5800" y="5229360"/>
            <a:ext cx="71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Pensei comigo mesmo: será que em relação às outras coisas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minha vida eu também não havia deixado de me sentar à jane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como por exemplo, olhar pela janela das minhas amizades,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meu casamento, do meu trabalho e convívio pesso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684360" y="-11160"/>
            <a:ext cx="9828360" cy="710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0520" y="5157720"/>
            <a:ext cx="816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io que aos poucos, e mesmo sem perceber, deixamos de olhar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ela da noss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da também é uma viagem e se não nos sentarmos à janela, perd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que há de melhor: as paisagens, que são nossos amores, alegri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stezas, enfim, tudo o que nos mantém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8000" y="5300640"/>
            <a:ext cx="78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iajarmos somente na poltrona do corredor, com pressa de cheg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be-se lá aonde, perderemos a oportunidade de apreciar as bel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viagem nos ofer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8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8000" y="5661000"/>
            <a:ext cx="78145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ff"/>
                </a:solidFill>
                <a:latin typeface="Arial"/>
              </a:rPr>
              <a:t>Se você também está num rítmo acelerado, pedindo sempre poltr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ff"/>
                </a:solidFill>
                <a:latin typeface="Arial"/>
              </a:rPr>
              <a:t>do corredor, para embarcar e desembarcar rápido e ‘ganhar tempo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ff"/>
                </a:solidFill>
                <a:latin typeface="Arial"/>
              </a:rPr>
              <a:t>pare um pouco e reflita sobre aonde você quer che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640" y="1916280"/>
            <a:ext cx="332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A aeronave  da no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existência voa célebre 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duração da viagem não 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anunciada pelo coman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Não sabemos quanto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nos r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Por essa razão, vale a p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sentrar próximo d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para não perder nen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detal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3860640"/>
            <a:ext cx="34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final, ‘a vida, a felicidade 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z são caminhos e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tino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2060640"/>
            <a:ext cx="370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Texto:            Alexandre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Música:         Airport Love The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(Vincent B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Imagens:      Goo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Formatação: Re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1200" spc="-1" strike="noStrike" u="sng">
                <a:solidFill>
                  <a:srgbClr val="6666ff"/>
                </a:solidFill>
                <a:uFillTx/>
                <a:latin typeface="Arial"/>
                <a:hlinkClick r:id="rId2"/>
              </a:rPr>
              <a:t>reginaldorepres@yahoo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4076640"/>
            <a:ext cx="1008000" cy="795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40040" y="494172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Sala de Embar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029672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7800" y="2492280"/>
            <a:ext cx="376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a criança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a primeira ve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i em um avi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nsiedade de voar era eno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Airport%20mono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7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9640" y="213372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Eu queria sentar ao lado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janela de qualquer jei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acompanhar o voo desde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primeiro momento e sen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o avião correndo na p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cada vez mais rápido até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99"/>
                </a:solidFill>
                <a:latin typeface="Arial"/>
              </a:rPr>
              <a:t>decol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5589720"/>
            <a:ext cx="763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o olhar pela janela via, sem palavras, o avião rompendo as nuve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gando ao céu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do era novidade e fant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000" y="333360"/>
            <a:ext cx="465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sci, me formei, e comecei a trabal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meu trabalho, desde o início, voar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a necessidade cons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reuniões em outras cidades 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ria me obrigavam, às vezes, a e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 dois lugares num mesmo 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10009440" cy="757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0720" y="4797360"/>
            <a:ext cx="443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No início pedia sempre poltr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o lado da janela, e, ainda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lhos de menino, fitava as nuve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urtia a viagem, e nem me incomod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de esperar um pouco mais para sair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vião, pegar a bagagem, coisa e 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189080" y="0"/>
            <a:ext cx="10333080" cy="689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000" y="692280"/>
            <a:ext cx="534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 tempo foi passando, a correria aumenta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 já não fazia questão de me sentar à jane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em mesmo ver as nuvens, o sol, as 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baixo, o mar ou qualquer paisagem que fo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rdi o encanto. Pensava somente em ch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 sair, me acomodar rápido e sair ráp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77120" y="522936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poltronas do corredor agora eram exigência. 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áceis para sair sem ter que esperar ninguém,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sempre preocupado com a hora, com o compromis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 tudo, menos a viagem, com a paisagem, com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20360" cy="738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720" y="5157720"/>
            <a:ext cx="7371000" cy="1465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 um desses maravilhosos ‘acasos’ do destino, estava eu lou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voltar de São Paulo numa tarde chuvosa, precisando ch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Curitiba o mais rápido possível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voo estava lotado e o único lugar disponível era uma janela,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última poltr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00:53Z</dcterms:created>
  <dc:creator>Reginaldo</dc:creator>
  <dc:description/>
  <dc:language>en-US</dc:language>
  <cp:lastModifiedBy>Reginaldo</cp:lastModifiedBy>
  <dcterms:modified xsi:type="dcterms:W3CDTF">2009-09-13T14:52:46Z</dcterms:modified>
  <cp:revision>24</cp:revision>
  <dc:subject/>
  <dc:title>Slide 1</dc:title>
</cp:coreProperties>
</file>