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cortazar_autumn_rose.wav" ContentType="audio/x-wav"/>
  <Override PartName="/ppt/media/image2.jpeg" ContentType="image/jpeg"/>
  <Override PartName="/ppt/media/image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DDC-F7FB-4796-AEAD-F44753F8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C9A-2F6C-46CE-9750-61FC108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F3D-3592-4498-A158-E3C70505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2CD-8100-4F06-8FB3-C0BA3058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0DA-A0E1-4306-B575-66FFDC5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243-2372-4CC1-AFDF-AF7ED0FD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B7C-1BBF-4B56-BAFE-CE85CAD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CD3-79C3-4D17-878C-C60FEFD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7B2-DA99-461D-AE41-B26B77F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569-892E-44AA-A2CA-71832A9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A09-65D4-4BCA-A87B-ED77B1FC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5E9-731A-4FFB-A1B8-3DB8348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90DC-F41B-4B63-BF5C-4E50BD67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tazar_autumn_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2492280"/>
            <a:ext cx="346212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 pesc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5229360"/>
            <a:ext cx="302436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echnic"/>
              </a:rPr>
              <a:t>banqueir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echnic"/>
              <a:ea typeface="Techni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27280" y="4149720"/>
            <a:ext cx="590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o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vert"/>
    <p:sndAc>
      <p:stSnd>
        <p:snd r:embed="rId2" name="cortazar_autumn_r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9120" y="2843280"/>
            <a:ext cx="84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ORAL DA HISTÓRIA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antas vidas se desperdiçam buscando alcançar uma felic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e já se tem, mas que muitas vezes não vemo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 verdadeira felicidade consiste em apreciar o que tem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 não em sentirmo-nos mal por aquilo que não t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"Se choras por ter perdido o sol, as lágrimas não 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ixarão ver as estrela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 FELICIDADE É UM TRAJECTO, NÃO UM DESTI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41440" y="28440"/>
            <a:ext cx="10082160" cy="756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21242400">
            <a:off x="3214800" y="1467000"/>
            <a:ext cx="5316480" cy="41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migos/as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ssem um dia feli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 uma semana melho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809280" y="6113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9933"/>
                </a:solidFill>
                <a:latin typeface="Arial"/>
              </a:rPr>
              <a:t>Adaptacão de Cristina Sáenz Enrí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584600">
            <a:off x="324000" y="1484280"/>
            <a:ext cx="294300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2400" y="3357720"/>
            <a:ext cx="76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m banqueiro de investimentos americano estava no c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uma povoação das Caraíbas, quando chegou um b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m um único pescad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836640"/>
            <a:ext cx="4476600" cy="1496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5440" y="3111480"/>
            <a:ext cx="627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ntro do barco, havia vários atuns amare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bom tama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elogiou o pescador pela qual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o pescado e perguntou-lh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anto tempo gastou a pescá-los?”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respondeu que pouco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65640" y="620640"/>
            <a:ext cx="687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 americano perguntou-lhe logo: “Porque não ga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ais tempo e tira mais pescado?”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 pescador disse que tinha o suficiente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atisfazer as necessidades imediatas da sua famíl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9560" y="4570560"/>
            <a:ext cx="45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lveu o americano: “Mas que f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cê com o resto do seu temp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1720" y="40464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disse: “Depois de pescar, descanso um pouc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rinco com os meus filhos, durmo a sesta com a minha mul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u ao povoado à noite, onde tomo vinho e to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uitarra com os meus amig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enho uma vida prazenteira e ocupada"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742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0240" y="3068640"/>
            <a:ext cx="764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 americano replicou: "Sou um especialista em gest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deria ajudá-lo. Você deveria investir mais do seu tempo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sca e adquirir um barco ma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pois, com os ganhos, poderia comprar vários bar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 eventualmente até uma frota de barcos pesqu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685440" cy="779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87760" y="2606760"/>
            <a:ext cx="689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m vez de vender o pescado a um intermediár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ia fazê-lo directamente a um processador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ventualmente até abrir a sua própria processadora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ia assim controlar a produçã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rocessamento e a distribuição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veria sair deste pequeno povoado e ir par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apital, donde geriria a sua empresa em expansão"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745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0040" y="2986200"/>
            <a:ext cx="7944120" cy="3753000"/>
          </a:xfrm>
          <a:prstGeom prst="rect">
            <a:avLst/>
          </a:prstGeom>
          <a:gradFill rotWithShape="0">
            <a:gsLst>
              <a:gs pos="0">
                <a:srgbClr val="bbe0e3">
                  <a:alpha val="59215"/>
                </a:srgbClr>
              </a:gs>
              <a:gs pos="100000">
                <a:srgbClr val="566768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perguntou: “Mas, quanto tempo demoraria iss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respondeu: “Entre 15 e 20 anos"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 depois?“, perguntou o pescador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riu-se e disse que essa era a melhor parte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Quando chegar a hora, deveria anunciar uma O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(Oferta Pública de Aquisição) e vender as acções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a empresa ao público. Ficará rico, terá milhões!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"Milhões ... E depois?“, tornou o pesc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75080" y="692280"/>
            <a:ext cx="7904520" cy="2533320"/>
          </a:xfrm>
          <a:prstGeom prst="rect">
            <a:avLst/>
          </a:prstGeom>
          <a:gradFill rotWithShape="0">
            <a:gsLst>
              <a:gs pos="0">
                <a:srgbClr val="bbe0e3">
                  <a:alpha val="35294"/>
                </a:srgbClr>
              </a:gs>
              <a:gs pos="100000">
                <a:srgbClr val="566768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z o america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á então retirar-se. Vai para uma povoação da cos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nde pode dormir até tarde, pescar um pouc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rincar com os seus filhos, dormir a sesta com a sua mul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ir todas as noites ao povoado tomar um vinh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ocar guitarra com os seus amigos"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sponde o pescador: “Por acaso isso não é o que já tenho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8:41Z</dcterms:created>
  <dc:creator>operacao</dc:creator>
  <dc:description/>
  <cp:keywords>amar lo que tenemos</cp:keywords>
  <dc:language>en-US</dc:language>
  <cp:lastModifiedBy>operacao</cp:lastModifiedBy>
  <dcterms:modified xsi:type="dcterms:W3CDTF">2009-01-16T10:02:52Z</dcterms:modified>
  <cp:revision>30</cp:revision>
  <dc:subject>reflexivo</dc:subject>
  <dc:title>Diapositivo 1</dc:title>
</cp:coreProperties>
</file>