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gif" ContentType="image/gif"/>
  <Override PartName="/ppt/media/image2.jpeg" ContentType="image/jpeg"/>
  <Override PartName="/ppt/media/Enya%20&amp;%20Yanni%20Dance%20with%20the%20wolves.wav" ContentType="audio/x-wav"/>
  <Override PartName="/ppt/media/image4.jpeg" ContentType="image/jpeg"/>
  <Override PartName="/ppt/media/image3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DB42-853A-41AA-AF03-6801CC5C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5639-964E-46AB-A9F6-2F55130E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2991-FB49-45F3-B808-AD664C77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7434-C809-4686-8688-282FF41B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D36E-1480-456D-B063-35908E54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352F-495C-4F07-A352-A941D616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F6C8-47D0-46DB-87E0-FE0E78E7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3D34-D69C-4522-A868-59E246AA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5520-2CEE-4634-B3C4-5C6EA017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AB89-C752-481A-B9F6-B79D6412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56CB-DE50-46E2-884D-9BCAA51D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B9F-85A9-476E-9C2C-C4E4C237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racel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8" descr="estrela que gira"/>
          <p:cNvPicPr/>
          <p:nvPr/>
        </p:nvPicPr>
        <p:blipFill>
          <a:blip r:embed="rId2"/>
          <a:stretch/>
        </p:blipFill>
        <p:spPr>
          <a:xfrm>
            <a:off x="0" y="5759280"/>
            <a:ext cx="1098720" cy="10987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estrela que gira"/>
          <p:cNvPicPr/>
          <p:nvPr/>
        </p:nvPicPr>
        <p:blipFill>
          <a:blip r:embed="rId3"/>
          <a:stretch/>
        </p:blipFill>
        <p:spPr>
          <a:xfrm>
            <a:off x="0" y="0"/>
            <a:ext cx="1098720" cy="1098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estrela que gira"/>
          <p:cNvPicPr/>
          <p:nvPr/>
        </p:nvPicPr>
        <p:blipFill>
          <a:blip r:embed="rId4"/>
          <a:stretch/>
        </p:blipFill>
        <p:spPr>
          <a:xfrm>
            <a:off x="8045280" y="5759280"/>
            <a:ext cx="1098720" cy="10987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1" descr="estrela que gira"/>
          <p:cNvPicPr/>
          <p:nvPr/>
        </p:nvPicPr>
        <p:blipFill>
          <a:blip r:embed="rId5"/>
          <a:stretch/>
        </p:blipFill>
        <p:spPr>
          <a:xfrm>
            <a:off x="8045280" y="0"/>
            <a:ext cx="1098720" cy="109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Enya%20&amp;%20Yanni%20Dance%20with%20the%20wolv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971640" y="981000"/>
            <a:ext cx="71992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3333cc"/>
                </a:solidFill>
                <a:latin typeface="Tempus Sans ITC"/>
                <a:ea typeface="Tahoma"/>
              </a:rPr>
              <a:t>EU TEMI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762600" cy="40798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Enya%20&amp;%20Yanni%20Dance%20with%20the%20wolv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048720" cy="45370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457200" y="5486400"/>
            <a:ext cx="8153280" cy="520560"/>
          </a:xfrm>
          <a:prstGeom prst="rect">
            <a:avLst/>
          </a:prstGeom>
          <a:solidFill>
            <a:srgbClr val="ccccff"/>
          </a:solidFill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...ATÉ QUE APRENDI A RIR DE MIM MESMO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8436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EU TEMIA O RIDÍCULO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400"/>
                            </p:stCondLst>
                            <p:childTnLst>
                              <p:par>
                                <p:cTn id="1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5664240" cy="42483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611280" y="5300640"/>
            <a:ext cx="8153280" cy="947160"/>
          </a:xfrm>
          <a:prstGeom prst="rect">
            <a:avLst/>
          </a:prstGeom>
          <a:solidFill>
            <a:srgbClr val="ccccff"/>
          </a:solidFill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...ATÉ QUE COMPREENDI QUE GANHO SABEDORIA A CADA DIA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187280" y="620640"/>
            <a:ext cx="59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TEMIA FICAR VELHO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350"/>
                            </p:stCondLst>
                            <p:childTnLst>
                              <p:par>
                                <p:cTn id="1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592600" cy="4194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"/>
          <p:cNvSpPr/>
          <p:nvPr/>
        </p:nvSpPr>
        <p:spPr>
          <a:xfrm>
            <a:off x="669960" y="1177920"/>
            <a:ext cx="7711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755640" y="5334120"/>
            <a:ext cx="7848720" cy="1373760"/>
          </a:xfrm>
          <a:prstGeom prst="rect">
            <a:avLst/>
          </a:prstGeom>
          <a:solidFill>
            <a:srgbClr val="ccccff"/>
          </a:solidFill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ATÉ QUE APRENDI QUE NINGUEM CONSEGUE ME FERIR SEM MINHA PERMISS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3964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TEMIA SER FERIDO NOS MEUS SENTIMENTOS…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u tinha medo até ao último 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600"/>
                            </p:stCondLst>
                            <p:childTnLst>
                              <p:par>
                                <p:cTn id="2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5040360" cy="37814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1187280" y="5408640"/>
            <a:ext cx="6840720" cy="947160"/>
          </a:xfrm>
          <a:prstGeom prst="rect">
            <a:avLst/>
          </a:prstGeom>
          <a:solidFill>
            <a:srgbClr val="ccccff"/>
          </a:solidFill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...</a:t>
            </a:r>
            <a:r>
              <a:rPr b="1" lang="en-GB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ATÉ QUE ENTENDI A BELEZA DA LUZ DE UMA ESTRE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84360" y="620640"/>
            <a:ext cx="8153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TEMIA A ESCURIDÃO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350"/>
                            </p:stCondLst>
                            <p:childTnLst>
                              <p:par>
                                <p:cTn id="2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5375520" cy="40323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0" y="0"/>
            <a:ext cx="87822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TEMIA MUDANÇAS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39640" y="5084640"/>
            <a:ext cx="8077320" cy="1373760"/>
          </a:xfrm>
          <a:prstGeom prst="rect">
            <a:avLst/>
          </a:prstGeom>
          <a:solidFill>
            <a:srgbClr val="ccccff"/>
          </a:solidFill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 </a:t>
            </a:r>
            <a:r>
              <a:rPr b="1" lang="en-GB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ATÉ QUE PERCEBI AS MUDANÇAS POR QUE TEM QUE PASSAR UMA BELA BORBOLE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ANTES DE PODER VO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98280" y="6191280"/>
            <a:ext cx="663840" cy="51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150"/>
                            </p:stCondLst>
                            <p:childTnLst>
                              <p:par>
                                <p:cTn id="2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971640" y="4724280"/>
            <a:ext cx="7200720" cy="182880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VAMOS ENFRENTAR CADA OBSTÁCULO À MEDIDA QUE APAREÇAM EM NOSSAS VIDAS COM CORAGEM E CONFIANÇA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98280" y="6191280"/>
            <a:ext cx="663840" cy="51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7307280" y="333360"/>
            <a:ext cx="1836720" cy="61038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971640" y="2492280"/>
            <a:ext cx="5537160" cy="2287440"/>
          </a:xfrm>
          <a:prstGeom prst="rect">
            <a:avLst/>
          </a:prstGeom>
          <a:solidFill>
            <a:srgbClr val="ccccff"/>
          </a:solidFill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3333cc"/>
                </a:solidFill>
                <a:latin typeface="Tempus Sans ITC"/>
                <a:ea typeface="Tahoma"/>
              </a:rPr>
              <a:t>HAVERÁ SEMPRE UMA ESPERANÇA A MAIS…</a:t>
            </a:r>
            <a:r>
              <a:rPr b="1" lang="en-GB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11280" y="1125360"/>
            <a:ext cx="58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.....E NÃO SE ESQUEÇA QUE NO FINAL..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950"/>
                            </p:stCondLst>
                            <p:childTnLst>
                              <p:par>
                                <p:cTn id="29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VIVAMOS NOSSA VID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M TEM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857160" y="2143080"/>
            <a:ext cx="7772400" cy="2571840"/>
          </a:xfrm>
          <a:prstGeom prst="rect">
            <a:avLst/>
          </a:pr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mazone BT"/>
              </a:rPr>
              <a:t>No final sempre está Deus, que te ama. Que Deus te bendiga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mazone BT"/>
              </a:rPr>
              <a:t>Abraç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900000" y="5157720"/>
            <a:ext cx="77043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2411280" y="1197000"/>
            <a:ext cx="5446800" cy="40863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794880" y="5661000"/>
            <a:ext cx="7681680" cy="520560"/>
          </a:xfrm>
          <a:prstGeom prst="rect">
            <a:avLst/>
          </a:prstGeom>
          <a:solidFill>
            <a:srgbClr val="ccccff"/>
          </a:solidFill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.até que aprendí a GOSTAR DE MIM MESMO.</a:t>
            </a:r>
            <a:r>
              <a:rPr b="0" lang="en-GB" sz="2800" spc="-1" strike="noStrike">
                <a:solidFill>
                  <a:srgbClr val="3333cc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75564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Eu tinha medo de ficar sozinho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850"/>
                            </p:stCondLst>
                            <p:childTnLst>
                              <p:par>
                                <p:cTn id="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195640" y="1197000"/>
            <a:ext cx="5230800" cy="39225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75564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3333cc"/>
                </a:solidFill>
                <a:latin typeface="Tempus Sans ITC"/>
                <a:ea typeface="Tahoma"/>
              </a:rPr>
              <a:t>TEMIA FRACASSAR…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755640" y="5013360"/>
            <a:ext cx="8077320" cy="52056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... </a:t>
            </a: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MAS PERCEBI QUE SÓ FRACASSO SE DESISTIR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98280" y="6191280"/>
            <a:ext cx="663840" cy="51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200"/>
                            </p:stCondLst>
                            <p:childTnLst>
                              <p:par>
                                <p:cTn id="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4943520" cy="37083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304920" y="5334120"/>
            <a:ext cx="8305560" cy="825480"/>
          </a:xfrm>
          <a:prstGeom prst="rect">
            <a:avLst/>
          </a:prstGeom>
          <a:solidFill>
            <a:srgbClr val="ccccff"/>
          </a:solidFill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ATÉ QUE EU PERCEBI QUE O QUE CONTA REALMENTE É O QUE  EU PENSO DE MIM MESMO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356000" y="609480"/>
            <a:ext cx="410220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EU TINHA MEDO DO QUE AS PESSOAS PUDESSEM PENSAR DE MIM 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8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533520" y="5486400"/>
            <a:ext cx="8381880" cy="947160"/>
          </a:xfrm>
          <a:prstGeom prst="rect">
            <a:avLst/>
          </a:prstGeom>
          <a:solidFill>
            <a:srgbClr val="ccccff"/>
          </a:solidFill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...</a:t>
            </a:r>
            <a:r>
              <a:rPr b="1" lang="en-GB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ATÉ QUE PERCEBI QUE DEVO TER FÉ EM MIM MESMO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611280" y="836640"/>
            <a:ext cx="8076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EU TEMIA SER REJEITADO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015160" cy="376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50"/>
                            </p:stCondLst>
                            <p:childTnLst>
                              <p:par>
                                <p:cTn id="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5448240" cy="4086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"/>
          <p:cNvSpPr/>
          <p:nvPr/>
        </p:nvSpPr>
        <p:spPr>
          <a:xfrm>
            <a:off x="539640" y="765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EU TINHA MEDO DA DOR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762120" y="5181480"/>
            <a:ext cx="7848360" cy="947160"/>
          </a:xfrm>
          <a:prstGeom prst="rect">
            <a:avLst/>
          </a:prstGeom>
          <a:solidFill>
            <a:srgbClr val="ccccff"/>
          </a:solidFill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...ATÉ QUE PERCEBI QUE O SOFRIMENTO SÓ ME AJUDA A CRESCER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98280" y="6191280"/>
            <a:ext cx="663840" cy="51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400"/>
                            </p:stCondLst>
                            <p:childTnLst>
                              <p:par>
                                <p:cTn id="1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1134360" y="5445000"/>
            <a:ext cx="7072200" cy="520560"/>
          </a:xfrm>
          <a:prstGeom prst="rect">
            <a:avLst/>
          </a:prstGeom>
          <a:solidFill>
            <a:srgbClr val="ccccff"/>
          </a:solidFill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.ATÉ DESCOBRIR A FEIURA DA MENTIRA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3333cc"/>
                </a:solidFill>
                <a:latin typeface="Tempus Sans ITC"/>
                <a:ea typeface="Tahoma"/>
              </a:rPr>
              <a:t>EU TEMIA A VERDADE 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727880" cy="354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350"/>
                            </p:stCondLst>
                            <p:childTnLst>
                              <p:par>
                                <p:cTn id="1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80880" y="5334120"/>
            <a:ext cx="8305920" cy="947160"/>
          </a:xfrm>
          <a:prstGeom prst="rect">
            <a:avLst/>
          </a:prstGeom>
          <a:solidFill>
            <a:srgbClr val="ccccff"/>
          </a:solidFill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...</a:t>
            </a:r>
            <a:r>
              <a:rPr b="1" lang="en-GB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ATÉ QUE APRENDI QUE A MORTE NÃO É O FIM MAS UM COMEÇO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1835280" y="609480"/>
            <a:ext cx="5041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EU TEMIA A MORTE</a:t>
            </a:r>
            <a:r>
              <a:rPr b="0" lang="en-GB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2484360" y="1197000"/>
            <a:ext cx="5159520" cy="387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250"/>
                            </p:stCondLst>
                            <p:childTnLst>
                              <p:par>
                                <p:cTn id="1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6240600" cy="4680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"/>
          <p:cNvSpPr/>
          <p:nvPr/>
        </p:nvSpPr>
        <p:spPr>
          <a:xfrm>
            <a:off x="468360" y="5516640"/>
            <a:ext cx="8229600" cy="947160"/>
          </a:xfrm>
          <a:prstGeom prst="rect">
            <a:avLst/>
          </a:prstGeom>
          <a:solidFill>
            <a:srgbClr val="ccccff"/>
          </a:solidFill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... </a:t>
            </a:r>
            <a:r>
              <a:rPr b="1" lang="en-GB" sz="2800" spc="-1" strike="noStrike">
                <a:solidFill>
                  <a:srgbClr val="0000ff"/>
                </a:solidFill>
                <a:latin typeface="Tempus Sans ITC"/>
                <a:ea typeface="Tahoma"/>
              </a:rPr>
              <a:t>ATÉ QUE APRENDIA QUE O ÓDIO É APENAS “IGNORÂNCIA</a:t>
            </a:r>
            <a:r>
              <a:rPr b="0" lang="en-GB" sz="2800" spc="-1" strike="noStrike">
                <a:solidFill>
                  <a:srgbClr val="0000ff"/>
                </a:solidFill>
                <a:latin typeface="Tempus Sans ITC"/>
                <a:ea typeface="Tahoma"/>
              </a:rPr>
              <a:t>”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TEMIA O ÓDIO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00"/>
                            </p:stCondLst>
                            <p:childTnLst>
                              <p:par>
                                <p:cTn id="1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nrique Salazar Ruiz</dc:creator>
  <dc:description/>
  <dc:language>en-US</dc:language>
  <cp:lastModifiedBy>joao</cp:lastModifiedBy>
  <dcterms:modified xsi:type="dcterms:W3CDTF">2008-09-02T17:13:20Z</dcterms:modified>
  <cp:revision>11</cp:revision>
  <dc:subject/>
  <dc:title>Presentación de PowerPoint</dc:title>
</cp:coreProperties>
</file>