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(WAVE)Divano-Enya.wav" ContentType="audio/x-wav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096D-67CF-4323-942C-D441C1316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FED2-E4F0-4505-A8F1-17A19178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4AC3-2C7D-4504-8EDD-4A0CAFC2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6D36-6718-483D-83CE-A8D31751F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B81E-C880-452A-9050-ABC884BB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3258-965C-4B7E-ACEC-71342E90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2CCA-3299-41BC-BF66-AEAA7A18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E241-458E-4454-927A-B57F2445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9C9F-0B98-42E6-BEB2-DFD8733C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E6C2-F443-4711-893B-746482BE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49CB-BF1D-4923-9841-0E4053DD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A9E0-8F50-48F7-AD57-E4DE426B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98A6-1C44-4248-997A-7B8D0598FCC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(WAVE)Divano-Enya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533520" y="2133720"/>
            <a:ext cx="8305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0" spc="-1" strike="noStrike">
                <a:solidFill>
                  <a:srgbClr val="000000"/>
                </a:solidFill>
                <a:latin typeface="Impact"/>
                <a:ea typeface="Times New Roman"/>
              </a:rPr>
              <a:t>DIREITOS HUMANOS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0" spc="-1" strike="noStrike">
                <a:solidFill>
                  <a:srgbClr val="ff0000"/>
                </a:solidFill>
                <a:latin typeface="Impact"/>
                <a:ea typeface="Times New Roman"/>
              </a:rPr>
              <a:t>JULGUE VOCÊ!</a:t>
            </a:r>
            <a:r>
              <a:rPr b="1" lang="pt-BR" sz="8000" spc="-1" strike="noStrike">
                <a:solidFill>
                  <a:srgbClr val="ff0000"/>
                </a:solidFill>
                <a:latin typeface="Impac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(WAVE)Divano-Eny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228600"/>
            <a:ext cx="9144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Impact"/>
                <a:ea typeface="Times New Roman"/>
              </a:rPr>
              <a:t>SE VOCÊ ACHA QUE DEVE CONTINUAR PRESTIGIANDO ESSES INTELECTUAIS POLITICAMENTE CORRETOS  ENQUANT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Impact"/>
                <a:ea typeface="Times New Roman"/>
              </a:rPr>
              <a:t>O POVO TEM QUE SE TRANCAR EM CASA PARA FUGIR DESSES MARGINAIS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Impact"/>
                <a:ea typeface="Times New Roman"/>
              </a:rPr>
              <a:t>DELETE ESSA MENSAGEM</a:t>
            </a:r>
            <a:r>
              <a:rPr b="0" lang="pt-BR" sz="44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0" y="4541760"/>
            <a:ext cx="91440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Impact"/>
                <a:ea typeface="Times New Roman"/>
              </a:rPr>
              <a:t>MAS SE VOCÊ ACHA QUE ESTÁ NA HOR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Impact"/>
                <a:ea typeface="Times New Roman"/>
              </a:rPr>
              <a:t>DE MUDARMOS A NOSSA REALIDADE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Impact"/>
                <a:ea typeface="Times New Roman"/>
              </a:rPr>
              <a:t>REPASSE PARA SEUS AMIGOS.</a:t>
            </a:r>
            <a:br>
              <a:rPr sz="1200"/>
            </a:br>
            <a:br>
              <a:rPr sz="1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3251520" y="276120"/>
            <a:ext cx="273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800" spc="-1" strike="noStrike">
                <a:solidFill>
                  <a:srgbClr val="ff0000"/>
                </a:solidFill>
                <a:latin typeface="Impact"/>
              </a:rPr>
              <a:t>199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52280" y="19051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Ação =</a:t>
            </a:r>
            <a:r>
              <a:rPr b="0" lang="pt-BR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ropa de choque invade Carandirú para conter rebelião.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52280" y="3048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Resultado =</a:t>
            </a:r>
            <a:r>
              <a:rPr b="1" lang="pt-BR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111 marginais mortos</a:t>
            </a: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52280" y="3657600"/>
            <a:ext cx="8991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Reação =</a:t>
            </a:r>
            <a:r>
              <a:rPr b="1" lang="pt-BR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Comissão de direitos humanos liderada por </a:t>
            </a:r>
            <a:r>
              <a:rPr b="1" lang="pt-BR" sz="3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Eduardo Suplicy</a:t>
            </a:r>
            <a:r>
              <a:rPr b="1" lang="pt-BR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solicita urgente punição do </a:t>
            </a:r>
            <a:r>
              <a:rPr b="1" lang="pt-BR" sz="3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cel. Ubiratan,</a:t>
            </a:r>
            <a:r>
              <a:rPr b="1" lang="pt-BR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faz visitas ao presídio e às famílias dos presos, manda rezar missa pelos presos, etc</a:t>
            </a: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847440" y="304920"/>
            <a:ext cx="777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0000"/>
                </a:solidFill>
                <a:latin typeface="Impact"/>
              </a:rPr>
              <a:t>Outubro / Novembro 200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1371600"/>
            <a:ext cx="9296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Ação =</a:t>
            </a:r>
            <a:r>
              <a:rPr b="1" lang="pt-BR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Marginais do PCC metralham bases da PM porque querem banho de sol, protetor solar, anti-séptico bucal, encontros íntimos, etc</a:t>
            </a:r>
            <a:r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2971800"/>
            <a:ext cx="929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Resultado =</a:t>
            </a:r>
            <a:r>
              <a:rPr b="1" lang="pt-BR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iversos mortos e feridos, entre PM e Civ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3657600"/>
            <a:ext cx="9296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Reação =</a:t>
            </a:r>
            <a:r>
              <a:rPr b="1" lang="pt-BR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Comissão de direitos humanos :</a:t>
            </a:r>
            <a:br>
              <a:rPr sz="3200"/>
            </a:br>
            <a:r>
              <a:rPr b="1" lang="pt-BR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NÃO </a:t>
            </a:r>
            <a:r>
              <a:rPr b="1" lang="pt-BR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olicita urgente punição aos comandantes do PCC,</a:t>
            </a:r>
            <a:br>
              <a:rPr sz="3200"/>
            </a:br>
            <a:r>
              <a:rPr b="1" lang="pt-BR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NÃO</a:t>
            </a:r>
            <a:r>
              <a:rPr b="1" lang="pt-BR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faz visitas aos postos baleados,</a:t>
            </a:r>
            <a:br>
              <a:rPr sz="3200"/>
            </a:br>
            <a:r>
              <a:rPr b="1" lang="pt-BR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NÃO</a:t>
            </a:r>
            <a:r>
              <a:rPr b="1" lang="pt-BR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faz visita às famílias dos policiais mortos e feridos,</a:t>
            </a:r>
            <a:br>
              <a:rPr sz="3200"/>
            </a:br>
            <a:r>
              <a:rPr b="1" lang="pt-BR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NÃO </a:t>
            </a:r>
            <a:r>
              <a:rPr b="1" lang="pt-BR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anda rezar missa pelos mortos, etc,</a:t>
            </a: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ou seja, eles não fizeram </a:t>
            </a:r>
            <a:r>
              <a:rPr b="1" lang="pt-BR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NADA</a:t>
            </a:r>
            <a:r>
              <a:rPr b="1" lang="pt-BR" sz="32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17524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Á QUE SOMENTE OS CRIMINOSOS TÊM DIREITOS HUMANOS?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52280" y="533520"/>
            <a:ext cx="3429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Impact"/>
                <a:ea typeface="Times New Roman"/>
              </a:rPr>
              <a:t>Parlamentare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Impact"/>
                <a:ea typeface="Times New Roman"/>
              </a:rPr>
              <a:t>Eduardo Suplic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Impact"/>
                <a:ea typeface="Times New Roman"/>
              </a:rPr>
              <a:t>Marcos Roli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Impact"/>
                <a:ea typeface="Times New Roman"/>
              </a:rPr>
              <a:t>Nelson Pelegrin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Impact"/>
                <a:ea typeface="Times New Roman"/>
              </a:rPr>
              <a:t>Luiz Eduardo Greenhalgh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Impact"/>
                <a:ea typeface="Times New Roman"/>
              </a:rPr>
              <a:t>Renato Simõ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Impact"/>
                <a:ea typeface="Times New Roman"/>
              </a:rPr>
              <a:t>Orlando Fantazin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Impact"/>
                <a:ea typeface="Times New Roman"/>
              </a:rPr>
              <a:t>Lucila Pizan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Impact"/>
                <a:ea typeface="Times New Roman"/>
              </a:rPr>
              <a:t>Ítalo Cardoso.</a:t>
            </a:r>
            <a:br>
              <a:rPr sz="2400"/>
            </a:br>
            <a:br>
              <a:rPr sz="2400"/>
            </a:b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505320" y="914400"/>
            <a:ext cx="4190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Impact"/>
                <a:ea typeface="Times New Roman"/>
              </a:rPr>
              <a:t>Artista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Impact"/>
                <a:ea typeface="Times New Roman"/>
              </a:rPr>
              <a:t>Sérgio Mambert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Impact"/>
                <a:ea typeface="Times New Roman"/>
              </a:rPr>
              <a:t>Letícia Sabatell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Impact"/>
                <a:ea typeface="Times New Roman"/>
              </a:rPr>
              <a:t>Paulo Bett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Impact"/>
                <a:ea typeface="Times New Roman"/>
              </a:rPr>
              <a:t>Ester Gó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Impact"/>
                <a:ea typeface="Times New Roman"/>
              </a:rPr>
              <a:t>Chico Césa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Impact"/>
                <a:ea typeface="Times New Roman"/>
              </a:rPr>
              <a:t>Mano Brow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Impact"/>
                <a:ea typeface="Times New Roman"/>
              </a:rPr>
              <a:t>Ângelo Antonio.</a:t>
            </a: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172200" y="914400"/>
            <a:ext cx="304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0099"/>
                </a:solidFill>
                <a:latin typeface="Impact"/>
                <a:ea typeface="Times New Roman"/>
              </a:rPr>
              <a:t>Jornalista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0099"/>
                </a:solidFill>
                <a:latin typeface="Impact"/>
                <a:ea typeface="Times New Roman"/>
              </a:rPr>
              <a:t>Caco Barcelos (Globo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0099"/>
                </a:solidFill>
                <a:latin typeface="Impact"/>
                <a:ea typeface="Times New Roman"/>
              </a:rPr>
              <a:t>Gilberto Dimenstein (Folha SP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0099"/>
                </a:solidFill>
                <a:latin typeface="Impact"/>
                <a:ea typeface="Times New Roman"/>
              </a:rPr>
              <a:t>José  Arbe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0099"/>
                </a:solidFill>
                <a:latin typeface="Impact"/>
                <a:ea typeface="Times New Roman"/>
              </a:rPr>
              <a:t>Marina Ama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0099"/>
                </a:solidFill>
                <a:latin typeface="Impact"/>
                <a:ea typeface="Times New Roman"/>
              </a:rPr>
              <a:t>(Caros Amigos)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6172200" y="4191120"/>
            <a:ext cx="297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Impact"/>
                <a:ea typeface="Times New Roman"/>
              </a:rPr>
              <a:t>Religioso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Impact"/>
                <a:ea typeface="Times New Roman"/>
              </a:rPr>
              <a:t>D. Paulo Evaristo Ar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Impact"/>
                <a:ea typeface="Times New Roman"/>
              </a:rPr>
              <a:t>D. Cláudio Hummes, Frei Bett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Impact"/>
                <a:ea typeface="Times New Roman"/>
              </a:rPr>
              <a:t>Pe.Júlio Lancelloti, Frei João Xerri</a:t>
            </a:r>
            <a:r>
              <a:rPr b="0" lang="pt-BR" sz="1200" spc="-1" strike="noStrike">
                <a:solidFill>
                  <a:srgbClr val="00ffff"/>
                </a:solidFill>
                <a:latin typeface="Impact"/>
                <a:ea typeface="Times New Roman"/>
              </a:rPr>
              <a:t>.</a:t>
            </a:r>
            <a:r>
              <a:rPr b="0" lang="pt-BR" sz="1400" spc="-1" strike="noStrike">
                <a:solidFill>
                  <a:srgbClr val="00ffff"/>
                </a:solidFill>
                <a:latin typeface="Impac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152280" y="5000760"/>
            <a:ext cx="42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6633"/>
                </a:solidFill>
                <a:latin typeface="Impact"/>
                <a:ea typeface="Times New Roman"/>
              </a:rPr>
              <a:t>Administração Pública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6633"/>
                </a:solidFill>
                <a:latin typeface="Impact"/>
                <a:ea typeface="Times New Roman"/>
              </a:rPr>
              <a:t>Helio Bicud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6633"/>
                </a:solidFill>
                <a:latin typeface="Impact"/>
                <a:ea typeface="Times New Roman"/>
              </a:rPr>
              <a:t>Benedito Marian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6633"/>
                </a:solidFill>
                <a:latin typeface="Impact"/>
                <a:ea typeface="Times New Roman"/>
              </a:rPr>
              <a:t>Elói Pietá.</a:t>
            </a:r>
            <a:r>
              <a:rPr b="0" lang="pt-BR" sz="2400" spc="-1" strike="noStrike">
                <a:solidFill>
                  <a:srgbClr val="808000"/>
                </a:solidFill>
                <a:latin typeface="Impac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-205200" y="136440"/>
            <a:ext cx="971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0000"/>
                </a:solidFill>
                <a:latin typeface="Impact"/>
              </a:rPr>
              <a:t>Essa foi a comissão formada na épo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Impact"/>
                <a:ea typeface="Times New Roman"/>
              </a:rPr>
              <a:t>O QUE O PESSOAL DOS DIREITOS HUMANO  NÃO COMENTAM.  POLICIAL EXECUTADO PELO PCC, FACÇÃO CRIMINOSA EM SÃO PAU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Imagem 3" descr="PM MORTO 2.jpg"/>
          <p:cNvPicPr/>
          <p:nvPr/>
        </p:nvPicPr>
        <p:blipFill>
          <a:blip r:embed="rId1"/>
          <a:stretch/>
        </p:blipFill>
        <p:spPr>
          <a:xfrm>
            <a:off x="928800" y="1571760"/>
            <a:ext cx="7026120" cy="5286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Impact"/>
              </a:rPr>
              <a:t>NEM SE SENSIBILIZARAM, NEM COMPARECER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Imagem 5" descr="PM MORTO.jpg"/>
          <p:cNvPicPr/>
          <p:nvPr/>
        </p:nvPicPr>
        <p:blipFill>
          <a:blip r:embed="rId1"/>
          <a:stretch/>
        </p:blipFill>
        <p:spPr>
          <a:xfrm>
            <a:off x="584280" y="888840"/>
            <a:ext cx="7975440" cy="5969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152280" y="533520"/>
            <a:ext cx="3429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Impact"/>
                <a:ea typeface="Times New Roman"/>
              </a:rPr>
              <a:t>Parlamentare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Impact"/>
                <a:ea typeface="Times New Roman"/>
              </a:rPr>
              <a:t>Eduardo Suplic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Impact"/>
                <a:ea typeface="Times New Roman"/>
              </a:rPr>
              <a:t>Marcos Roli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Impact"/>
                <a:ea typeface="Times New Roman"/>
              </a:rPr>
              <a:t>Nelson Pelegrin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Impact"/>
                <a:ea typeface="Times New Roman"/>
              </a:rPr>
              <a:t>Luiz Eduardo Greenhalgh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Impact"/>
                <a:ea typeface="Times New Roman"/>
              </a:rPr>
              <a:t>Renato Simõ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Impact"/>
                <a:ea typeface="Times New Roman"/>
              </a:rPr>
              <a:t>Orlando Fantazin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Impact"/>
                <a:ea typeface="Times New Roman"/>
              </a:rPr>
              <a:t>Lucila Pizan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Impact"/>
                <a:ea typeface="Times New Roman"/>
              </a:rPr>
              <a:t>Ítalo Cardoso.</a:t>
            </a:r>
            <a:br>
              <a:rPr sz="2400"/>
            </a:br>
            <a:br>
              <a:rPr sz="2400"/>
            </a:b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505320" y="914400"/>
            <a:ext cx="4190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Impact"/>
                <a:ea typeface="Times New Roman"/>
              </a:rPr>
              <a:t>Artista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Impact"/>
                <a:ea typeface="Times New Roman"/>
              </a:rPr>
              <a:t>Sérgio Mambert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Impact"/>
                <a:ea typeface="Times New Roman"/>
              </a:rPr>
              <a:t>Letícia Sabatell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Impact"/>
                <a:ea typeface="Times New Roman"/>
              </a:rPr>
              <a:t>Paulo Bett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Impact"/>
                <a:ea typeface="Times New Roman"/>
              </a:rPr>
              <a:t>Ester Gó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Impact"/>
                <a:ea typeface="Times New Roman"/>
              </a:rPr>
              <a:t>Chico Césa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Impact"/>
                <a:ea typeface="Times New Roman"/>
              </a:rPr>
              <a:t>Mano Brow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Impact"/>
                <a:ea typeface="Times New Roman"/>
              </a:rPr>
              <a:t>Ângelo Antonio.</a:t>
            </a: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6172200" y="914400"/>
            <a:ext cx="304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0099"/>
                </a:solidFill>
                <a:latin typeface="Impact"/>
                <a:ea typeface="Times New Roman"/>
              </a:rPr>
              <a:t>Jornalista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0099"/>
                </a:solidFill>
                <a:latin typeface="Impact"/>
                <a:ea typeface="Times New Roman"/>
              </a:rPr>
              <a:t>Caco Barcelos (Globo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0099"/>
                </a:solidFill>
                <a:latin typeface="Impact"/>
                <a:ea typeface="Times New Roman"/>
              </a:rPr>
              <a:t>Gilberto Dimenstein (Folha SP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0099"/>
                </a:solidFill>
                <a:latin typeface="Impact"/>
                <a:ea typeface="Times New Roman"/>
              </a:rPr>
              <a:t>José  Arbe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0099"/>
                </a:solidFill>
                <a:latin typeface="Impact"/>
                <a:ea typeface="Times New Roman"/>
              </a:rPr>
              <a:t>Marina Ama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0099"/>
                </a:solidFill>
                <a:latin typeface="Impact"/>
                <a:ea typeface="Times New Roman"/>
              </a:rPr>
              <a:t>(Caros Amigos)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6172200" y="4191120"/>
            <a:ext cx="297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Impact"/>
                <a:ea typeface="Times New Roman"/>
              </a:rPr>
              <a:t>Religioso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Impact"/>
                <a:ea typeface="Times New Roman"/>
              </a:rPr>
              <a:t>D. Paulo Evaristo Ar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Impact"/>
                <a:ea typeface="Times New Roman"/>
              </a:rPr>
              <a:t>D. Cláudio Hummes, Frei Bett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Impact"/>
                <a:ea typeface="Times New Roman"/>
              </a:rPr>
              <a:t>Pe.Júlio Lancelloti, Frei João Xerri</a:t>
            </a:r>
            <a:r>
              <a:rPr b="0" lang="pt-BR" sz="1200" spc="-1" strike="noStrike">
                <a:solidFill>
                  <a:srgbClr val="00ffff"/>
                </a:solidFill>
                <a:latin typeface="Impact"/>
                <a:ea typeface="Times New Roman"/>
              </a:rPr>
              <a:t>.</a:t>
            </a:r>
            <a:r>
              <a:rPr b="0" lang="pt-BR" sz="1400" spc="-1" strike="noStrike">
                <a:solidFill>
                  <a:srgbClr val="00ffff"/>
                </a:solidFill>
                <a:latin typeface="Impac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152280" y="5000760"/>
            <a:ext cx="42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6633"/>
                </a:solidFill>
                <a:latin typeface="Impact"/>
                <a:ea typeface="Times New Roman"/>
              </a:rPr>
              <a:t>Administração Pública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6633"/>
                </a:solidFill>
                <a:latin typeface="Impact"/>
                <a:ea typeface="Times New Roman"/>
              </a:rPr>
              <a:t>Helio Bicud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6633"/>
                </a:solidFill>
                <a:latin typeface="Impact"/>
                <a:ea typeface="Times New Roman"/>
              </a:rPr>
              <a:t>Benedito Marian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6633"/>
                </a:solidFill>
                <a:latin typeface="Impact"/>
                <a:ea typeface="Times New Roman"/>
              </a:rPr>
              <a:t>Elói Pietá.</a:t>
            </a:r>
            <a:r>
              <a:rPr b="0" lang="pt-BR" sz="2400" spc="-1" strike="noStrike">
                <a:solidFill>
                  <a:srgbClr val="808000"/>
                </a:solidFill>
                <a:latin typeface="Impac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3040" y="-71280"/>
            <a:ext cx="894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epois da morte dos policiais em SP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odos esses </a:t>
            </a:r>
            <a:r>
              <a:rPr b="1" lang="pt-BR" sz="3200" spc="-1" strike="noStrike">
                <a:solidFill>
                  <a:srgbClr val="ffff00"/>
                </a:solidFill>
                <a:latin typeface="Arial"/>
                <a:ea typeface="Arial"/>
              </a:rPr>
              <a:t>CALARA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,  </a:t>
            </a:r>
            <a:r>
              <a:rPr b="1" lang="pt-BR" sz="3200" spc="-1" strike="noStrike">
                <a:solidFill>
                  <a:srgbClr val="ffff00"/>
                </a:solidFill>
                <a:latin typeface="Arial"/>
                <a:ea typeface="Arial"/>
              </a:rPr>
              <a:t>não fizeram NADA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228600"/>
            <a:ext cx="914400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Impact"/>
                <a:ea typeface="Times New Roman"/>
              </a:rPr>
              <a:t>QUEM LHE PROTEGE É O POLICIAL, NÃO OS DIREITOS HUMANO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Impact"/>
                <a:ea typeface="Times New Roman"/>
              </a:rPr>
              <a:t>Quando o Policial está desprotegido e acuado, sem apoio ao exercício da profissão, OS MARGINAIS dominam a sociedade.  Policial fragilizado, sociedade desprotegida, você, cidadã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00:32:38Z</dcterms:created>
  <dc:creator>servidor</dc:creator>
  <dc:description/>
  <dc:language>en-US</dc:language>
  <cp:lastModifiedBy>servidor</cp:lastModifiedBy>
  <dcterms:modified xsi:type="dcterms:W3CDTF">2009-05-31T00:36:49Z</dcterms:modified>
  <cp:revision>1</cp:revision>
  <dc:subject/>
  <dc:title>Slide 1</dc:title>
</cp:coreProperties>
</file>