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Yanni-One_Man_s_Dream.wav" ContentType="audio/x-wav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2EE-6628-46CF-9A8D-586A3C9D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2F0-B8D2-4006-81D2-CB034EEC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578-3791-4B64-81BF-71D0EFE0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F13-BBE1-4F7A-AD21-3E081524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03E-A5F4-4FFC-A10F-55AA8AAD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F6E-A5B0-42A9-91DB-40053C12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C2C-8D6D-4D02-B634-4A851E11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AA3-E0E2-4B33-850C-605C4B50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DBC-F61C-4EC2-899C-24FAAACE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32F-9EA2-43C2-8899-DF183BF0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DED-6E34-4FEB-9365-5D7CC4C4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49D-E4EA-4522-900A-A0AA395B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8AF1-B271-4B0B-BC85-E78023147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audio" Target="../media/Yanni-One_Man_s_Dream.wav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3.gif"/><Relationship Id="rId2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924280"/>
            <a:ext cx="4191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cc"/>
                </a:solidFill>
                <a:latin typeface="Bradley Hand ITC"/>
              </a:rPr>
              <a:t>Os mensageiros                     da                         </a:t>
            </a:r>
            <a:r>
              <a:rPr b="1" lang="pt-BR" sz="6000" spc="-1" strike="noStrike">
                <a:solidFill>
                  <a:srgbClr val="ffffcc"/>
                </a:solidFill>
                <a:latin typeface="Bradley Hand ITC"/>
              </a:rPr>
              <a:t>ET</a:t>
            </a:r>
            <a:r>
              <a:rPr b="0" lang="pt-BR" sz="3600" spc="-1" strike="noStrike">
                <a:solidFill>
                  <a:srgbClr val="ffffcc"/>
                </a:solidFill>
                <a:latin typeface="Bradley Hand ITC"/>
              </a:rPr>
              <a:t>ernidad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4800" y="3657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539200" y="47242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777080" y="4572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853400" y="38862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634080" y="58672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10800000">
            <a:off x="6634080" y="5943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 rot="10800000">
            <a:off x="6557760" y="579096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7701120" y="5943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5796000" y="60199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6939000" y="49528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67867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64818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7929720" y="5029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6405480" y="5715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7015320" y="40384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5872320" y="5943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7243920" y="533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7243920" y="7621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7319880" y="1143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7243920" y="1295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7243920" y="1676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7396200" y="2057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7548480" y="24382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7624800" y="2743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7777080" y="28954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7"/>
          <a:stretch/>
        </p:blipFill>
        <p:spPr>
          <a:xfrm>
            <a:off x="7777080" y="3276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8"/>
          <a:stretch/>
        </p:blipFill>
        <p:spPr>
          <a:xfrm>
            <a:off x="8005680" y="4114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9"/>
          <a:stretch/>
        </p:blipFill>
        <p:spPr>
          <a:xfrm>
            <a:off x="6481800" y="44197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274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Muitos de nós os sensíveis,</a:t>
            </a:r>
            <a:br>
              <a:rPr sz="2800"/>
            </a:b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carregamos na alm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e até no corpo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,                                                                     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marca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da noss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paixão pela vida.</a:t>
            </a:r>
            <a:br>
              <a:rPr sz="4000"/>
            </a:br>
            <a:br>
              <a:rPr sz="3600"/>
            </a:b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Do mai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fraco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ao mai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forte</a:t>
            </a:r>
            <a:r>
              <a:rPr b="0" lang="pt-BR" sz="4000" spc="-1" strike="noStrike">
                <a:solidFill>
                  <a:srgbClr val="ffffcc"/>
                </a:solidFill>
                <a:latin typeface="Bradley Hand ITC"/>
              </a:rPr>
              <a:t>,</a:t>
            </a:r>
            <a:br>
              <a:rPr sz="3200"/>
            </a:b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do mai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bonito</a:t>
            </a:r>
            <a:r>
              <a:rPr b="0" lang="pt-BR" sz="32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ao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mais</a:t>
            </a:r>
            <a:r>
              <a:rPr b="0" lang="pt-BR" sz="40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fei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10280" y="914400"/>
            <a:ext cx="139716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ão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somos medidos pela noss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formosur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ou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pela grandeza 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      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do nosso corpo...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mas somos admirados pelo poder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    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do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nosso coração,</a:t>
            </a:r>
            <a:br>
              <a:rPr sz="40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ela forç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que emanamos de dentro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de nosso olha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flipH="1">
            <a:off x="324000" y="620640"/>
            <a:ext cx="151272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27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e as pessoas de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mentir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ficam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  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sem entender como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nós os sensívei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conseguimos ter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tanto po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64360" y="836640"/>
            <a:ext cx="15112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ós os sensíveis estamos aqui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ara fazer a diferença.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inguém nos conhece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pela superfície...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mas pela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profundidade</a:t>
            </a:r>
            <a:r>
              <a:rPr b="0" lang="pt-BR" sz="4000" spc="-1" strike="noStrike">
                <a:solidFill>
                  <a:srgbClr val="ffffcc"/>
                </a:solidFill>
                <a:latin typeface="Bradley Hand ITC"/>
              </a:rPr>
              <a:t>           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de nossos bons pensamento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.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 flipH="1" rot="21537600">
            <a:off x="683640" y="620280"/>
            <a:ext cx="13744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116840" y="1709640"/>
            <a:ext cx="91116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ão somo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santos...</a:t>
            </a: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mas somo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anjos</a:t>
            </a:r>
            <a:r>
              <a:rPr b="0" lang="pt-BR" sz="3600" spc="-1" strike="noStrike">
                <a:solidFill>
                  <a:srgbClr val="ffffcc"/>
                </a:solidFill>
                <a:latin typeface="Bradley Hand ITC"/>
              </a:rPr>
              <a:t>.</a:t>
            </a:r>
            <a:br>
              <a:rPr sz="3600"/>
            </a:b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ão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somo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perfeitos...</a:t>
            </a:r>
            <a:br>
              <a:rPr sz="40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mas é na noss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imperfeição</a:t>
            </a:r>
            <a:br>
              <a:rPr sz="40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que mostramos nossa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maiores virtudes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2.89017E-006 C 0.00382 0.01064 0.01285 0.02127 0.01684 0.03468 C 0.02084 0.04925 0.02292 0.06659 0.02483 0.08393 C 0.02691 0.10127 0.02483 0.11584 0.02292 0.13179 C 0.02084 0.14659 0.01789 0.16255 0.01077 0.17573 C 0.00486 0.18914 -0.0052 0.19977 -0.01614 0.20786 C -0.02621 0.21573 -0.03819 0.22104 -0.05017 0.22382 C -0.06215 0.22636 -0.07413 0.22636 -0.08524 0.22382 C -0.09722 0.22104 -0.10816 0.21434 -0.11718 0.2037 C -0.12621 0.19445 -0.1342 0.18243 -0.13819 0.16786 C -0.14323 0.15445 -0.14514 0.13596 -0.14514 0.12116 C -0.14618 0.10659 -0.14514 0.08925 -0.1401 0.07468 C -0.13524 0.06127 -0.12621 0.05064 -0.11423 0.04532 C -0.10208 0.04139 -0.0901 0.04671 -0.08211 0.05596 C -0.07517 0.06521 -0.07014 0.08 -0.06909 0.09711 C -0.06909 0.11445 -0.07014 0.13041 -0.07517 0.14382 C -0.0802 0.15723 -0.07916 0.15977 -0.09913 0.17711 C -0.11718 0.19584 -0.13524 0.19052 -0.14618 0.19168 C -0.15711 0.19168 -0.16614 0.18636 -0.17708 0.18104 C -0.18923 0.17457 -0.19913 0.16255 -0.20625 0.15191 C -0.21319 0.14127 -0.21614 0.12786 -0.22014 0.10659 C -0.22309 0.08532 -0.22309 0.07468 -0.22309 0.0585 C -0.22309 0.04255 -0.22309 0.02659 -0.22309 0.01064 E">
                                      <p:cBhvr>
                                        <p:cTn id="34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Não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é pela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 casc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que queremos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ser conhecidos.</a:t>
            </a:r>
            <a:br>
              <a:rPr sz="2400"/>
            </a:b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Queremos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 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                    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um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relacionamento</a:t>
            </a:r>
            <a:r>
              <a:rPr b="0" lang="pt-BR" sz="40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íntimo  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             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com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tudo</a:t>
            </a:r>
            <a:r>
              <a:rPr b="0" lang="pt-BR" sz="36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e com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todo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que nos cerc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flipH="1">
            <a:off x="3708000" y="5229360"/>
            <a:ext cx="105732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60960" y="5229360"/>
            <a:ext cx="11523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odemo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errar...</a:t>
            </a:r>
            <a:br>
              <a:rPr sz="2800"/>
            </a:b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...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fracassar</a:t>
            </a:r>
            <a:r>
              <a:rPr b="0" lang="pt-BR" sz="40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em quase tudo</a:t>
            </a:r>
            <a:br>
              <a:rPr sz="24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mas jamais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fracassaremos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                      como seres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flipH="1">
            <a:off x="1332000" y="1916280"/>
            <a:ext cx="144144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78 L -1.94444E-006 -0.19306 L 0.25 0.00278 L -1.94444E-006 0.00278 Z">
                                      <p:cBhvr>
                                        <p:cTn id="36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27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Somos imcompreendidos,</a:t>
            </a:r>
            <a:br>
              <a:rPr sz="32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orque muitas vezes                                                                                                   não sabemos</a:t>
            </a: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expressar quem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somos de verdade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122400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37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51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Ainda que o nosso corpo                                                      envelheça  e fique doente...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...nada pode tocar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o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coração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de um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 sensível</a:t>
            </a:r>
            <a:br>
              <a:rPr sz="4000"/>
            </a:b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senão a mão do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Supremo Criador</a:t>
            </a:r>
            <a:r>
              <a:rPr b="1" lang="pt-BR" sz="4000" spc="-1" strike="noStrike">
                <a:solidFill>
                  <a:srgbClr val="ffffcc"/>
                </a:solidFill>
                <a:latin typeface="Tempus Sans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00188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Nós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 os 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sensíveis...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mesmo de longe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os 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juntamos em espírito</a:t>
            </a:r>
            <a:br>
              <a:rPr sz="32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um coral para cantar uma</a:t>
            </a: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canção que curará tod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essoa de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menti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 rot="45600">
            <a:off x="3417480" y="5299200"/>
            <a:ext cx="1219320" cy="1557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45000">
            <a:off x="7380000" y="2995560"/>
            <a:ext cx="1279440" cy="155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 rot="45000">
            <a:off x="7092720" y="3068280"/>
            <a:ext cx="1041120" cy="126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 flipH="1" rot="45600">
            <a:off x="3144600" y="5514840"/>
            <a:ext cx="106524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2819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ós o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sensívei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,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temos a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luz brilhando dentro de nós.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A nossa sabedoria muitas vezes pode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ser confundida com 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loucura</a:t>
            </a:r>
            <a:br>
              <a:rPr sz="40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or pessoas de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mentir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103356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1 0.075 -0.08257 0.125 -0.08257 C 0.175 -0.08257 0.22 -0.05061 0.25 0 C 0.22 0.05061 0.175 0.08257 0.125 0.08257 C 0.075 0.08257 0.03 0.05061 0 0 Z">
                                      <p:cBhvr>
                                        <p:cTn id="105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3357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or alguns instante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o mundo                                            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arará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ara  ouvir o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nosso canto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e se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apaziguará</a:t>
            </a:r>
            <a:r>
              <a:rPr b="0" lang="pt-BR" sz="40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or algun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oucos momentos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 rot="126000">
            <a:off x="899280" y="1413000"/>
            <a:ext cx="129564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22 L 0.177 -0.09722 L 0.25 0 L 0.25 0.13851 L 0.177 0.23573 L 0.073 0.23573 L 0 0.13851 L 0 0 Z">
                                      <p:cBhvr>
                                        <p:cTn id="41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E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por alguns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momentos ela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também vão ser sensíveis como nós...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quando perceberem que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o rosto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 do outro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          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está 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o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espelho de sua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 própria f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 flipH="1" rot="126000">
            <a:off x="3607560" y="17460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21433200">
            <a:off x="4329000" y="114480"/>
            <a:ext cx="115272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flipH="1" rot="126000">
            <a:off x="684000" y="1700280"/>
            <a:ext cx="1295280" cy="1752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8360" y="29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ós os sensíveis temos o dom</a:t>
            </a: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de sentir o que os outros sentem...                                                           ...de traduzir seus pensamentos.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porque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nosso coração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capta o que os outros</a:t>
            </a: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corações transmitem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27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mas nós somos um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brasa viva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o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meio da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 neve...</a:t>
            </a:r>
            <a:br>
              <a:rPr sz="40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ou </a:t>
            </a: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um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 oásis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o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meio do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 deserto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flipH="1" rot="21458400">
            <a:off x="1547640" y="1196640"/>
            <a:ext cx="129564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28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Estamos aqui para mostrar aos outros</a:t>
            </a: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que a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alma existe...</a:t>
            </a:r>
            <a:br>
              <a:rPr sz="40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que a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matéria passará.</a:t>
            </a:r>
            <a:br>
              <a:rPr sz="4000"/>
            </a:br>
            <a:br>
              <a:rPr sz="2800"/>
            </a:b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Mas que temos vida para todo o semp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80360" y="1260360"/>
            <a:ext cx="1439640" cy="1752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 flipH="1">
            <a:off x="178920" y="3357720"/>
            <a:ext cx="12970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149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Somos dono da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sabedoria universal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Acreditamos num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Deus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comum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          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a todos seres humanos.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Num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Deus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que habita                                              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todas as religiões.</a:t>
            </a: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flipH="1" rot="61800">
            <a:off x="826560" y="907560"/>
            <a:ext cx="1800360" cy="2257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340000" y="6021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427640" y="5373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020000" y="5877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124000" y="148428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76360" y="3357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4067280" y="7635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6877080" y="1773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755640" y="90792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2698920" y="18720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5508720" y="1197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1258920" y="573264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3201840" y="501156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4"/>
          <a:stretch/>
        </p:blipFill>
        <p:spPr>
          <a:xfrm>
            <a:off x="6012000" y="602136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819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um abraço do sensível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...</a:t>
            </a:r>
            <a:br>
              <a:rPr sz="2800"/>
            </a:b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...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está a</a:t>
            </a:r>
            <a:r>
              <a:rPr b="0" lang="pt-BR" sz="32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graça do Univers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 flipH="1" rot="61800">
            <a:off x="3526920" y="4593960"/>
            <a:ext cx="1436760" cy="1801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 rot="61200">
            <a:off x="4140360" y="4581360"/>
            <a:ext cx="1149120" cy="1800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059280" y="43657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404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12000" y="83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4500720" y="213372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843280" y="404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6080040" y="530532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611280" y="3141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7956720" y="620640"/>
            <a:ext cx="71280" cy="71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7812000" y="393372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1835280" y="4869000"/>
            <a:ext cx="72720" cy="7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2195640" y="5734080"/>
            <a:ext cx="72720" cy="73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4"/>
          <a:stretch/>
        </p:blipFill>
        <p:spPr>
          <a:xfrm>
            <a:off x="4640400" y="5808600"/>
            <a:ext cx="69840" cy="69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5508720" y="573408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539640" y="544500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7"/>
          <a:stretch/>
        </p:blipFill>
        <p:spPr>
          <a:xfrm>
            <a:off x="1763640" y="170028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8"/>
          <a:stretch/>
        </p:blipFill>
        <p:spPr>
          <a:xfrm>
            <a:off x="611280" y="191628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9"/>
          <a:stretch/>
        </p:blipFill>
        <p:spPr>
          <a:xfrm>
            <a:off x="900000" y="333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0"/>
          <a:stretch/>
        </p:blipFill>
        <p:spPr>
          <a:xfrm>
            <a:off x="826920" y="450864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1"/>
          <a:stretch/>
        </p:blipFill>
        <p:spPr>
          <a:xfrm>
            <a:off x="6877080" y="184464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2"/>
          <a:stretch/>
        </p:blipFill>
        <p:spPr>
          <a:xfrm>
            <a:off x="8388360" y="1628640"/>
            <a:ext cx="71280" cy="71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3"/>
          <a:stretch/>
        </p:blipFill>
        <p:spPr>
          <a:xfrm>
            <a:off x="8388360" y="299736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4"/>
          <a:stretch/>
        </p:blipFill>
        <p:spPr>
          <a:xfrm>
            <a:off x="3419640" y="148428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Nós</a:t>
            </a:r>
            <a:r>
              <a:rPr b="0" lang="pt-BR" sz="40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os sensíveis                                                                              somos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os...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mensageiros da eternidad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flipH="1" rot="426600">
            <a:off x="1692000" y="1483920"/>
            <a:ext cx="1295280" cy="1752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835280" y="4869000"/>
            <a:ext cx="72720" cy="72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96840" cy="96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580000" y="76500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500720" y="2133720"/>
            <a:ext cx="95040" cy="9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2843280" y="404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2556000" y="1773360"/>
            <a:ext cx="96840" cy="96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564000" y="981000"/>
            <a:ext cx="96840" cy="96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7740720" y="2060640"/>
            <a:ext cx="69840" cy="69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4859280" y="4508640"/>
            <a:ext cx="96840" cy="96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5796000" y="4869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2"/>
          <a:stretch/>
        </p:blipFill>
        <p:spPr>
          <a:xfrm>
            <a:off x="4716360" y="6237360"/>
            <a:ext cx="95400" cy="95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3"/>
          <a:stretch/>
        </p:blipFill>
        <p:spPr>
          <a:xfrm>
            <a:off x="3059280" y="448452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2771640" y="5853240"/>
            <a:ext cx="96840" cy="96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5"/>
          <a:stretch/>
        </p:blipFill>
        <p:spPr>
          <a:xfrm>
            <a:off x="3780000" y="5060880"/>
            <a:ext cx="96840" cy="96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6"/>
          <a:stretch/>
        </p:blipFill>
        <p:spPr>
          <a:xfrm>
            <a:off x="7956720" y="6164280"/>
            <a:ext cx="69840" cy="69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7"/>
          <a:stretch/>
        </p:blipFill>
        <p:spPr>
          <a:xfrm>
            <a:off x="0" y="251604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8"/>
          <a:stretch/>
        </p:blipFill>
        <p:spPr>
          <a:xfrm>
            <a:off x="3024360" y="2131920"/>
            <a:ext cx="96840" cy="96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9"/>
          <a:stretch/>
        </p:blipFill>
        <p:spPr>
          <a:xfrm>
            <a:off x="8172360" y="3284640"/>
            <a:ext cx="95400" cy="95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0"/>
          <a:stretch/>
        </p:blipFill>
        <p:spPr>
          <a:xfrm>
            <a:off x="1224000" y="213192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1"/>
          <a:stretch/>
        </p:blipFill>
        <p:spPr>
          <a:xfrm>
            <a:off x="936720" y="3500280"/>
            <a:ext cx="96840" cy="96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2"/>
          <a:stretch/>
        </p:blipFill>
        <p:spPr>
          <a:xfrm>
            <a:off x="1944720" y="2708280"/>
            <a:ext cx="96840" cy="96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3"/>
          <a:stretch/>
        </p:blipFill>
        <p:spPr>
          <a:xfrm>
            <a:off x="6950160" y="692280"/>
            <a:ext cx="96840" cy="96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4"/>
          <a:stretch/>
        </p:blipFill>
        <p:spPr>
          <a:xfrm>
            <a:off x="6807240" y="2421000"/>
            <a:ext cx="95040" cy="9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5"/>
          <a:stretch/>
        </p:blipFill>
        <p:spPr>
          <a:xfrm>
            <a:off x="10047240" y="2347920"/>
            <a:ext cx="69840" cy="69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6"/>
          <a:stretch/>
        </p:blipFill>
        <p:spPr>
          <a:xfrm>
            <a:off x="7885080" y="4869000"/>
            <a:ext cx="95400" cy="95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7"/>
          <a:stretch/>
        </p:blipFill>
        <p:spPr>
          <a:xfrm rot="426000">
            <a:off x="6084360" y="1412640"/>
            <a:ext cx="144000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55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55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1f4c4"/>
                </a:solidFill>
                <a:latin typeface="Bookman Old Style"/>
              </a:rPr>
              <a:t>Formatação:</a:t>
            </a:r>
            <a:br>
              <a:rPr sz="2000"/>
            </a:br>
            <a:r>
              <a:rPr b="0" lang="pt-BR" sz="1600" spc="-1" strike="noStrike">
                <a:solidFill>
                  <a:srgbClr val="f1f4c4"/>
                </a:solidFill>
                <a:latin typeface="Bookman Old Style"/>
              </a:rPr>
              <a:t>Tea Lótus</a:t>
            </a:r>
            <a:br>
              <a:rPr sz="1600"/>
            </a:br>
            <a:br>
              <a:rPr sz="1600"/>
            </a:br>
            <a:r>
              <a:rPr b="0" lang="pt-BR" sz="2000" spc="-1" strike="noStrike">
                <a:solidFill>
                  <a:srgbClr val="f1f4c4"/>
                </a:solidFill>
                <a:latin typeface="Bookman Old Style"/>
              </a:rPr>
              <a:t>Texto:</a:t>
            </a:r>
            <a:br>
              <a:rPr sz="2000"/>
            </a:br>
            <a:r>
              <a:rPr b="0" lang="pt-BR" sz="1600" spc="-1" strike="noStrike">
                <a:solidFill>
                  <a:srgbClr val="f1f4c4"/>
                </a:solidFill>
                <a:latin typeface="Bookman Old Style"/>
              </a:rPr>
              <a:t>André Aquino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f1f4c4"/>
                </a:solidFill>
                <a:latin typeface="Bookman Old Style"/>
              </a:rPr>
              <a:t>Música:</a:t>
            </a:r>
            <a:br>
              <a:rPr sz="1600"/>
            </a:br>
            <a:r>
              <a:rPr b="0" lang="pt-BR" sz="1600" spc="-1" strike="noStrike">
                <a:solidFill>
                  <a:srgbClr val="f1f4c4"/>
                </a:solidFill>
                <a:latin typeface="Bookman Old Style"/>
              </a:rPr>
              <a:t>“One man´s dream”</a:t>
            </a:r>
            <a:br>
              <a:rPr sz="1600"/>
            </a:br>
            <a:r>
              <a:rPr b="0" lang="pt-BR" sz="1600" spc="-1" strike="noStrike">
                <a:solidFill>
                  <a:srgbClr val="f1f4c4"/>
                </a:solidFill>
                <a:latin typeface="Bookman Old Style"/>
              </a:rPr>
              <a:t>- yanni -</a:t>
            </a: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1f4c4"/>
                </a:solidFill>
                <a:latin typeface="Bookman Old Style"/>
              </a:rPr>
              <a:t>tealotus3@yahoo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por aquelas pessoas que vivem                                                          presas a um</a:t>
            </a:r>
            <a:r>
              <a:rPr b="0" lang="pt-BR" sz="32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</a:t>
            </a:r>
            <a:r>
              <a:rPr b="1" lang="pt-BR" sz="4400" spc="-1" strike="noStrike">
                <a:solidFill>
                  <a:srgbClr val="ffffcc"/>
                </a:solidFill>
                <a:latin typeface="Bradley Hand ITC"/>
              </a:rPr>
              <a:t>mundo automático</a:t>
            </a:r>
            <a:r>
              <a:rPr b="1" lang="pt-BR" sz="3200" spc="-1" strike="noStrike">
                <a:solidFill>
                  <a:srgbClr val="b2b2b2"/>
                </a:solidFill>
                <a:latin typeface="Bradley Hand IT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flipH="1">
            <a:off x="684360" y="4292640"/>
            <a:ext cx="129672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flipH="1">
            <a:off x="1042560" y="4724280"/>
            <a:ext cx="129708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 flipH="1">
            <a:off x="1476000" y="5013360"/>
            <a:ext cx="129708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ós, os sentimentais,</a:t>
            </a:r>
            <a:br>
              <a:rPr sz="2800"/>
            </a:b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os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alquimistas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,</a:t>
            </a:r>
            <a:br>
              <a:rPr sz="3600"/>
            </a:br>
            <a:br>
              <a:rPr sz="24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os arrependidos pelos erro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,</a:t>
            </a:r>
            <a:br>
              <a:rPr sz="2800"/>
            </a:b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os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filhos amados</a:t>
            </a:r>
            <a:br>
              <a:rPr sz="4000"/>
            </a:b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que foram deixados pra trás                                                                 num desert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12000" y="5286240"/>
            <a:ext cx="125244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-0.66936 C 0.01163 -0.62404 0.02153 -0.58289 0.03854 -0.55607 C 0.03854 -0.55491 0.06562 -0.51884 0.06562 -0.52023 C 0.08056 -0.50011 0.08958 -0.47214 0.08958 -0.443 C 0.08958 -0.38427 0.05451 -0.3378 0.01059 -0.33641 C -0.03333 -0.3378 -0.0684 -0.38427 -0.0684 -0.443 C -0.0684 -0.47214 -0.05938 -0.50011 -0.04444 -0.52023 C -0.04444 -0.51884 -0.01736 -0.55491 -0.01736 -0.55607 C -0.00035 -0.58289 0.00955 -0.62404 0.01059 -0.66936 Z">
                                      <p:cBhvr>
                                        <p:cTn id="17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...os que têm fé inabalável,</a:t>
            </a:r>
            <a:br>
              <a:rPr sz="24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os sonhadores,</a:t>
            </a:r>
            <a:br>
              <a:rPr sz="2800"/>
            </a:b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Os loucos de amor</a:t>
            </a:r>
            <a:br>
              <a:rPr sz="3600"/>
            </a:b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muitas vezes já fomos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considerados a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ovelhas negra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da famíli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 flipH="1">
            <a:off x="250560" y="1916280"/>
            <a:ext cx="92556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 0.01065 -0.017 0.02131 -0.021 0.03463 C -0.025 0.04928 -0.027 0.06659 -0.029 0.0839 C -0.031 0.10122 -0.029 0.11587 -0.027 0.13185 C -0.025 0.1465 -0.022 0.16248 -0.015 0.1758 C -0.009 0.18911 0.001 0.19977 0.012 0.20776 C 0.022 0.21575 0.034 0.22108 0.046 0.22374 C 0.058 0.2264 0.07 0.2264 0.081 0.22374 C 0.093 0.22108 0.104 0.21442 0.113 0.20376 C 0.122 0.19444 0.13 0.18246 0.134 0.16781 C 0.139 0.15449 0.141 0.13584 0.141 0.12119 C 0.142 0.10654 0.141 0.08923 0.136 0.07458 C 0.131 0.06126 0.122 0.05061 0.11 0.04528 C 0.098 0.04129 0.086 0.04661 0.078 0.05594 C 0.071 0.06526 0.066 0.07991 0.065 0.09722 C 0.065 0.11453 0.066 0.13052 0.071 0.14383 C 0.076 0.15715 0.075 0.15982 0.095 0.17713 C 0.113 0.19577 0.131 0.19045 0.142 0.19178 C 0.153 0.19178 0.162 0.18645 0.173 0.18112 C 0.185 0.17446 0.195 0.16248 0.202 0.15182 C 0.209 0.14117 0.212 0.12785 0.216 0.10654 C 0.219 0.08523 0.219 0.07458 0.219 0.0586 C 0.219 0.04262 0.219 0.02664 0.219 0.01065 E">
                                      <p:cBhvr>
                                        <p:cTn id="19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743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mas os nosso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sentimentos profundos</a:t>
            </a:r>
            <a:br>
              <a:rPr sz="2800"/>
            </a:b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como o mar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nos transformaram</a:t>
            </a:r>
            <a:br>
              <a:rPr sz="28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 aos poucos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em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cordeiros mansos</a:t>
            </a:r>
            <a:br>
              <a:rPr sz="4000"/>
            </a:b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que pastam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felize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pelos campos verd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>
            <a:off x="3780000" y="450864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601 -0.55492 C -0.39497 -0.5096 -0.38507 -0.46844 -0.36806 -0.44162 C -0.36806 -0.44047 -0.34097 -0.4044 -0.34097 -0.40579 C -0.32604 -0.38567 -0.31701 -0.35769 -0.31701 -0.32856 C -0.31701 -0.26983 -0.35208 -0.22336 -0.39601 -0.22197 C -0.43993 -0.22336 -0.475 -0.26983 -0.475 -0.32856 C -0.475 -0.35769 -0.46597 -0.38567 -0.45104 -0.40579 C -0.45104 -0.4044 -0.42396 -0.44047 -0.42396 -0.44162 C -0.40694 -0.46844 -0.39705 -0.5096 -0.39601 -0.55492 Z">
                                      <p:cBhvr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Dentro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de nós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ardem</a:t>
            </a:r>
            <a:r>
              <a:rPr b="0" lang="pt-BR" sz="24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paixões interiores</a:t>
            </a:r>
            <a:br>
              <a:rPr sz="40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capazes de derreter qualquer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geleira.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76720" y="907920"/>
            <a:ext cx="1084320" cy="13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 0.01065 -0.017 0.02131 -0.021 0.03463 C -0.025 0.04928 -0.027 0.06659 -0.029 0.0839 C -0.031 0.10122 -0.029 0.11587 -0.027 0.13185 C -0.025 0.1465 -0.022 0.16248 -0.015 0.1758 C -0.009 0.18911 0.001 0.19977 0.012 0.20776 C 0.022 0.21575 0.034 0.22108 0.046 0.22374 C 0.058 0.2264 0.07 0.2264 0.081 0.22374 C 0.093 0.22108 0.104 0.21442 0.113 0.20376 C 0.122 0.19444 0.13 0.18246 0.134 0.16781 C 0.139 0.15449 0.141 0.13584 0.141 0.12119 C 0.142 0.10654 0.141 0.08923 0.136 0.07458 C 0.131 0.06126 0.122 0.05061 0.11 0.04528 C 0.098 0.04129 0.086 0.04661 0.078 0.05594 C 0.071 0.06526 0.066 0.07991 0.065 0.09722 C 0.065 0.11453 0.066 0.13052 0.071 0.14383 C 0.076 0.15715 0.075 0.15982 0.095 0.17713 C 0.113 0.19577 0.131 0.19045 0.142 0.19178 C 0.153 0.19178 0.162 0.18645 0.173 0.18112 C 0.185 0.17446 0.195 0.16248 0.202 0.15182 C 0.209 0.14117 0.212 0.12785 0.216 0.10654 C 0.219 0.08523 0.219 0.07458 0.219 0.0586 C 0.219 0.04262 0.219 0.02664 0.219 0.01065 E">
                                      <p:cBhvr>
                                        <p:cTn id="2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06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ó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já morremos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incontáveis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 vezes...</a:t>
            </a:r>
            <a:br>
              <a:rPr sz="24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já renascemos outras tantas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mais fortes,</a:t>
            </a:r>
            <a:r>
              <a:rPr b="0" lang="pt-BR" sz="28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                                                 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mais determinados</a:t>
            </a:r>
            <a:r>
              <a:rPr b="0" lang="pt-BR" sz="3600" spc="-1" strike="noStrike">
                <a:solidFill>
                  <a:srgbClr val="ffffcc"/>
                </a:solidFill>
                <a:latin typeface="Bradley Hand ITC"/>
              </a:rPr>
              <a:t>                                                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em encontrar a nossa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 felicidad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flipH="1">
            <a:off x="1763640" y="981000"/>
            <a:ext cx="8892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38 0.00069 C 0.36737 0.01133 0.37639 0.02196 0.38039 0.03537 C 0.38438 0.04994 0.38646 0.06728 0.38837 0.08462 C 0.39046 0.10196 0.38837 0.11653 0.38646 0.13248 C 0.38438 0.14728 0.38143 0.16323 0.37431 0.17641 C 0.36841 0.18982 0.35834 0.20046 0.3474 0.20855 C 0.33733 0.21641 0.32535 0.22173 0.31337 0.22451 C 0.30139 0.22705 0.28941 0.22705 0.2783 0.22451 C 0.26632 0.22173 0.25539 0.21503 0.24636 0.20439 C 0.23733 0.19514 0.22934 0.18312 0.22535 0.16855 C 0.22032 0.15514 0.21841 0.13664 0.21841 0.12185 C 0.21737 0.10728 0.21841 0.08994 0.22344 0.07537 C 0.2283 0.06196 0.23733 0.05133 0.24931 0.04601 C 0.26146 0.04208 0.27344 0.0474 0.28143 0.05664 C 0.28837 0.06589 0.29341 0.08069 0.29445 0.0978 C 0.29445 0.11514 0.29341 0.1311 0.28837 0.14451 C 0.28334 0.15792 0.28438 0.16046 0.26441 0.1778 C 0.24636 0.19653 0.2283 0.19121 0.21737 0.19237 C 0.20643 0.19237 0.1974 0.18705 0.18646 0.18173 C 0.17431 0.17526 0.16441 0.16323 0.1573 0.1526 C 0.15035 0.14196 0.1474 0.12855 0.14341 0.10728 C 0.14046 0.08601 0.14046 0.07537 0.14046 0.05919 C 0.14046 0.04323 0.14046 0.02728 0.14046 0.01133 E">
                                      <p:cBhvr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6 0.037 0.06526 0.055 0.07858 C 0.082 0.09988 0.108 0.10788 0.113 0.09722 C 0.117 0.08657 0.099 0.05993 0.072 0.03862 C 0.054 0.0253 0.021 0.01598 -0.008 0.01465 C -0.036 0.01598 -0.07 0.0253 -0.088 0.03862 C -0.115 0.05993 -0.133 0.08657 -0.128 0.09722 C -0.123 0.10788 -0.097 0.09988 -0.071 0.07858 C -0.053 0.06526 -0.03 0.03196 -0.016 0 C -0.001 -0.03329 0.009 -0.07724 0.009 -0.10521 C 0.009 -0.14783 0.002 -0.18112 -0.008 -0.18112 C -0.017 -0.18112 -0.025 -0.14783 -0.025 -0.10521 C -0.025 -0.07724 -0.014 -0.03329 0 0 Z">
                                      <p:cBhvr>
                                        <p:cTn id="23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Nós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,</a:t>
            </a:r>
            <a:r>
              <a:rPr b="0" lang="pt-BR" sz="32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os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sensíveis</a:t>
            </a:r>
            <a:r>
              <a:rPr b="0" lang="pt-BR" sz="32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somos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      </a:t>
            </a:r>
            <a:r>
              <a:rPr b="0" lang="pt-BR" sz="3200" spc="-1" strike="noStrike">
                <a:solidFill>
                  <a:srgbClr val="ffffcc"/>
                </a:solidFill>
                <a:latin typeface="Bradley Hand ITC"/>
              </a:rPr>
              <a:t>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invencíveis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Bradley Hand ITC"/>
              </a:rPr>
              <a:t>pelas</a:t>
            </a:r>
            <a:r>
              <a:rPr b="1" lang="pt-BR" sz="36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lágrimas</a:t>
            </a:r>
            <a:r>
              <a:rPr b="0" lang="pt-BR" sz="32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e...</a:t>
            </a:r>
            <a:r>
              <a:rPr b="0" lang="pt-BR" sz="3200" spc="-1" strike="noStrike">
                <a:solidFill>
                  <a:srgbClr val="ffffcc"/>
                </a:solidFill>
                <a:latin typeface="Bradley Hand ITC"/>
              </a:rPr>
              <a:t>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Bradley Hand ITC"/>
              </a:rPr>
              <a:t>...imbatíveis</a:t>
            </a:r>
            <a:r>
              <a:rPr b="0" lang="pt-BR" sz="32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Bradley Hand ITC"/>
              </a:rPr>
              <a:t>pelo</a:t>
            </a:r>
            <a:r>
              <a:rPr b="0" lang="pt-BR" sz="3200" spc="-1" strike="noStrike">
                <a:solidFill>
                  <a:srgbClr val="ffffcc"/>
                </a:solidFill>
                <a:latin typeface="Bradley Hand ITC"/>
              </a:rPr>
              <a:t> </a:t>
            </a:r>
            <a:r>
              <a:rPr b="1" lang="pt-BR" sz="4000" spc="-1" strike="noStrike">
                <a:solidFill>
                  <a:srgbClr val="ffffcc"/>
                </a:solidFill>
                <a:latin typeface="Bradley Hand ITC"/>
              </a:rPr>
              <a:t>sorriso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 flipH="1">
            <a:off x="6732360" y="1197000"/>
            <a:ext cx="136836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396 -0.03191 L -0.40104 -0.12902 L -0.29688 -0.12902 L -0.22396 -0.03191 L -0.22396 0.10659 L -0.29688 0.20393 L -0.40104 0.20393 L -0.47396 0.10659 L -0.47396 -0.03191 Z">
                                      <p:cBhvr>
                                        <p:cTn id="24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4:55:38Z</dcterms:created>
  <dc:creator>Michael EKIM Mc Farland</dc:creator>
  <dc:description/>
  <dc:language>en-US</dc:language>
  <cp:lastModifiedBy>User</cp:lastModifiedBy>
  <dcterms:modified xsi:type="dcterms:W3CDTF">2007-12-19T20:47:19Z</dcterms:modified>
  <cp:revision>34</cp:revision>
  <dc:subject/>
  <dc:title>Diapositive 1</dc:title>
</cp:coreProperties>
</file>